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2270-E159-4C75-8A53-D9278464D2F5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8FE8-6D7D-4FF3-B75F-DB7344CB3F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A82A-D9D2-4F42-99ED-B1A0D369E7F3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7763-4144-4613-8805-362D062BC2A2}" type="datetime">
              <a:rPr b="0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A475-93C1-47EB-82B9-B85F07C7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C66B-1D50-454A-BBAA-27E304AB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21A8-B8BF-4B38-B0E8-A0810BB9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C44C-DD49-4DBB-BBF1-30BF0B6D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B65C-78DE-4EE8-9852-98DDD70A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6033-9705-441F-8E69-5B8665DC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EE28-F3E3-4672-BD29-D73A369F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28AA-64F8-47DC-A9D3-CB39F6FD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2002-70C5-48EA-9083-2918DB00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1CDF-A7B8-4058-97A3-67484DB4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EF7A-A08B-4BEF-85F8-BD00CFE2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A3B74-674D-4C80-8409-986F3FA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676A-7A56-43FF-A78E-9D3716BE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D954-FD3D-455B-8FBE-5914FEE0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EF3A-1BA3-4E52-A359-0FF42C35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3917-ECF9-4A61-B016-EBBF668D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0957-A661-46C6-8FAD-6DAA2A60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FA58-BAB7-46E7-AE39-868E46B5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72D6-C76E-4A1E-908D-55A8BE1C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9F308-149F-4C00-A476-A9BA7848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4EDA-9BE2-46BE-8DC8-69177CD1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300A-76F2-40C4-AA16-A379D99E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F0DA-16FC-4C99-ADAB-D94475E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DDF5-1D5E-4E40-9502-6ADE74E7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7922-0CC9-458D-9C06-195772431D13}" type="slidenum">
              <a:rPr b="0" lang="fr-FR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41F0-9904-4859-88B5-5EAD3D65D395}" type="datetime">
              <a:rPr b="0" lang="fr-FR" sz="1200" spc="-1" strike="noStrike">
                <a:solidFill>
                  <a:srgbClr val="1c1c34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D182-918A-4441-A57C-BE0E548215AB}" type="datetime">
              <a:rPr b="0" lang="fr-FR" sz="1200" spc="-1" strike="noStrike">
                <a:solidFill>
                  <a:srgbClr val="1c1c34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06A9-18D1-4BCF-AE40-52ECB8385FC3}" type="slidenum">
              <a:rPr b="0" lang="fr-FR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471C-4FBB-4AA4-ADBB-CEB95B5C3F7B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924360" y="282600"/>
            <a:ext cx="39225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600" spc="-1" strike="noStrike" u="sng">
                <a:solidFill>
                  <a:srgbClr val="f66740"/>
                </a:solidFill>
                <a:uFillTx/>
                <a:latin typeface="Arial"/>
                <a:cs typeface="Arial"/>
              </a:rPr>
              <a:t>الإعــلام الآلـــــــ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WordArt 6" descr=""/>
          <p:cNvPicPr/>
          <p:nvPr/>
        </p:nvPicPr>
        <p:blipFill>
          <a:blip r:embed="rId1"/>
          <a:stretch/>
        </p:blipFill>
        <p:spPr>
          <a:xfrm>
            <a:off x="1006560" y="2627280"/>
            <a:ext cx="8034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52F3-3F63-4C10-854C-EB1FB50E9AE0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900" spc="-1" strike="noStrike" u="sng">
                <a:solidFill>
                  <a:srgbClr val="1c1c34"/>
                </a:solidFill>
                <a:uFillTx/>
                <a:latin typeface="Arial"/>
              </a:rPr>
              <a:t>ادراج الدوال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38656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لإدراج دالة نتبع الخطوات التالية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حدد الخلية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 algn="ctr" rtl="1"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نقر على القائمة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99cc"/>
                </a:solidFill>
                <a:latin typeface="Arial"/>
              </a:rPr>
              <a:t>Insertion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ختار الأمر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6699cc"/>
                </a:solidFill>
                <a:latin typeface="Arial"/>
              </a:rPr>
              <a:t>Fonction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5249880" y="2371680"/>
          <a:ext cx="34354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9880" y="2371680"/>
                    <a:ext cx="34354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C503-B101-40D9-9DD7-8F8E87E5DBC1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fr-FR" sz="3500" spc="-1" strike="noStrike">
                <a:solidFill>
                  <a:srgbClr val="1c1c34"/>
                </a:solidFill>
                <a:latin typeface="Arial"/>
              </a:rPr>
              <a:t>.</a:t>
            </a:r>
            <a:br>
              <a:rPr sz="3500"/>
            </a:b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2952720" cy="34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ختار نوع الدالة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نقر على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OK</a:t>
            </a: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5249880" y="1981080"/>
            <a:ext cx="3436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539640" y="1125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000" spc="-1" strike="noStrike">
                <a:solidFill>
                  <a:srgbClr val="1c1c34"/>
                </a:solidFill>
                <a:latin typeface="Times New Roman"/>
                <a:cs typeface="Times New Roman"/>
              </a:rPr>
              <a:t>نتحصل على علبة الحوار الت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3924360" y="3213000"/>
            <a:ext cx="1152360" cy="720720"/>
          </a:xfrm>
          <a:prstGeom prst="line">
            <a:avLst/>
          </a:prstGeom>
          <a:ln w="57240">
            <a:solidFill>
              <a:srgbClr val="66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4067280" y="5229360"/>
            <a:ext cx="3241440" cy="647640"/>
          </a:xfrm>
          <a:prstGeom prst="line">
            <a:avLst/>
          </a:prstGeom>
          <a:ln w="57240">
            <a:solidFill>
              <a:srgbClr val="66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598D-8D44-4602-855C-7F440616FEE4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782280"/>
            <a:ext cx="701028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500" spc="-1" strike="noStrike">
                <a:solidFill>
                  <a:srgbClr val="1c1c34"/>
                </a:solidFill>
                <a:latin typeface="Arial"/>
              </a:rPr>
              <a:t>تظهر علبة حوار ثانية</a:t>
            </a: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997360"/>
            <a:ext cx="38102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مجموعة الخلايا المعنية  تظهر هنا.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نقر على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OK</a:t>
            </a: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5249880" y="2300400"/>
            <a:ext cx="3436920" cy="3671640"/>
          </a:xfrm>
          <a:prstGeom prst="rect">
            <a:avLst/>
          </a:prstGeom>
          <a:ln w="0">
            <a:noFill/>
          </a:ln>
        </p:spPr>
      </p:pic>
      <p:sp>
        <p:nvSpPr>
          <p:cNvPr id="203" name="Line 5"/>
          <p:cNvSpPr/>
          <p:nvPr/>
        </p:nvSpPr>
        <p:spPr>
          <a:xfrm flipV="1">
            <a:off x="4140360" y="3141360"/>
            <a:ext cx="2160360" cy="431640"/>
          </a:xfrm>
          <a:prstGeom prst="line">
            <a:avLst/>
          </a:prstGeom>
          <a:ln w="57240">
            <a:solidFill>
              <a:srgbClr val="66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763F-823D-419F-8A0D-2ADD70C3556D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1c1c34"/>
                </a:solidFill>
                <a:latin typeface="Arial"/>
              </a:rPr>
              <a:t>تظهر النتيجة التالية</a:t>
            </a:r>
            <a:r>
              <a:rPr b="0" lang="fr-FR" sz="39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3068280"/>
            <a:ext cx="381024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نقر و نسحب لتعميم النتيجة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249880" y="1981080"/>
            <a:ext cx="3436920" cy="4114800"/>
          </a:xfrm>
          <a:prstGeom prst="rect">
            <a:avLst/>
          </a:prstGeom>
          <a:ln w="0">
            <a:noFill/>
          </a:ln>
        </p:spPr>
      </p:pic>
      <p:sp>
        <p:nvSpPr>
          <p:cNvPr id="208" name="Line 5"/>
          <p:cNvSpPr/>
          <p:nvPr/>
        </p:nvSpPr>
        <p:spPr>
          <a:xfrm flipV="1">
            <a:off x="8172360" y="3789000"/>
            <a:ext cx="71640" cy="576360"/>
          </a:xfrm>
          <a:prstGeom prst="line">
            <a:avLst/>
          </a:prstGeom>
          <a:ln w="57240">
            <a:solidFill>
              <a:srgbClr val="c606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966-9319-47ED-B225-F96D3DB30E8B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excel"/>
          <p:cNvPicPr/>
          <p:nvPr/>
        </p:nvPicPr>
        <p:blipFill>
          <a:blip r:embed="rId1"/>
          <a:stretch/>
        </p:blipFill>
        <p:spPr>
          <a:xfrm>
            <a:off x="971640" y="1628640"/>
            <a:ext cx="5400720" cy="4537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6407280" y="2997360"/>
            <a:ext cx="273672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Arial"/>
              </a:rPr>
              <a:t>Démar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Arial"/>
              </a:rPr>
              <a:t>Tous les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  <a:ea typeface="Arial"/>
              </a:rPr>
              <a:t>Microsof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979640" y="76500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1c1c34"/>
                </a:solidFill>
                <a:uFillTx/>
                <a:latin typeface="Tahoma"/>
                <a:ea typeface="Arial"/>
              </a:rPr>
              <a:t>Microsoft Excel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DZ" sz="3200" spc="-1" strike="noStrike" u="sng">
                <a:solidFill>
                  <a:srgbClr val="1c1c34"/>
                </a:solidFill>
                <a:uFillTx/>
                <a:latin typeface="Tahoma"/>
                <a:cs typeface="Arial"/>
              </a:rPr>
              <a:t>تشغيل</a:t>
            </a:r>
            <a:r>
              <a:rPr b="1" lang="ar-DZ" sz="3200" spc="-1" strike="noStrike" u="sng">
                <a:solidFill>
                  <a:srgbClr val="ffffcc"/>
                </a:solidFill>
                <a:uFillTx/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250920" y="1197000"/>
            <a:ext cx="431640" cy="433440"/>
          </a:xfrm>
          <a:prstGeom prst="wedgeEllipseCallout">
            <a:avLst>
              <a:gd name="adj1" fmla="val 724263"/>
              <a:gd name="adj2" fmla="val 98351"/>
            </a:avLst>
          </a:prstGeom>
          <a:noFill/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c1c34"/>
                </a:solidFill>
                <a:latin typeface="Tahoma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179280" y="4653000"/>
            <a:ext cx="432000" cy="358560"/>
          </a:xfrm>
          <a:prstGeom prst="wedgeEllipseCallout">
            <a:avLst>
              <a:gd name="adj1" fmla="val 290810"/>
              <a:gd name="adj2" fmla="val 120796"/>
            </a:avLst>
          </a:prstGeom>
          <a:noFill/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c1c34"/>
                </a:solidFill>
                <a:latin typeface="Tahoma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 flipV="1">
            <a:off x="179280" y="5515920"/>
            <a:ext cx="358920" cy="360360"/>
          </a:xfrm>
          <a:prstGeom prst="wedgeEllipseCallout">
            <a:avLst>
              <a:gd name="adj1" fmla="val 386282"/>
              <a:gd name="adj2" fmla="val -87004"/>
            </a:avLst>
          </a:prstGeom>
          <a:noFill/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c1c34"/>
                </a:solidFill>
                <a:latin typeface="Tahoma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78B6-E4EA-4C0A-9332-0C407AAC1E39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8" descr="excel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 flipH="1" flipV="1">
            <a:off x="899640" y="2349000"/>
            <a:ext cx="142920" cy="79236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68360" y="3141720"/>
            <a:ext cx="136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لية نشطة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1116000" y="5734080"/>
            <a:ext cx="792000" cy="59040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476360" y="551664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م الور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4710240" y="2254320"/>
            <a:ext cx="582480" cy="139068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370480" y="2309760"/>
            <a:ext cx="65160" cy="126360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651640" y="2309760"/>
            <a:ext cx="527040" cy="133524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003640" y="3645000"/>
            <a:ext cx="11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م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539640" y="4149720"/>
            <a:ext cx="1079640" cy="50328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531720" y="4723920"/>
            <a:ext cx="1087560" cy="4788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547640" y="4508640"/>
            <a:ext cx="8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فو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1187280" y="40464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يط العنو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 flipH="1">
            <a:off x="971640" y="765000"/>
            <a:ext cx="287280" cy="43344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957400" y="76500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يط القوائ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2339640" y="1052640"/>
            <a:ext cx="647640" cy="43164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6372360" y="2565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شرطة الأدو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 flipH="1" flipV="1">
            <a:off x="6659640" y="1699920"/>
            <a:ext cx="1008000" cy="86508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3"/>
          <p:cNvSpPr/>
          <p:nvPr/>
        </p:nvSpPr>
        <p:spPr>
          <a:xfrm>
            <a:off x="6516720" y="1557360"/>
            <a:ext cx="71280" cy="360360"/>
          </a:xfrm>
          <a:custGeom>
            <a:avLst/>
            <a:gdLst>
              <a:gd name="textAreaLeft" fmla="*/ 0 w 71280"/>
              <a:gd name="textAreaRight" fmla="*/ 25560 w 71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4572000" y="47628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200" spc="-1" strike="noStrike" u="sng">
                <a:solidFill>
                  <a:srgbClr val="1c1c34"/>
                </a:solidFill>
                <a:uFillTx/>
                <a:latin typeface="Times New Roman"/>
                <a:cs typeface="Times New Roman"/>
              </a:rPr>
              <a:t>تقديم إطار</a:t>
            </a:r>
            <a:r>
              <a:rPr b="1" lang="fr-FR" sz="3200" spc="-1" strike="noStrike" u="sng">
                <a:solidFill>
                  <a:srgbClr val="1c1c34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fr-FR" sz="3200" spc="-1" strike="noStrike" u="sng">
                <a:solidFill>
                  <a:srgbClr val="1c1c34"/>
                </a:solidFill>
                <a:uFillTx/>
                <a:latin typeface="Times New Roman"/>
                <a:ea typeface="Times New Roman"/>
              </a:rPr>
              <a:t>Microsoft Excel</a:t>
            </a:r>
            <a:r>
              <a:rPr b="1" lang="ar-DZ" sz="3200" spc="-1" strike="noStrike" u="sng">
                <a:solidFill>
                  <a:srgbClr val="1c1c34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268360" y="2895480"/>
            <a:ext cx="153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يط الصيغ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0"/>
          <p:cNvSpPr/>
          <p:nvPr/>
        </p:nvSpPr>
        <p:spPr>
          <a:xfrm flipH="1" flipV="1">
            <a:off x="1855800" y="2030040"/>
            <a:ext cx="1008000" cy="865080"/>
          </a:xfrm>
          <a:prstGeom prst="line">
            <a:avLst/>
          </a:prstGeom>
          <a:ln w="57240">
            <a:solidFill>
              <a:srgbClr val="f667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e la date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F1E3-061E-4058-84D6-BAEF225A7C48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1f0fe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1f0fef"/>
                </a:solidFill>
                <a:latin typeface="Arial"/>
                <a:ea typeface="Arial"/>
              </a:rPr>
              <a:t>     </a:t>
            </a: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شريط العنوان</a:t>
            </a:r>
            <a:r>
              <a:rPr b="1" lang="fr-FR" sz="2800" spc="-1" strike="noStrike">
                <a:solidFill>
                  <a:srgbClr val="1f0fef"/>
                </a:solidFill>
                <a:latin typeface="Arial"/>
                <a:ea typeface="Arial"/>
              </a:rPr>
              <a:t>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يكون بهذا الشريط اسم البرنامج مايكروسوفت اكس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ل متبوعا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1c1c34"/>
                </a:solidFill>
                <a:latin typeface="Arial"/>
                <a:ea typeface="Arial"/>
              </a:rPr>
              <a:t>    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باسم الملف ويكون امتداد ملف الاكس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ل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XLS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br>
              <a:rPr sz="2400"/>
            </a:br>
            <a:br>
              <a:rPr sz="1000"/>
            </a:b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شريط القوائم</a:t>
            </a:r>
            <a:r>
              <a:rPr b="1" lang="fr-FR" sz="2800" spc="-1" strike="noStrike">
                <a:solidFill>
                  <a:srgbClr val="1f0fef"/>
                </a:solidFill>
                <a:latin typeface="Arial"/>
                <a:ea typeface="Arial"/>
              </a:rPr>
              <a:t> 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تعرض القائمة لائحة الأوامر وهناك بعض الاختصارات للأوامر من لوحة المفاتيح أو من شريط الأدوات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br>
              <a:rPr sz="2400"/>
            </a:br>
            <a:br>
              <a:rPr sz="1000"/>
            </a:b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شريط الأدوات</a:t>
            </a:r>
            <a:r>
              <a:rPr b="1" lang="fr-FR" sz="2800" spc="-1" strike="noStrike">
                <a:solidFill>
                  <a:srgbClr val="1f0fef"/>
                </a:solidFill>
                <a:latin typeface="Arial"/>
                <a:ea typeface="Arial"/>
              </a:rPr>
              <a:t> 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عبارة عن خليط بين أزرار وقوائم لتسهيل التعامل مع البرنامج يمكن تغيير حجم شريط الأدوات لعرض أزرار إضافية , كما يمكنك إظهار كافة الأزرار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br>
              <a:rPr sz="2400"/>
            </a:br>
            <a:br>
              <a:rPr sz="1000"/>
            </a:b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شريط الصيغة</a:t>
            </a:r>
            <a:r>
              <a:rPr b="1" lang="fr-FR" sz="2400" spc="-1" strike="noStrike">
                <a:solidFill>
                  <a:srgbClr val="1f0fef"/>
                </a:solidFill>
                <a:latin typeface="Arial"/>
                <a:ea typeface="Arial"/>
              </a:rPr>
              <a:t>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وهو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أهم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شريط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في اكسال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تظهر فيه المعادلات أو الدوال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br>
              <a:rPr sz="2400"/>
            </a:br>
            <a:br>
              <a:rPr sz="1000"/>
            </a:b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ورقة العمل</a:t>
            </a:r>
            <a:r>
              <a:rPr b="1" lang="fr-FR" sz="2400" spc="-1" strike="noStrike">
                <a:solidFill>
                  <a:srgbClr val="1f0fef"/>
                </a:solidFill>
                <a:latin typeface="Arial"/>
                <a:ea typeface="Arial"/>
              </a:rPr>
              <a:t> 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وكل 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cs typeface="Arial"/>
              </a:rPr>
              <a:t>ملف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في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إكس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ل يشتمل على 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ea typeface="Arial"/>
              </a:rPr>
              <a:t>3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ea typeface="Arial"/>
              </a:rPr>
              <a:t> ورقات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افتراضية يمكن زيادة عدد الورقات وكل 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cs typeface="Arial"/>
              </a:rPr>
              <a:t>ورقة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مكونة من عدد من 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cs typeface="Arial"/>
              </a:rPr>
              <a:t>الأعمدة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تبدأ بحرف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c3461f"/>
                </a:solidFill>
                <a:latin typeface="Arial"/>
                <a:ea typeface="Arial"/>
              </a:rPr>
              <a:t>A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cs typeface="Arial"/>
              </a:rPr>
              <a:t>و ع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دد من </a:t>
            </a:r>
            <a:r>
              <a:rPr b="1" lang="ar-SA" sz="2400" spc="-1" strike="noStrike">
                <a:solidFill>
                  <a:srgbClr val="c3461f"/>
                </a:solidFill>
                <a:latin typeface="Arial"/>
                <a:cs typeface="Arial"/>
              </a:rPr>
              <a:t>الصفوف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ea typeface="Arial"/>
              </a:rPr>
              <a:t> تبدأ من الصف رقم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ea typeface="Arial"/>
              </a:rPr>
              <a:t>1</a:t>
            </a:r>
            <a:r>
              <a:rPr b="1" lang="ar-DZ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016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1f0fef"/>
                </a:solidFill>
                <a:latin typeface="Arial"/>
                <a:ea typeface="Arial"/>
              </a:rPr>
              <a:t>     </a:t>
            </a: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الخلية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: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تقاطع أي عمود مع أي صف في ورقة العمل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br>
              <a:rPr sz="2400"/>
            </a:br>
            <a:br>
              <a:rPr sz="1000"/>
            </a:br>
            <a:r>
              <a:rPr b="1" lang="ar-DZ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ا</a:t>
            </a:r>
            <a:r>
              <a:rPr b="1" lang="ar-SA" sz="2800" spc="-1" strike="noStrike" u="sng">
                <a:solidFill>
                  <a:srgbClr val="1f0fef"/>
                </a:solidFill>
                <a:uFillTx/>
                <a:latin typeface="Arial"/>
                <a:cs typeface="Arial"/>
              </a:rPr>
              <a:t>لخلية النشطة</a:t>
            </a:r>
            <a:r>
              <a:rPr b="1" lang="fr-FR" sz="2400" spc="-1" strike="noStrike">
                <a:solidFill>
                  <a:srgbClr val="1f0fef"/>
                </a:solidFill>
                <a:latin typeface="Arial"/>
                <a:ea typeface="Arial"/>
              </a:rPr>
              <a:t> :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1c1c34"/>
                </a:solidFill>
                <a:latin typeface="Arial"/>
                <a:cs typeface="Arial"/>
              </a:rPr>
              <a:t>هي الخلية التي يحيط بها إطار ويظهر عنوانها في شريط الصيغة</a:t>
            </a:r>
            <a:r>
              <a:rPr b="1" lang="fr-FR" sz="2400" spc="-1" strike="noStrike">
                <a:solidFill>
                  <a:srgbClr val="1c1c34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BCE5-4C1F-4966-873E-9135BE00F37D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12960" y="56052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 u="sng">
                <a:solidFill>
                  <a:srgbClr val="1c1c34"/>
                </a:solidFill>
                <a:uFillTx/>
                <a:latin typeface="Arial"/>
              </a:rPr>
              <a:t>حفظ مصنف</a:t>
            </a:r>
            <a:endParaRPr b="0" lang="en-US" sz="2600" spc="-1" strike="noStrike">
              <a:solidFill>
                <a:srgbClr val="1c1c34"/>
              </a:solidFill>
              <a:latin typeface="Arial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5364000" y="2421000"/>
          <a:ext cx="35290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421000"/>
                    <a:ext cx="35290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755640" y="2421000"/>
          <a:ext cx="38098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421000"/>
                    <a:ext cx="38098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5"/>
          <p:cNvSpPr/>
          <p:nvPr/>
        </p:nvSpPr>
        <p:spPr>
          <a:xfrm flipH="1">
            <a:off x="4500720" y="3860640"/>
            <a:ext cx="792000" cy="0"/>
          </a:xfrm>
          <a:prstGeom prst="line">
            <a:avLst/>
          </a:prstGeom>
          <a:ln w="76320">
            <a:solidFill>
              <a:srgbClr val="66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6C7D-0380-4CF4-AAF0-D7DB3EF876FD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900" spc="-1" strike="noStrike" u="sng">
                <a:solidFill>
                  <a:srgbClr val="1c1c34"/>
                </a:solidFill>
                <a:uFillTx/>
                <a:latin typeface="Arial"/>
              </a:rPr>
              <a:t>ادراج النص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graphicFrame>
        <p:nvGraphicFramePr>
          <p:cNvPr id="165" name="Object 3"/>
          <p:cNvGraphicFramePr/>
          <p:nvPr/>
        </p:nvGraphicFramePr>
        <p:xfrm>
          <a:off x="4140360" y="3884760"/>
          <a:ext cx="3846240" cy="22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3884760"/>
                    <a:ext cx="3846240" cy="22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250920" y="328464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إدراج نص أو عنوان داخل ورقة حساب نستعمل منطقة نص الموجودة في شريط الرسم</a:t>
            </a:r>
            <a:r>
              <a:rPr b="0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4356000" y="2371680"/>
          <a:ext cx="37386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371680"/>
                    <a:ext cx="3738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9"/>
          <p:cNvSpPr/>
          <p:nvPr/>
        </p:nvSpPr>
        <p:spPr>
          <a:xfrm flipV="1">
            <a:off x="3059280" y="3141360"/>
            <a:ext cx="2520720" cy="718920"/>
          </a:xfrm>
          <a:prstGeom prst="line">
            <a:avLst/>
          </a:prstGeom>
          <a:ln w="57240">
            <a:solidFill>
              <a:srgbClr val="66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e la dat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B168-AF1B-4CCC-ABD7-EA7CE07537A1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900" spc="-1" strike="noStrike" u="sng">
                <a:solidFill>
                  <a:srgbClr val="1c1c34"/>
                </a:solidFill>
                <a:uFillTx/>
                <a:latin typeface="Arial"/>
              </a:rPr>
              <a:t>ادخال المعطيات</a:t>
            </a:r>
            <a:r>
              <a:rPr b="0" lang="ar-DZ" sz="39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09480" y="1981080"/>
            <a:ext cx="7010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إمكاننا ادخال المعطيات صفا بصف أو عمود بعم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ثال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لاحظة</a:t>
            </a:r>
            <a:r>
              <a:rPr b="0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الأعداد تكون دائما محاذاة الى اليس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5049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e la date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3FED-B11A-4535-B048-DA4D463BF997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3500" spc="-1" strike="noStrike" u="sng">
                <a:solidFill>
                  <a:srgbClr val="1c1c34"/>
                </a:solidFill>
                <a:uFillTx/>
                <a:latin typeface="Arial"/>
              </a:rPr>
              <a:t>ادخال الصيغ الحسابية</a:t>
            </a:r>
            <a:r>
              <a:rPr b="1" lang="fr-FR" sz="3500" spc="-1" strike="noStrike" u="sng">
                <a:solidFill>
                  <a:srgbClr val="1c1c34"/>
                </a:solidFill>
                <a:uFillTx/>
                <a:latin typeface="Arial"/>
              </a:rPr>
              <a:t> </a:t>
            </a: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499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000" spc="-1" strike="noStrike">
                <a:solidFill>
                  <a:srgbClr val="1c1c34"/>
                </a:solidFill>
                <a:latin typeface="Arial"/>
              </a:rPr>
              <a:t>تحديد الخلية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000" spc="-1" strike="noStrike">
                <a:solidFill>
                  <a:srgbClr val="1c1c34"/>
                </a:solidFill>
                <a:latin typeface="Arial"/>
              </a:rPr>
              <a:t>كتابة الصيغة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000" spc="-1" strike="noStrike">
                <a:solidFill>
                  <a:srgbClr val="1c1c34"/>
                </a:solidFill>
                <a:latin typeface="Arial"/>
              </a:rPr>
              <a:t>مثال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1" marL="1028880" indent="-457200" algn="r" rtl="1">
              <a:spcBef>
                <a:spcPts val="726"/>
              </a:spcBef>
              <a:buClr>
                <a:srgbClr val="dddddd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أكتب    </a:t>
            </a:r>
            <a:r>
              <a:rPr b="1" lang="ar-DZ" sz="2900" spc="-1" strike="noStrike">
                <a:solidFill>
                  <a:srgbClr val="c60626"/>
                </a:solidFill>
                <a:latin typeface="Arial"/>
              </a:rPr>
              <a:t>=</a:t>
            </a:r>
            <a:endParaRPr b="0" lang="en-US" sz="2900" spc="-1" strike="noStrike">
              <a:solidFill>
                <a:srgbClr val="1c1c34"/>
              </a:solidFill>
              <a:latin typeface="Arial"/>
            </a:endParaRPr>
          </a:p>
          <a:p>
            <a:pPr lvl="1" marL="1028880" indent="-457200" algn="r" rtl="1">
              <a:spcBef>
                <a:spcPts val="524"/>
              </a:spcBef>
              <a:buClr>
                <a:srgbClr val="dddddd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أنقر على الخلية الأولى</a:t>
            </a:r>
            <a:endParaRPr b="0" lang="en-US" sz="2100" spc="-1" strike="noStrike">
              <a:solidFill>
                <a:srgbClr val="1c1c34"/>
              </a:solidFill>
              <a:latin typeface="Arial"/>
            </a:endParaRPr>
          </a:p>
          <a:p>
            <a:pPr lvl="1" marL="1028880" indent="-457200" algn="r" rtl="1">
              <a:spcBef>
                <a:spcPts val="726"/>
              </a:spcBef>
              <a:buClr>
                <a:srgbClr val="dddddd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أكتب رمز العملية   </a:t>
            </a:r>
            <a:r>
              <a:rPr b="1" lang="ar-DZ" sz="2900" spc="-1" strike="noStrike">
                <a:solidFill>
                  <a:srgbClr val="c60626"/>
                </a:solidFill>
                <a:latin typeface="Arial"/>
              </a:rPr>
              <a:t>+</a:t>
            </a:r>
            <a:endParaRPr b="0" lang="en-US" sz="2900" spc="-1" strike="noStrike">
              <a:solidFill>
                <a:srgbClr val="1c1c34"/>
              </a:solidFill>
              <a:latin typeface="Arial"/>
            </a:endParaRPr>
          </a:p>
          <a:p>
            <a:pPr lvl="1" marL="1028880" indent="-457200" algn="r" rtl="1">
              <a:spcBef>
                <a:spcPts val="524"/>
              </a:spcBef>
              <a:buClr>
                <a:srgbClr val="dddddd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أنقر على الخلية</a:t>
            </a:r>
            <a:r>
              <a:rPr b="0" lang="fr-FR" sz="21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الثانية</a:t>
            </a:r>
            <a:r>
              <a:rPr b="0" lang="fr-FR" sz="2100" spc="-1" strike="noStrike">
                <a:solidFill>
                  <a:srgbClr val="1c1c34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1c1c34"/>
              </a:solidFill>
              <a:latin typeface="Arial"/>
            </a:endParaRPr>
          </a:p>
          <a:p>
            <a:pPr lvl="1" marL="1028880" indent="-457200" algn="r" rtl="1">
              <a:spcBef>
                <a:spcPts val="524"/>
              </a:spcBef>
              <a:buClr>
                <a:srgbClr val="dddddd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100" spc="-1" strike="noStrike">
                <a:solidFill>
                  <a:srgbClr val="1c1c34"/>
                </a:solidFill>
                <a:latin typeface="Arial"/>
              </a:rPr>
              <a:t>اضغط على </a:t>
            </a:r>
            <a:endParaRPr b="0" lang="en-US" sz="2100" spc="-1" strike="noStrike">
              <a:solidFill>
                <a:srgbClr val="1c1c34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5249880" y="2266920"/>
          <a:ext cx="3436920" cy="14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9880" y="2266920"/>
                    <a:ext cx="343692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AutoShape 5"/>
          <p:cNvSpPr/>
          <p:nvPr/>
        </p:nvSpPr>
        <p:spPr>
          <a:xfrm rot="11026800">
            <a:off x="1545840" y="5524560"/>
            <a:ext cx="863640" cy="433440"/>
          </a:xfrm>
          <a:custGeom>
            <a:avLst/>
            <a:gdLst>
              <a:gd name="textAreaLeft" fmla="*/ 496800 w 863640"/>
              <a:gd name="textAreaRight" fmla="*/ 729000 w 863640"/>
              <a:gd name="textAreaTop" fmla="*/ 58320 h 433440"/>
              <a:gd name="textAreaBottom" fmla="*/ 18540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99cc"/>
          </a:solidFill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"/>
          <p:cNvPicPr/>
          <p:nvPr/>
        </p:nvPicPr>
        <p:blipFill>
          <a:blip r:embed="rId3"/>
          <a:stretch/>
        </p:blipFill>
        <p:spPr>
          <a:xfrm>
            <a:off x="5076720" y="4437000"/>
            <a:ext cx="3740400" cy="1584360"/>
          </a:xfrm>
          <a:prstGeom prst="rect">
            <a:avLst/>
          </a:prstGeom>
          <a:ln w="9360">
            <a:solidFill>
              <a:srgbClr val="6699cc"/>
            </a:solidFill>
            <a:miter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CB82-F7D0-40D7-B90B-C822B996D284}" type="datetime">
              <a:rPr b="0" lang="fr-FR" sz="1200" spc="-1" strike="noStrike">
                <a:solidFill>
                  <a:srgbClr val="1c1c34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1c1c34"/>
                </a:solidFill>
                <a:latin typeface="Arial"/>
              </a:rPr>
              <a:t>تظهر النتيجة التالية</a:t>
            </a:r>
            <a:r>
              <a:rPr b="0" lang="fr-FR" sz="3900" spc="-1" strike="noStrike">
                <a:solidFill>
                  <a:srgbClr val="1c1c34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2743200"/>
            <a:ext cx="381024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ننقر على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poignet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  </a:t>
            </a:r>
            <a:r>
              <a:rPr b="0" lang="ar-DZ" sz="2400" spc="-1" strike="noStrike">
                <a:solidFill>
                  <a:srgbClr val="1c1c34"/>
                </a:solidFill>
                <a:latin typeface="Arial"/>
              </a:rPr>
              <a:t>ثم نسحب لتطبيق الصيغة على بقية الخلايا</a:t>
            </a:r>
            <a:r>
              <a:rPr b="0" lang="fr-FR" sz="2400" spc="-1" strike="noStrike">
                <a:solidFill>
                  <a:srgbClr val="1c1c3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249880" y="1981080"/>
            <a:ext cx="343692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Line 5"/>
          <p:cNvSpPr/>
          <p:nvPr/>
        </p:nvSpPr>
        <p:spPr>
          <a:xfrm flipV="1">
            <a:off x="8172360" y="3789000"/>
            <a:ext cx="71640" cy="576360"/>
          </a:xfrm>
          <a:prstGeom prst="line">
            <a:avLst/>
          </a:prstGeom>
          <a:ln w="57240">
            <a:solidFill>
              <a:srgbClr val="c6062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47:49Z</dcterms:created>
  <dc:creator/>
  <dc:description/>
  <dc:language>en-US</dc:language>
  <cp:lastModifiedBy/>
  <dcterms:modified xsi:type="dcterms:W3CDTF">2018-06-27T23:00:05Z</dcterms:modified>
  <cp:revision>70</cp:revision>
  <dc:subject/>
  <dc:title>L'informatique</dc:title>
</cp:coreProperties>
</file>