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1F6-1EB9-446C-880D-CDA5C514821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1F53-166C-4FA3-AA56-51C6C5C09D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65C-70C8-4E7A-9129-0DD7B605C8F4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D3B8-617F-4104-9866-45D361AEFF21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1E92-2B9D-41CF-8F73-B4B1875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985A-2B60-412A-8E76-07E27B13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8F19-75B0-42F9-97D1-C433C272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C6C0-8E40-4B86-86DB-242047FC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CCFD-DCA5-4058-9003-148F75D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FD9C-C450-4646-875C-84A305E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1B87-82F5-4F22-B6AE-1FDBF12E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A3E6-6C28-4DC2-9322-4F4B7DA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1A5A-A210-432B-B916-259746EA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5F6-1836-4C67-9445-84E1336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7BA5-ABF5-481A-A476-C57591BB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84AA-16F1-47FB-B4AB-1E16CB7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56F6-08C6-459E-A6EE-3D8930B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4272-2521-4E70-A290-50E5A89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0B12-219E-4987-BB06-81D9636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DF7B-5ADD-4D4E-BE6D-1E195A5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1803-8DF1-4AB8-A017-F35052C7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CFDB-7109-44BF-AB37-6004864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4442-6003-4E8F-9439-7FBCEC25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40DD-406A-4198-B037-DE32F45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B4D0-67BB-4097-8CC2-A70B519E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C0A2-282B-4CAC-9130-447F4E1A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8316-9425-402E-B660-2B51A9D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E077-D159-43BC-B91E-2A18FDE4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7450-2A7C-484E-A33F-36BF7B6652CA}" type="slidenum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CB93-6739-48F3-A2DA-5A5514E244C1}" type="datetime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CD57-598A-4CD7-A28C-4E4E7D36B890}" type="datetime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022F-E915-4BF3-91E1-007218C66FA6}" type="slidenum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B568-87CE-4025-86DB-191048E87689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24360" y="282600"/>
            <a:ext cx="3922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 u="sng">
                <a:solidFill>
                  <a:srgbClr val="f66740"/>
                </a:solidFill>
                <a:uFillTx/>
                <a:latin typeface="Arial"/>
                <a:cs typeface="Arial"/>
              </a:rPr>
              <a:t>الإعــلام الآلـــــــ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WordArt 6" descr=""/>
          <p:cNvPicPr/>
          <p:nvPr/>
        </p:nvPicPr>
        <p:blipFill>
          <a:blip r:embed="rId1"/>
          <a:stretch/>
        </p:blipFill>
        <p:spPr>
          <a:xfrm>
            <a:off x="1006560" y="2627280"/>
            <a:ext cx="8034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A2A9-761C-4534-A7C9-2DE75B05865F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راج الدوال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38656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لإدراج دالة نتبع الخطوات التالية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حدد الخلي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ct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القائمة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99cc"/>
                </a:solidFill>
                <a:latin typeface="Arial"/>
              </a:rPr>
              <a:t>Insertion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ختار الأمر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99cc"/>
                </a:solidFill>
                <a:latin typeface="Arial"/>
              </a:rPr>
              <a:t>Fonction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249880" y="2371680"/>
          <a:ext cx="34354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9880" y="2371680"/>
                    <a:ext cx="3435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552-A56B-4D15-A9D9-16D52E1EA079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fr-FR" sz="3500" spc="-1" strike="noStrike">
                <a:solidFill>
                  <a:srgbClr val="1c1c34"/>
                </a:solidFill>
                <a:latin typeface="Arial"/>
              </a:rPr>
              <a:t>.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2952720" cy="34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ختار نوع الدال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OK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39640" y="1125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1c1c34"/>
                </a:solidFill>
                <a:latin typeface="Times New Roman"/>
                <a:cs typeface="Times New Roman"/>
              </a:rPr>
              <a:t>نتحصل على علبة الحوار الت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3924360" y="3213000"/>
            <a:ext cx="1152360" cy="72072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067280" y="5229360"/>
            <a:ext cx="3241440" cy="64764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206-0DD6-4F3B-904A-BFDDC97DA724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782280"/>
            <a:ext cx="70102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500" spc="-1" strike="noStrike">
                <a:solidFill>
                  <a:srgbClr val="1c1c34"/>
                </a:solidFill>
                <a:latin typeface="Arial"/>
              </a:rPr>
              <a:t>تظهر علبة حوار ثانية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997360"/>
            <a:ext cx="38102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مجموعة الخلايا المعنية  تظهر هنا.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OK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5249880" y="2300400"/>
            <a:ext cx="3436920" cy="367164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 flipV="1">
            <a:off x="4140360" y="3141360"/>
            <a:ext cx="2160360" cy="43164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2182-EEED-41EC-9A17-A901159C2356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تظهر النتيجة التالية</a:t>
            </a:r>
            <a:r>
              <a:rPr b="0" lang="fr-FR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3068280"/>
            <a:ext cx="381024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و نسحب لتعميم النتيج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 flipV="1">
            <a:off x="8172360" y="3789000"/>
            <a:ext cx="71640" cy="576360"/>
          </a:xfrm>
          <a:prstGeom prst="line">
            <a:avLst/>
          </a:prstGeom>
          <a:ln w="57240">
            <a:solidFill>
              <a:srgbClr val="c606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38F-C115-47BC-ACEA-531F5F7564A4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excel"/>
          <p:cNvPicPr/>
          <p:nvPr/>
        </p:nvPicPr>
        <p:blipFill>
          <a:blip r:embed="rId1"/>
          <a:stretch/>
        </p:blipFill>
        <p:spPr>
          <a:xfrm>
            <a:off x="971640" y="1628640"/>
            <a:ext cx="540072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6407280" y="2997360"/>
            <a:ext cx="273672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Déma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Tous les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Microsof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79640" y="765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1c1c34"/>
                </a:solidFill>
                <a:uFillTx/>
                <a:latin typeface="Tahoma"/>
                <a:ea typeface="Arial"/>
              </a:rPr>
              <a:t>Microsoft Excel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DZ" sz="3200" spc="-1" strike="noStrike" u="sng">
                <a:solidFill>
                  <a:srgbClr val="1c1c34"/>
                </a:solidFill>
                <a:uFillTx/>
                <a:latin typeface="Tahoma"/>
                <a:cs typeface="Arial"/>
              </a:rPr>
              <a:t>تشغيل</a:t>
            </a:r>
            <a:r>
              <a:rPr b="1" lang="ar-DZ" sz="3200" spc="-1" strike="noStrike" u="sng">
                <a:solidFill>
                  <a:srgbClr val="ffffcc"/>
                </a:solidFill>
                <a:uFillTx/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50920" y="1197000"/>
            <a:ext cx="431640" cy="433440"/>
          </a:xfrm>
          <a:prstGeom prst="wedgeEllipseCallout">
            <a:avLst>
              <a:gd name="adj1" fmla="val 724263"/>
              <a:gd name="adj2" fmla="val 98351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179280" y="4653000"/>
            <a:ext cx="432000" cy="358560"/>
          </a:xfrm>
          <a:prstGeom prst="wedgeEllipseCallout">
            <a:avLst>
              <a:gd name="adj1" fmla="val 290810"/>
              <a:gd name="adj2" fmla="val 120796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 flipV="1">
            <a:off x="179280" y="5515920"/>
            <a:ext cx="358920" cy="360360"/>
          </a:xfrm>
          <a:prstGeom prst="wedgeEllipseCallout">
            <a:avLst>
              <a:gd name="adj1" fmla="val 386282"/>
              <a:gd name="adj2" fmla="val -87004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423B-8893-4046-9786-9BAFB6BEC081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excel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 flipH="1" flipV="1">
            <a:off x="899640" y="2349000"/>
            <a:ext cx="142920" cy="79236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3141720"/>
            <a:ext cx="136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لية نشطة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1116000" y="5734080"/>
            <a:ext cx="792000" cy="59040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76360" y="551664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ور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4710240" y="2254320"/>
            <a:ext cx="582480" cy="13906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370480" y="2309760"/>
            <a:ext cx="65160" cy="126360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651640" y="2309760"/>
            <a:ext cx="527040" cy="13352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003640" y="3645000"/>
            <a:ext cx="11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م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539640" y="4149720"/>
            <a:ext cx="1079640" cy="5032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531720" y="4723920"/>
            <a:ext cx="1087560" cy="478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547640" y="4508640"/>
            <a:ext cx="8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ف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187280" y="404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عنو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971640" y="765000"/>
            <a:ext cx="287280" cy="4334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957400" y="765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قوائ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2339640" y="1052640"/>
            <a:ext cx="647640" cy="4316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372360" y="2565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شرطة الأدو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 flipH="1" flipV="1">
            <a:off x="6659640" y="1699920"/>
            <a:ext cx="1008000" cy="8650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>
            <a:off x="6516720" y="155736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4572000" y="476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 u="sng">
                <a:solidFill>
                  <a:srgbClr val="1c1c34"/>
                </a:solidFill>
                <a:uFillTx/>
                <a:latin typeface="Times New Roman"/>
                <a:cs typeface="Times New Roman"/>
              </a:rPr>
              <a:t>تقديم إطار</a:t>
            </a:r>
            <a:r>
              <a:rPr b="1" lang="fr-FR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FR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Microsoft Excel</a:t>
            </a:r>
            <a:r>
              <a:rPr b="1" lang="ar-DZ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268360" y="2895480"/>
            <a:ext cx="15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صي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 flipV="1">
            <a:off x="1855800" y="2030040"/>
            <a:ext cx="1008000" cy="8650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e la date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8181-C318-4FE2-8BAE-44003F67FEF8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f0fe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f0fef"/>
                </a:solidFill>
                <a:latin typeface="Arial"/>
                <a:ea typeface="Arial"/>
              </a:rPr>
              <a:t>     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عنوان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يكون بهذا الشريط اسم البرنامج مايكروسوفت ا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 متبوعا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   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باسم الملف ويكون امتداد ملف الا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XLS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قوائم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تعرض القائمة لائحة الأوامر وهناك بعض الاختصارات للأوامر من لوحة المفاتيح أو من شريط الأدوات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أدوات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عبارة عن خليط بين أزرار وقوائم لتسهيل التعامل مع البرنامج يمكن تغيير حجم شريط الأدوات لعرض أزرار إضافية , كما يمكنك إظهار كافة الأزرار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صيغة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وهو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أهم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شريط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في اكسال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ظهر فيه المعادلات أو الدوا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ورقة العمل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وكل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ملف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في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إ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 يشتمل على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ea typeface="Arial"/>
              </a:rPr>
              <a:t> ورقات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افتراضية يمكن زيادة عدد الورقات وكل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ورقة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مكونة من عدد من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الأعمدة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بدأ بحرف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c3461f"/>
                </a:solidFill>
                <a:latin typeface="Arial"/>
                <a:ea typeface="Arial"/>
              </a:rPr>
              <a:t>A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و ع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دد من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الصفوف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بدأ من الصف رقم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1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1f0fef"/>
                </a:solidFill>
                <a:latin typeface="Arial"/>
                <a:ea typeface="Arial"/>
              </a:rPr>
              <a:t>     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الخلية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: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تقاطع أي عمود مع أي صف في ورقة العم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DZ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ا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لخلية النشطة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هي الخلية التي يحيط بها إطار ويظهر عنوانها في شريط الصيغة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892-F9D0-4201-8FE9-693D7697B13D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12960" y="56052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 u="sng">
                <a:solidFill>
                  <a:srgbClr val="1c1c34"/>
                </a:solidFill>
                <a:uFillTx/>
                <a:latin typeface="Arial"/>
              </a:rPr>
              <a:t>حفظ مصنف</a:t>
            </a:r>
            <a:endParaRPr b="0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64000" y="2421000"/>
          <a:ext cx="35290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421000"/>
                    <a:ext cx="35290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755640" y="2421000"/>
          <a:ext cx="38098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421000"/>
                    <a:ext cx="38098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5"/>
          <p:cNvSpPr/>
          <p:nvPr/>
        </p:nvSpPr>
        <p:spPr>
          <a:xfrm flipH="1">
            <a:off x="4500720" y="3860640"/>
            <a:ext cx="792000" cy="0"/>
          </a:xfrm>
          <a:prstGeom prst="line">
            <a:avLst/>
          </a:prstGeom>
          <a:ln w="7632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393-74E2-4EB2-AD48-BD9A9DCBA5CA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راج النص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4140360" y="3884760"/>
          <a:ext cx="3846240" cy="22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884760"/>
                    <a:ext cx="3846240" cy="22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250920" y="328464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دراج نص أو عنوان داخل ورقة حساب نستعمل منطقة نص الموجودة في شريط الرسم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4356000" y="2371680"/>
          <a:ext cx="37386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371680"/>
                    <a:ext cx="3738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9"/>
          <p:cNvSpPr/>
          <p:nvPr/>
        </p:nvSpPr>
        <p:spPr>
          <a:xfrm flipV="1">
            <a:off x="3059280" y="3141360"/>
            <a:ext cx="2520720" cy="71892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D90-FE4C-49F4-9A7F-3550E537A857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خال المعطيات</a:t>
            </a: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9480" y="1981080"/>
            <a:ext cx="7010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إمكاننا ادخال المعطيات صفا بصف أو عمود بعم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ثال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لاحظة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الأعداد تكون دائما محاذاة الى اليس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049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e la dat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AF57-D1F8-4C2A-A5B4-72B557941E1C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500" spc="-1" strike="noStrike" u="sng">
                <a:solidFill>
                  <a:srgbClr val="1c1c34"/>
                </a:solidFill>
                <a:uFillTx/>
                <a:latin typeface="Arial"/>
              </a:rPr>
              <a:t>ادخال الصيغ الحسابية</a:t>
            </a:r>
            <a:r>
              <a:rPr b="1" lang="fr-FR" sz="3500" spc="-1" strike="noStrike" u="sng">
                <a:solidFill>
                  <a:srgbClr val="1c1c34"/>
                </a:solidFill>
                <a:uFillTx/>
                <a:latin typeface="Arial"/>
              </a:rPr>
              <a:t> 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تحديد الخلية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كتابة الصيغة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مثال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726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كتب    </a:t>
            </a:r>
            <a:r>
              <a:rPr b="1" lang="ar-DZ" sz="2900" spc="-1" strike="noStrike">
                <a:solidFill>
                  <a:srgbClr val="c60626"/>
                </a:solidFill>
                <a:latin typeface="Arial"/>
              </a:rPr>
              <a:t>=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نقر على الخلية الأولى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726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كتب رمز العملية   </a:t>
            </a:r>
            <a:r>
              <a:rPr b="1" lang="ar-DZ" sz="2900" spc="-1" strike="noStrike">
                <a:solidFill>
                  <a:srgbClr val="c60626"/>
                </a:solidFill>
                <a:latin typeface="Arial"/>
              </a:rPr>
              <a:t>+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نقر على الخلية</a:t>
            </a:r>
            <a:r>
              <a:rPr b="0" lang="fr-FR" sz="21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الثانية</a:t>
            </a:r>
            <a:r>
              <a:rPr b="0" lang="fr-FR" sz="21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اضغط على 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249880" y="2266920"/>
          <a:ext cx="343692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9880" y="2266920"/>
                    <a:ext cx="34369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AutoShape 5"/>
          <p:cNvSpPr/>
          <p:nvPr/>
        </p:nvSpPr>
        <p:spPr>
          <a:xfrm rot="11026800">
            <a:off x="1545840" y="5524560"/>
            <a:ext cx="863640" cy="433440"/>
          </a:xfrm>
          <a:custGeom>
            <a:avLst/>
            <a:gdLst>
              <a:gd name="textAreaLeft" fmla="*/ 496800 w 863640"/>
              <a:gd name="textAreaRight" fmla="*/ 729000 w 863640"/>
              <a:gd name="textAreaTop" fmla="*/ 58320 h 433440"/>
              <a:gd name="textAreaBottom" fmla="*/ 18540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99cc"/>
          </a:solidFill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5076720" y="4437000"/>
            <a:ext cx="374040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741-83AB-484D-B0DA-BC9E57AAF80D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تظهر النتيجة التالية</a:t>
            </a:r>
            <a:r>
              <a:rPr b="0" lang="fr-FR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381024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poignet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 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ثم نسحب لتطبيق الصيغة على بقية الخلايا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Line 5"/>
          <p:cNvSpPr/>
          <p:nvPr/>
        </p:nvSpPr>
        <p:spPr>
          <a:xfrm flipV="1">
            <a:off x="8172360" y="3789000"/>
            <a:ext cx="71640" cy="576360"/>
          </a:xfrm>
          <a:prstGeom prst="line">
            <a:avLst/>
          </a:prstGeom>
          <a:ln w="57240">
            <a:solidFill>
              <a:srgbClr val="c606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47:49Z</dcterms:created>
  <dc:creator/>
  <dc:description/>
  <dc:language>en-US</dc:language>
  <cp:lastModifiedBy/>
  <dcterms:modified xsi:type="dcterms:W3CDTF">2018-06-27T23:00:05Z</dcterms:modified>
  <cp:revision>70</cp:revision>
  <dc:subject/>
  <dc:title>L'informatique</dc:title>
</cp:coreProperties>
</file>