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824-DAEB-4827-815A-B31C4DB1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AF9-8BD9-4C94-9DE0-ADA5497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7A1-6EE1-4AC6-99A9-9E2500A6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466-5FB4-4C54-AB42-790DBA56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ECA-DF0C-4D6A-8056-802D791A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8B5-D375-4BCF-8CDF-9080AE4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942-33EC-4109-B5EA-99CAF267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42F-2728-42EC-A4BD-230901F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BAD-90E5-40F7-8E3D-A017D08A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A51-33E7-4BA7-8431-93A1F52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2DF-3D3B-4C6B-A19D-EC28DB6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4D8-219D-4BEC-82C8-A471586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F56F-9102-47B6-A02A-0E5A6F65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k Domba y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mbeli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uka Meterai dari gulungan Ki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inga YEHUDA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88920" y="1600200"/>
            <a:ext cx="71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ngel judgement man"/>
          <p:cNvPicPr/>
          <p:nvPr/>
        </p:nvPicPr>
        <p:blipFill>
          <a:blip r:embed="rId1"/>
          <a:stretch/>
        </p:blipFill>
        <p:spPr>
          <a:xfrm>
            <a:off x="1752480" y="2362320"/>
            <a:ext cx="5410440" cy="394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" name="Rectangle 3"/>
          <p:cNvSpPr/>
          <p:nvPr/>
        </p:nvSpPr>
        <p:spPr>
          <a:xfrm>
            <a:off x="1600200" y="762120"/>
            <a:ext cx="5943600" cy="13737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arang di Bumi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ghakim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FIRM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hanes 12 : 47 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78280" y="5715000"/>
            <a:ext cx="15141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brani  4 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114800" y="1752480"/>
            <a:ext cx="3657600" cy="1524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3352680"/>
            <a:ext cx="304812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851960" y="2666880"/>
            <a:ext cx="452160" cy="192276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5897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ELOHIM Tzeva’oth  HaShiv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LOHIM pencipta Alam Semesta pulihkanlah 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Ve’haer Panek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uatlah Wajah MU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Bers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Venivashe’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a kami akan Sel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3048120" y="5715000"/>
            <a:ext cx="3504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azmur 80:7(80: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5745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esaya 9:2 (9-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gsa yang berjalan di dalam kegelapan telah meli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rang yang Bes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reka yang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 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negeri kekelaman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asny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RANG telah Bersin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Pet 1:19  Dengan demikian kami makin diteguhkan oleh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Firman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yang telah disampaikan oleh para Nabi. Alangkah baiknya kalau kamu memperhatikannya sama seperti memperhatikan  </a:t>
            </a:r>
            <a:r>
              <a:rPr b="0" i="1" lang="en-US" sz="3200" spc="-1" strike="noStrike">
                <a:solidFill>
                  <a:srgbClr val="ff0000"/>
                </a:solidFill>
                <a:latin typeface="Arial Black"/>
              </a:rPr>
              <a:t>pelita yang bercahaya di tempat yang gela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sampai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fajar menyings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da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intang timu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terbit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bersin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 dalam hatim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1214280" y="684360"/>
            <a:ext cx="7085160" cy="45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501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banyak rahasia telah dibuk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di Millennium ke-2 ini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Fenomena Quark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Telomer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radiasi Nuklir 100mR/Hour 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Mutasi double-helix DN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Partikel TUHAN (H-Particle)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ination 3"/>
          <p:cNvPicPr/>
          <p:nvPr/>
        </p:nvPicPr>
        <p:blipFill>
          <a:blip r:embed="rId1"/>
          <a:srcRect l="0" t="9698" r="0" b="3438"/>
          <a:stretch/>
        </p:blipFill>
        <p:spPr>
          <a:xfrm>
            <a:off x="914400" y="3429000"/>
            <a:ext cx="2666880" cy="249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" name="Line 3"/>
          <p:cNvSpPr/>
          <p:nvPr/>
        </p:nvSpPr>
        <p:spPr>
          <a:xfrm flipV="1">
            <a:off x="2743200" y="4343040"/>
            <a:ext cx="2362320" cy="10666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flipV="1" rot="21343800">
            <a:off x="456840" y="380880"/>
            <a:ext cx="8151840" cy="37911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Ucapan mu, telah menciptakan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Tabir Rohani KU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atas hidupmu sendiri !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 flipH="1" flipV="1">
            <a:off x="4876920" y="3048120"/>
            <a:ext cx="304560" cy="12189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075920" y="4876920"/>
            <a:ext cx="391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ngha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g tidak bi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tangkap ol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a  dan  I.Pengetah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331" t="0" r="3331" b="0"/>
          <a:stretch/>
        </p:blipFill>
        <p:spPr>
          <a:xfrm>
            <a:off x="1295280" y="838080"/>
            <a:ext cx="67057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סוד יהוה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30760" y="2019240"/>
            <a:ext cx="50043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3300"/>
                </a:solidFill>
                <a:latin typeface="Arial Black"/>
              </a:rPr>
              <a:t>Besood YAHW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eremia 23 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Rockwell"/>
              </a:rPr>
              <a:t>Hukum</a:t>
            </a:r>
            <a:r>
              <a:rPr b="1" lang="en-US" sz="3200" spc="-1" strike="noStrike">
                <a:solidFill>
                  <a:srgbClr val="ff3300"/>
                </a:solidFill>
                <a:latin typeface="Rockwell"/>
              </a:rPr>
              <a:t>  Kerajaan Su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Rockwell"/>
              </a:rPr>
              <a:t>Hukum</a:t>
            </a:r>
            <a:r>
              <a:rPr b="1" lang="en-US" sz="3200" spc="-1" strike="noStrike">
                <a:solidFill>
                  <a:srgbClr val="ff3300"/>
                </a:solidFill>
                <a:latin typeface="Rockwell"/>
              </a:rPr>
              <a:t>  Firman TU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Rockwell"/>
              </a:rPr>
              <a:t>YAHVEH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, dan jug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Rockwell"/>
              </a:rPr>
              <a:t>iblis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Rockwell"/>
              </a:rPr>
              <a:t>selalu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  bekerja </a:t>
            </a:r>
            <a:r>
              <a:rPr b="1" i="1" lang="en-US" sz="3200" spc="-1" strike="noStrike">
                <a:solidFill>
                  <a:srgbClr val="ff3300"/>
                </a:solidFill>
                <a:latin typeface="Rockwell"/>
              </a:rPr>
              <a:t>sesu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“ 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Hukum  di Alam ROH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idak melakukan DO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etap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anggapi Keputusan Hukum YAHVEH denga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akal”-ny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ahal dia    Imam Besar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alaikat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00200" y="31240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magination 3"/>
          <p:cNvPicPr/>
          <p:nvPr/>
        </p:nvPicPr>
        <p:blipFill>
          <a:blip r:embed="rId2"/>
          <a:srcRect l="0" t="7732" r="0" b="3428"/>
          <a:stretch/>
        </p:blipFill>
        <p:spPr>
          <a:xfrm>
            <a:off x="6172200" y="3809880"/>
            <a:ext cx="1562040" cy="175284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5791320" y="4343400"/>
            <a:ext cx="91440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elajaran Alam ROH </a:t>
            </a:r>
            <a:r>
              <a:rPr b="1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sulit !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erhatika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dan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a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 Narrow"/>
              </a:rPr>
              <a:t>2 Sam. 24 :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1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HVEH marah dg bangsa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yisuth eth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menghasu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e-IL" sz="60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יסת א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…. Trik yg t.t. ,  iblis masuk ….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 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bongnya bangk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2514600" y="3428640"/>
            <a:ext cx="30492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981080" y="3428640"/>
            <a:ext cx="304920" cy="3049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 Narrow"/>
                <a:ea typeface="Times New Roman"/>
              </a:rPr>
              <a:t>2 Sam. 24:10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33cc"/>
                </a:solidFill>
                <a:latin typeface="Rockwell"/>
                <a:ea typeface="Times New Roman"/>
              </a:rPr>
              <a:t>hati Daud berdebar deb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nteligenz des Herzens"/>
          <p:cNvPicPr/>
          <p:nvPr/>
        </p:nvPicPr>
        <p:blipFill>
          <a:blip r:embed="rId1"/>
          <a:srcRect l="0" t="0" r="0" b="12894"/>
          <a:stretch/>
        </p:blipFill>
        <p:spPr>
          <a:xfrm>
            <a:off x="1905120" y="9907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Judgement1"/>
          <p:cNvPicPr/>
          <p:nvPr/>
        </p:nvPicPr>
        <p:blipFill>
          <a:blip r:embed="rId1"/>
          <a:stretch/>
        </p:blipFill>
        <p:spPr>
          <a:xfrm>
            <a:off x="1143000" y="1062000"/>
            <a:ext cx="6858000" cy="4734000"/>
          </a:xfrm>
          <a:prstGeom prst="rect">
            <a:avLst/>
          </a:prstGeom>
          <a:ln w="0">
            <a:noFill/>
          </a:ln>
        </p:spPr>
      </p:pic>
      <p:sp>
        <p:nvSpPr>
          <p:cNvPr id="63" name="Line 3"/>
          <p:cNvSpPr/>
          <p:nvPr/>
        </p:nvSpPr>
        <p:spPr>
          <a:xfrm flipH="1">
            <a:off x="6324480" y="4876920"/>
            <a:ext cx="457200" cy="76176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666880" y="4800600"/>
            <a:ext cx="685800" cy="7621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0:11:13Z</dcterms:created>
  <dc:creator>Personal</dc:creator>
  <dc:description/>
  <dc:language>en-US</dc:language>
  <cp:lastModifiedBy>Grace Wijaya</cp:lastModifiedBy>
  <dcterms:modified xsi:type="dcterms:W3CDTF">2012-09-09T09:58:30Z</dcterms:modified>
  <cp:revision>26</cp:revision>
  <dc:subject/>
  <dc:title>Slide 1</dc:title>
</cp:coreProperties>
</file>