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46F-290E-46B0-86C6-145A9F96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FB8-B215-4335-8C52-BF222339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A774-A42C-47CD-8FCB-1AB1B9F5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FBE-E8A8-491B-91B9-FDA7A1CF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20AE-89AF-4F95-A302-944E6D2F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8717-56CA-4DA7-8483-946DB8DF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F8E-08A2-499B-BC8F-9B5083C5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1975-4653-4CE1-8AC2-12B66D3F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DCBE-3A19-403E-BC9F-22ECB5D4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1A6-35E2-45DE-8F74-DCAB7576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696-8940-4C36-B444-33625A02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76D-199C-40A1-8E8D-E44C4A5A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EBB8-05FF-4065-8BDF-BE3EE3002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k Domba y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la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embelih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buka Meterai dari gulungan Ki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Singa YEHUDA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88920" y="1600200"/>
            <a:ext cx="7164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Angel judgement man"/>
          <p:cNvPicPr/>
          <p:nvPr/>
        </p:nvPicPr>
        <p:blipFill>
          <a:blip r:embed="rId1"/>
          <a:stretch/>
        </p:blipFill>
        <p:spPr>
          <a:xfrm>
            <a:off x="1752480" y="2362320"/>
            <a:ext cx="5410440" cy="394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6" name="Rectangle 3"/>
          <p:cNvSpPr/>
          <p:nvPr/>
        </p:nvSpPr>
        <p:spPr>
          <a:xfrm>
            <a:off x="1600200" y="762120"/>
            <a:ext cx="5943600" cy="1373760"/>
          </a:xfrm>
          <a:prstGeom prst="rect">
            <a:avLst/>
          </a:prstGeom>
          <a:solidFill>
            <a:srgbClr val="ffff99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karang di Bumi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ng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ghakim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FIRMA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hanes 12 : 47 -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78280" y="5715000"/>
            <a:ext cx="15141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brani  4 :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4114800" y="1752480"/>
            <a:ext cx="3657600" cy="15242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4572000" y="3352680"/>
            <a:ext cx="304812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851960" y="2666880"/>
            <a:ext cx="452160" cy="1922760"/>
          </a:xfrm>
          <a:prstGeom prst="rect">
            <a:avLst/>
          </a:prstGeom>
          <a:solidFill>
            <a:srgbClr val="ff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305920" cy="5897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Black"/>
              </a:rPr>
              <a:t>ELOHIM Tzeva’oth  HaShiv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ELOHIM pencipta Alam Semesta pulihkanlah k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Black"/>
              </a:rPr>
              <a:t>Ve’haer Panek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Buatlah Wajah MU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 Black"/>
              </a:rPr>
              <a:t>Bers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Black"/>
              </a:rPr>
              <a:t>Venivashe’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maka kami akan Sela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3"/>
          <p:cNvSpPr txBox="1"/>
          <p:nvPr/>
        </p:nvSpPr>
        <p:spPr>
          <a:xfrm>
            <a:off x="3048120" y="5715000"/>
            <a:ext cx="3504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azmur 80:7(80:8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381880" cy="5745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esaya 9:2 (9-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gsa yang berjalan di dalam kegelapan telah meli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Terang yang Besar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reka yang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  </a:t>
            </a:r>
            <a:r>
              <a:rPr b="0" i="1" lang="en-US" sz="3200" spc="-1" strike="noStrike">
                <a:solidFill>
                  <a:srgbClr val="0000ff"/>
                </a:solidFill>
                <a:latin typeface="Arial Black"/>
              </a:rPr>
              <a:t>negeri kekelaman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tasny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TERANG telah Bersinar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Pet 1:19  Dengan demikian kami makin diteguhkan oleh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Firman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yang telah disampaikan oleh para Nabi. Alangkah baiknya kalau kamu memperhatikannya sama seperti memperhatikan  </a:t>
            </a:r>
            <a:r>
              <a:rPr b="0" i="1" lang="en-US" sz="3200" spc="-1" strike="noStrike">
                <a:solidFill>
                  <a:srgbClr val="ff0000"/>
                </a:solidFill>
                <a:latin typeface="Arial Black"/>
              </a:rPr>
              <a:t>pelita yang bercahaya di tempat yang gelap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sampai 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fajar menyingsing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dan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bintang timur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terbit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bersinar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 dalam hatim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1214280" y="684360"/>
            <a:ext cx="7085160" cy="45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501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banyak rahasia telah dibuka</a:t>
            </a:r>
            <a:endParaRPr b="1" lang="en-US" sz="2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di Millennium ke-2 ini</a:t>
            </a:r>
            <a:endParaRPr b="1" lang="en-US" sz="2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- Fenomena Quark</a:t>
            </a:r>
            <a:endParaRPr b="1" lang="en-US" sz="2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- Telomer</a:t>
            </a:r>
            <a:endParaRPr b="1" lang="en-US" sz="2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- radiasi Nuklir 100mR/Hour </a:t>
            </a:r>
            <a:endParaRPr b="1" lang="en-US" sz="2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- Mutasi double-helix DNA</a:t>
            </a:r>
            <a:endParaRPr b="1" lang="en-US" sz="2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- Partikel TUHAN (H-Particle)</a:t>
            </a:r>
            <a:endParaRPr b="1" lang="en-US" sz="2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imagination 3"/>
          <p:cNvPicPr/>
          <p:nvPr/>
        </p:nvPicPr>
        <p:blipFill>
          <a:blip r:embed="rId1"/>
          <a:srcRect l="0" t="9698" r="0" b="3438"/>
          <a:stretch/>
        </p:blipFill>
        <p:spPr>
          <a:xfrm>
            <a:off x="914400" y="3429000"/>
            <a:ext cx="2666880" cy="2496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5" name="Line 3"/>
          <p:cNvSpPr/>
          <p:nvPr/>
        </p:nvSpPr>
        <p:spPr>
          <a:xfrm flipV="1">
            <a:off x="2743200" y="4343040"/>
            <a:ext cx="2362320" cy="10666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flipV="1" rot="21343800">
            <a:off x="456840" y="380880"/>
            <a:ext cx="8151840" cy="3791160"/>
          </a:xfrm>
          <a:prstGeom prst="irregularSeal2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 Black"/>
              </a:rPr>
              <a:t>Ucapan mu, telah menciptakan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 Black"/>
              </a:rPr>
              <a:t>Tabir Rohani KUT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 Black"/>
              </a:rPr>
              <a:t>atas hidupmu sendiri !</a:t>
            </a: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 flipH="1" flipV="1">
            <a:off x="4876920" y="3048120"/>
            <a:ext cx="304560" cy="121896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075920" y="4876920"/>
            <a:ext cx="391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enghala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yg tidak bis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tangkap ole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a  dan  I.Pengetah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3331" t="0" r="3331" b="0"/>
          <a:stretch/>
        </p:blipFill>
        <p:spPr>
          <a:xfrm>
            <a:off x="1295280" y="838080"/>
            <a:ext cx="67057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בסוד יהוה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030760" y="2019240"/>
            <a:ext cx="500436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ff3300"/>
                </a:solidFill>
                <a:latin typeface="Arial Black"/>
              </a:rPr>
              <a:t>Besood YAHWE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Yeremia 23 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Rockwell"/>
              </a:rPr>
              <a:t>Hukum</a:t>
            </a:r>
            <a:r>
              <a:rPr b="1" lang="en-US" sz="3200" spc="-1" strike="noStrike">
                <a:solidFill>
                  <a:srgbClr val="ff3300"/>
                </a:solidFill>
                <a:latin typeface="Rockwell"/>
              </a:rPr>
              <a:t>  Kerajaan Sur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Rockwell"/>
              </a:rPr>
              <a:t>Hukum</a:t>
            </a:r>
            <a:r>
              <a:rPr b="1" lang="en-US" sz="3200" spc="-1" strike="noStrike">
                <a:solidFill>
                  <a:srgbClr val="ff3300"/>
                </a:solidFill>
                <a:latin typeface="Rockwell"/>
              </a:rPr>
              <a:t>  Firman TU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Rockwell"/>
              </a:rPr>
              <a:t>YAHVEH</a:t>
            </a:r>
            <a:r>
              <a:rPr b="1" lang="en-US" sz="3200" spc="-1" strike="noStrike">
                <a:solidFill>
                  <a:srgbClr val="0000ff"/>
                </a:solidFill>
                <a:latin typeface="Rockwell"/>
              </a:rPr>
              <a:t>, dan jug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Rockwell"/>
              </a:rPr>
              <a:t>iblis</a:t>
            </a:r>
            <a:r>
              <a:rPr b="1" lang="en-US" sz="3200" spc="-1" strike="noStrike">
                <a:solidFill>
                  <a:srgbClr val="0000ff"/>
                </a:solidFill>
                <a:latin typeface="Rockwel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Rockwell"/>
              </a:rPr>
              <a:t>selalu</a:t>
            </a:r>
            <a:r>
              <a:rPr b="1" lang="en-US" sz="3200" spc="-1" strike="noStrike">
                <a:solidFill>
                  <a:srgbClr val="0000ff"/>
                </a:solidFill>
                <a:latin typeface="Rockwell"/>
              </a:rPr>
              <a:t>  bekerja </a:t>
            </a:r>
            <a:r>
              <a:rPr b="1" i="1" lang="en-US" sz="3200" spc="-1" strike="noStrike">
                <a:solidFill>
                  <a:srgbClr val="ff3300"/>
                </a:solidFill>
                <a:latin typeface="Rockwell"/>
              </a:rPr>
              <a:t>sesu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Rockwell"/>
              </a:rPr>
              <a:t>“ </a:t>
            </a:r>
            <a:r>
              <a:rPr b="1" lang="en-US" sz="3200" spc="-1" strike="noStrike">
                <a:solidFill>
                  <a:srgbClr val="0000ff"/>
                </a:solidFill>
                <a:latin typeface="Rockwell"/>
              </a:rPr>
              <a:t>Hukum  di Alam ROH 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1430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idak melakukan DOS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etap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anggapi Keputusan Hukum YAHVEH dengan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“akal”-ny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dahal dia    Imam Besar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malaikat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600200" y="312408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imagination 3"/>
          <p:cNvPicPr/>
          <p:nvPr/>
        </p:nvPicPr>
        <p:blipFill>
          <a:blip r:embed="rId2"/>
          <a:srcRect l="0" t="7732" r="0" b="3428"/>
          <a:stretch/>
        </p:blipFill>
        <p:spPr>
          <a:xfrm>
            <a:off x="6172200" y="3809880"/>
            <a:ext cx="1562040" cy="1752840"/>
          </a:xfrm>
          <a:prstGeom prst="rect">
            <a:avLst/>
          </a:prstGeom>
          <a:ln w="0">
            <a:noFill/>
          </a:ln>
        </p:spPr>
      </p:pic>
      <p:sp>
        <p:nvSpPr>
          <p:cNvPr id="55" name="Line 5"/>
          <p:cNvSpPr/>
          <p:nvPr/>
        </p:nvSpPr>
        <p:spPr>
          <a:xfrm>
            <a:off x="5791320" y="4343400"/>
            <a:ext cx="91440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elajaran Alam ROH </a:t>
            </a:r>
            <a:r>
              <a:rPr b="1" lang="en-US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sulit !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erhatikan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dan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Fah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 Narrow"/>
              </a:rPr>
              <a:t>2 Sam. 24 : 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1)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HVEH marah dg bangsa 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.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yisuth eth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36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menghasu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he-IL" sz="6000" spc="-1" strike="noStrike">
                <a:solidFill>
                  <a:srgbClr val="ff3300"/>
                </a:solidFill>
                <a:latin typeface="Times New Roman"/>
                <a:cs typeface="Times New Roman"/>
              </a:rPr>
              <a:t>יסת א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…. Trik yg t.t. ,  iblis masuk ….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d “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bongnya bangki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=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2514600" y="3428640"/>
            <a:ext cx="304920" cy="304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981080" y="3428640"/>
            <a:ext cx="304920" cy="30492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 Narrow"/>
                <a:ea typeface="Times New Roman"/>
              </a:rPr>
              <a:t>2 Sam. 24:10</a:t>
            </a:r>
            <a:r>
              <a:rPr b="1" lang="en-US" sz="32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33cc"/>
                </a:solidFill>
                <a:latin typeface="Rockwell"/>
                <a:ea typeface="Times New Roman"/>
              </a:rPr>
              <a:t>hati Daud berdebar deba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Inteligenz des Herzens"/>
          <p:cNvPicPr/>
          <p:nvPr/>
        </p:nvPicPr>
        <p:blipFill>
          <a:blip r:embed="rId1"/>
          <a:srcRect l="0" t="0" r="0" b="12894"/>
          <a:stretch/>
        </p:blipFill>
        <p:spPr>
          <a:xfrm>
            <a:off x="1905120" y="990720"/>
            <a:ext cx="5333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Judgement1"/>
          <p:cNvPicPr/>
          <p:nvPr/>
        </p:nvPicPr>
        <p:blipFill>
          <a:blip r:embed="rId1"/>
          <a:stretch/>
        </p:blipFill>
        <p:spPr>
          <a:xfrm>
            <a:off x="1143000" y="1062000"/>
            <a:ext cx="6858000" cy="4734000"/>
          </a:xfrm>
          <a:prstGeom prst="rect">
            <a:avLst/>
          </a:prstGeom>
          <a:ln w="0">
            <a:noFill/>
          </a:ln>
        </p:spPr>
      </p:pic>
      <p:sp>
        <p:nvSpPr>
          <p:cNvPr id="63" name="Line 3"/>
          <p:cNvSpPr/>
          <p:nvPr/>
        </p:nvSpPr>
        <p:spPr>
          <a:xfrm flipH="1">
            <a:off x="6324480" y="4876920"/>
            <a:ext cx="457200" cy="76176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2666880" y="4800600"/>
            <a:ext cx="685800" cy="76212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10:11:13Z</dcterms:created>
  <dc:creator>Personal</dc:creator>
  <dc:description/>
  <dc:language>en-US</dc:language>
  <cp:lastModifiedBy>Grace Wijaya</cp:lastModifiedBy>
  <dcterms:modified xsi:type="dcterms:W3CDTF">2012-09-09T09:58:30Z</dcterms:modified>
  <cp:revision>26</cp:revision>
  <dc:subject/>
  <dc:title>Slide 1</dc:title>
</cp:coreProperties>
</file>