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C65-03E4-4A68-9669-9373A7CA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B04-CA65-4021-A740-3A3A8D2C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79D-34EB-4E01-91BA-A450BBBD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8E4-7BE5-411F-9C02-09B86857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EA4-A6FC-40AE-8612-072C7A6D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6A9-C5DD-4C34-ACE5-45D6F660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7BA-B96D-4804-BBEB-F902E7EF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2A1-F03C-4146-A003-8598677C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0F6-B961-475A-849A-4F4CF882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A46-A504-43B3-9B6F-451C6F57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A50-4C4B-4CBB-B59C-48D240A7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593-DCC1-4916-98B3-B98C846E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265440"/>
            <a:ext cx="24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5DE5-6F34-4811-9A02-804A0F39A0A1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05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F1BA67EB-34B5-4606-B50B-8705DF9762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A2D4-F86C-492B-B0B0-6BF429C87C23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260880" y="6237360"/>
            <a:ext cx="33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B35737F3-E3A0-495E-810C-EBEC940B0B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Fungsi Kompleks</a:t>
            </a:r>
            <a:endParaRPr b="0" lang="en-US" sz="6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62A7-CF75-42E8-9767-26FABF11F81B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DFC3ECA8-1089-4E22-ACE3-962630E70E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Fungsi Harmonik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539640" y="1051560"/>
            <a:ext cx="80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fa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f(z) = U(x,y) + i V(x,y) analitik pada domain D, maka U(x,y) dan V(x,y) harmonik pada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f(z) = U(x,y) + i V(x,y) analitik pada D bila dan hanya bila V(x,y) sekawan harmonik dari U(x,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7"/>
              <p:cNvSpPr txBox="1"/>
              <p:nvPr/>
            </p:nvSpPr>
            <p:spPr>
              <a:xfrm>
                <a:off x="1751040" y="2894040"/>
                <a:ext cx="3181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Text Box 19"/>
          <p:cNvSpPr/>
          <p:nvPr/>
        </p:nvSpPr>
        <p:spPr>
          <a:xfrm>
            <a:off x="611280" y="303228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611280" y="34279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Cari Nilai k agar U(x,y) fungsi harmon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1"/>
              <p:cNvSpPr txBox="1"/>
              <p:nvPr/>
            </p:nvSpPr>
            <p:spPr>
              <a:xfrm>
                <a:off x="1116000" y="4941720"/>
                <a:ext cx="30243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23"/>
          <p:cNvSpPr/>
          <p:nvPr/>
        </p:nvSpPr>
        <p:spPr>
          <a:xfrm>
            <a:off x="4398840" y="49417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 - 1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4"/>
              <p:cNvSpPr txBox="1"/>
              <p:nvPr/>
            </p:nvSpPr>
            <p:spPr>
              <a:xfrm>
                <a:off x="1116000" y="5445000"/>
                <a:ext cx="2879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7" name="Rectangle 2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3"/>
              <p:cNvSpPr txBox="1"/>
              <p:nvPr/>
            </p:nvSpPr>
            <p:spPr>
              <a:xfrm>
                <a:off x="1116000" y="3959280"/>
                <a:ext cx="2808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 Box 39"/>
          <p:cNvSpPr/>
          <p:nvPr/>
        </p:nvSpPr>
        <p:spPr>
          <a:xfrm>
            <a:off x="1112400" y="4335480"/>
            <a:ext cx="163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x,y)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0"/>
          <p:cNvSpPr/>
          <p:nvPr/>
        </p:nvSpPr>
        <p:spPr>
          <a:xfrm>
            <a:off x="4273920" y="3894120"/>
            <a:ext cx="2701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x,y) = - 2x + 2k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4282200" y="4297320"/>
            <a:ext cx="18572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y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x,y) = 2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4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5CB8-2A88-418A-9730-B339CEB086A5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0DBCC08-5759-46BB-8259-93364567D31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Fungsi Harmonik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2"/>
              <p:cNvSpPr txBox="1"/>
              <p:nvPr/>
            </p:nvSpPr>
            <p:spPr>
              <a:xfrm>
                <a:off x="5796000" y="3114720"/>
                <a:ext cx="2087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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539640" y="10515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. Cari fungsi analitik :  f(x,y) = U(x,y) + i V(x,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1044720" y="1961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( x,y ) merupakan sekawan harmonik dari U( x,y ), sehingga berlaku PC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7"/>
              <p:cNvSpPr txBox="1"/>
              <p:nvPr/>
            </p:nvSpPr>
            <p:spPr>
              <a:xfrm>
                <a:off x="1116000" y="2682720"/>
                <a:ext cx="13683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6" name="Rectangle 1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9"/>
              <p:cNvSpPr txBox="1"/>
              <p:nvPr/>
            </p:nvSpPr>
            <p:spPr>
              <a:xfrm>
                <a:off x="1116000" y="3186000"/>
                <a:ext cx="2521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0"/>
              <p:cNvSpPr txBox="1"/>
              <p:nvPr/>
            </p:nvSpPr>
            <p:spPr>
              <a:xfrm>
                <a:off x="3708360" y="3182760"/>
                <a:ext cx="197640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1"/>
              <p:cNvSpPr txBox="1"/>
              <p:nvPr/>
            </p:nvSpPr>
            <p:spPr>
              <a:xfrm>
                <a:off x="1081080" y="3754440"/>
                <a:ext cx="1546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2"/>
              <p:cNvSpPr txBox="1"/>
              <p:nvPr/>
            </p:nvSpPr>
            <p:spPr>
              <a:xfrm>
                <a:off x="3182760" y="3767040"/>
                <a:ext cx="282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'</m:t>
                    </m:r>
                    <m:r>
                      <m:t xml:space="preserve">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3"/>
              <p:cNvSpPr txBox="1"/>
              <p:nvPr/>
            </p:nvSpPr>
            <p:spPr>
              <a:xfrm>
                <a:off x="1042920" y="4316400"/>
                <a:ext cx="1656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4"/>
              <p:cNvSpPr txBox="1"/>
              <p:nvPr/>
            </p:nvSpPr>
            <p:spPr>
              <a:xfrm>
                <a:off x="2957400" y="4173480"/>
                <a:ext cx="3486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C</m:t>
                    </m:r>
                    <m:r>
                      <m:t xml:space="preserve">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5"/>
              <p:cNvSpPr txBox="1"/>
              <p:nvPr/>
            </p:nvSpPr>
            <p:spPr>
              <a:xfrm>
                <a:off x="1116000" y="4770360"/>
                <a:ext cx="367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7"/>
              <p:cNvSpPr txBox="1"/>
              <p:nvPr/>
            </p:nvSpPr>
            <p:spPr>
              <a:xfrm>
                <a:off x="1114560" y="5315040"/>
                <a:ext cx="51861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28"/>
          <p:cNvSpPr/>
          <p:nvPr/>
        </p:nvSpPr>
        <p:spPr>
          <a:xfrm>
            <a:off x="2563200" y="37688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2626560" y="43164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732560" y="417528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1"/>
          <p:cNvSpPr/>
          <p:nvPr/>
        </p:nvSpPr>
        <p:spPr>
          <a:xfrm>
            <a:off x="4732560" y="5019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34"/>
              <p:cNvSpPr txBox="1"/>
              <p:nvPr/>
            </p:nvSpPr>
            <p:spPr>
              <a:xfrm>
                <a:off x="1116000" y="1413000"/>
                <a:ext cx="2879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5897-0D14-4603-82D1-40C94D22D200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6A7E7A76-C8FA-4777-84F7-19688E6D32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Fungsi Harmonik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611280" y="11959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Contoh : Carilah fungsi analitik f(z) = U(x,y) + i V(x,y)  bila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22"/>
              <p:cNvSpPr txBox="1"/>
              <p:nvPr/>
            </p:nvSpPr>
            <p:spPr>
              <a:xfrm>
                <a:off x="755640" y="1557360"/>
                <a:ext cx="23050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7"/>
              <p:cNvSpPr txBox="1"/>
              <p:nvPr/>
            </p:nvSpPr>
            <p:spPr>
              <a:xfrm>
                <a:off x="782640" y="2768760"/>
                <a:ext cx="2349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6"/>
              <p:cNvSpPr txBox="1"/>
              <p:nvPr/>
            </p:nvSpPr>
            <p:spPr>
              <a:xfrm>
                <a:off x="3419640" y="2840040"/>
                <a:ext cx="1944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3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0"/>
              <p:cNvSpPr txBox="1"/>
              <p:nvPr/>
            </p:nvSpPr>
            <p:spPr>
              <a:xfrm>
                <a:off x="826920" y="3373560"/>
                <a:ext cx="32403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2"/>
              <p:cNvSpPr txBox="1"/>
              <p:nvPr/>
            </p:nvSpPr>
            <p:spPr>
              <a:xfrm>
                <a:off x="826920" y="3914640"/>
                <a:ext cx="2305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Rectangle 3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34"/>
              <p:cNvSpPr txBox="1"/>
              <p:nvPr/>
            </p:nvSpPr>
            <p:spPr>
              <a:xfrm>
                <a:off x="3276720" y="3733920"/>
                <a:ext cx="18525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3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8"/>
              <p:cNvSpPr txBox="1"/>
              <p:nvPr/>
            </p:nvSpPr>
            <p:spPr>
              <a:xfrm>
                <a:off x="826920" y="4452840"/>
                <a:ext cx="13287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4" name="Rectangle 4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0"/>
              <p:cNvSpPr txBox="1"/>
              <p:nvPr/>
            </p:nvSpPr>
            <p:spPr>
              <a:xfrm>
                <a:off x="2771640" y="4367160"/>
                <a:ext cx="2952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Rectangle 4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42"/>
              <p:cNvSpPr txBox="1"/>
              <p:nvPr/>
            </p:nvSpPr>
            <p:spPr>
              <a:xfrm>
                <a:off x="826920" y="4869000"/>
                <a:ext cx="15116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8" name="Rectangle 4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44"/>
              <p:cNvSpPr txBox="1"/>
              <p:nvPr/>
            </p:nvSpPr>
            <p:spPr>
              <a:xfrm>
                <a:off x="3059280" y="4869000"/>
                <a:ext cx="16920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Text Box 46"/>
          <p:cNvSpPr/>
          <p:nvPr/>
        </p:nvSpPr>
        <p:spPr>
          <a:xfrm>
            <a:off x="2483640" y="4976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7"/>
              <p:cNvSpPr txBox="1"/>
              <p:nvPr/>
            </p:nvSpPr>
            <p:spPr>
              <a:xfrm>
                <a:off x="826920" y="5373720"/>
                <a:ext cx="3097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5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9"/>
              <p:cNvSpPr txBox="1"/>
              <p:nvPr/>
            </p:nvSpPr>
            <p:spPr>
              <a:xfrm>
                <a:off x="4573440" y="5370480"/>
                <a:ext cx="4175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5" name="Text Box 52"/>
          <p:cNvSpPr/>
          <p:nvPr/>
        </p:nvSpPr>
        <p:spPr>
          <a:xfrm>
            <a:off x="4080600" y="55101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3"/>
          <p:cNvSpPr/>
          <p:nvPr/>
        </p:nvSpPr>
        <p:spPr>
          <a:xfrm>
            <a:off x="2267640" y="44528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4"/>
          <p:cNvSpPr/>
          <p:nvPr/>
        </p:nvSpPr>
        <p:spPr>
          <a:xfrm>
            <a:off x="755640" y="2060640"/>
            <a:ext cx="794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U(x,y) sekawan harmonik dari V(x,y) sehingga berlaku PCR, Ux = Vy dan Uy = - V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B46D-AAE8-4B3E-BC4F-002760377522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0ECC921F-0570-4045-8F7C-4025D50DC6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kah fungsi berikut harmonik? Bila ya, carilah sekawan harmonik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xy –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sin 2x cosh 2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lah nilai k agar fungsi berikut harmo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k y ( x –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y3 – k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sin kx sinh 2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lah fungsi analitik f(z) = U(x,y) + i V(x,y) bi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sin x cosh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(x,y)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3x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1353960" y="2478240"/>
                <a:ext cx="343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69BB-AC3C-423A-8DA3-CE58D70FD220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0EA63859-9DB5-463F-BB12-065461FD29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Elementer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324000" y="1484280"/>
                <a:ext cx="1152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5"/>
              <p:cNvSpPr txBox="1"/>
              <p:nvPr/>
            </p:nvSpPr>
            <p:spPr>
              <a:xfrm>
                <a:off x="1476360" y="1501920"/>
                <a:ext cx="10080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2484360" y="1557360"/>
                <a:ext cx="647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898560" y="2131920"/>
                <a:ext cx="18730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Text Box 8"/>
          <p:cNvSpPr/>
          <p:nvPr/>
        </p:nvSpPr>
        <p:spPr>
          <a:xfrm>
            <a:off x="244800" y="2558880"/>
            <a:ext cx="43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pertama ada untuk setiap 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324000" y="2997360"/>
                <a:ext cx="15112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Text Box 10"/>
          <p:cNvSpPr/>
          <p:nvPr/>
        </p:nvSpPr>
        <p:spPr>
          <a:xfrm>
            <a:off x="307080" y="974880"/>
            <a:ext cx="21495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Eksp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327600" y="3700800"/>
            <a:ext cx="251532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Trigonomet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2"/>
              <p:cNvSpPr txBox="1"/>
              <p:nvPr/>
            </p:nvSpPr>
            <p:spPr>
              <a:xfrm>
                <a:off x="324000" y="4221000"/>
                <a:ext cx="2952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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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4"/>
              <p:cNvSpPr txBox="1"/>
              <p:nvPr/>
            </p:nvSpPr>
            <p:spPr>
              <a:xfrm>
                <a:off x="324000" y="4854600"/>
                <a:ext cx="29797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Rectangle 16"/>
          <p:cNvSpPr/>
          <p:nvPr/>
        </p:nvSpPr>
        <p:spPr>
          <a:xfrm>
            <a:off x="4721040" y="965520"/>
            <a:ext cx="221976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Hiperbol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7"/>
              <p:cNvSpPr txBox="1"/>
              <p:nvPr/>
            </p:nvSpPr>
            <p:spPr>
              <a:xfrm>
                <a:off x="4716360" y="1484280"/>
                <a:ext cx="29512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h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9"/>
              <p:cNvSpPr txBox="1"/>
              <p:nvPr/>
            </p:nvSpPr>
            <p:spPr>
              <a:xfrm>
                <a:off x="4686480" y="2133720"/>
                <a:ext cx="2939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h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6" name="Rectangle 21"/>
          <p:cNvSpPr/>
          <p:nvPr/>
        </p:nvSpPr>
        <p:spPr>
          <a:xfrm>
            <a:off x="4791600" y="2837160"/>
            <a:ext cx="22183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Logarit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4653720" y="3407400"/>
            <a:ext cx="29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= ln z dengan 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3"/>
              <p:cNvSpPr txBox="1"/>
              <p:nvPr/>
            </p:nvSpPr>
            <p:spPr>
              <a:xfrm>
                <a:off x="4788000" y="3933720"/>
                <a:ext cx="1079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9" name="Text Box 25"/>
          <p:cNvSpPr/>
          <p:nvPr/>
        </p:nvSpPr>
        <p:spPr>
          <a:xfrm>
            <a:off x="5992200" y="4040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6514920" y="398988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 z = ln r + 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4584600" y="4941720"/>
            <a:ext cx="418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pertama ada untuk setiap z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cuali z 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6516720" y="5445000"/>
                <a:ext cx="1224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Text Box 30"/>
          <p:cNvSpPr/>
          <p:nvPr/>
        </p:nvSpPr>
        <p:spPr>
          <a:xfrm>
            <a:off x="4695840" y="424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4591440" y="443088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uk                     disebut nilai prinsip d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2"/>
              <p:cNvSpPr txBox="1"/>
              <p:nvPr/>
            </p:nvSpPr>
            <p:spPr>
              <a:xfrm>
                <a:off x="5364000" y="4470480"/>
                <a:ext cx="936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≤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4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2614-CD2E-4CD0-B616-F50E2A71438C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5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E7374E8-AF9E-43E2-967A-D8C8EFF475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40"/>
              <p:cNvSpPr txBox="1"/>
              <p:nvPr/>
            </p:nvSpPr>
            <p:spPr>
              <a:xfrm>
                <a:off x="6948360" y="1687680"/>
                <a:ext cx="360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2" name="Rectangle 4"/>
          <p:cNvSpPr/>
          <p:nvPr/>
        </p:nvSpPr>
        <p:spPr>
          <a:xfrm>
            <a:off x="250920" y="81324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Tentukan bagian real 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gian  imajiner d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5"/>
              <p:cNvSpPr txBox="1"/>
              <p:nvPr/>
            </p:nvSpPr>
            <p:spPr>
              <a:xfrm>
                <a:off x="388800" y="1549440"/>
                <a:ext cx="1167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z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1692360" y="1595520"/>
                <a:ext cx="1224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7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2916360" y="1631880"/>
                <a:ext cx="1079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Rectangle 12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1"/>
              <p:cNvSpPr txBox="1"/>
              <p:nvPr/>
            </p:nvSpPr>
            <p:spPr>
              <a:xfrm>
                <a:off x="828720" y="2133720"/>
                <a:ext cx="2087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4"/>
              <p:cNvSpPr txBox="1"/>
              <p:nvPr/>
            </p:nvSpPr>
            <p:spPr>
              <a:xfrm>
                <a:off x="361800" y="2781360"/>
                <a:ext cx="2194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3"/>
              <p:cNvSpPr txBox="1"/>
              <p:nvPr/>
            </p:nvSpPr>
            <p:spPr>
              <a:xfrm>
                <a:off x="395280" y="3567240"/>
                <a:ext cx="23763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Rectangle 16"/>
          <p:cNvSpPr/>
          <p:nvPr/>
        </p:nvSpPr>
        <p:spPr>
          <a:xfrm>
            <a:off x="1800" y="3161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720" y="3712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2"/>
          <p:cNvSpPr/>
          <p:nvPr/>
        </p:nvSpPr>
        <p:spPr>
          <a:xfrm>
            <a:off x="4427640" y="74016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3). Hitung nilai prinsip dari ln z bi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  <a:ea typeface="Arial"/>
              </a:rPr>
              <a:t>z = -1 –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3"/>
          <p:cNvSpPr/>
          <p:nvPr/>
        </p:nvSpPr>
        <p:spPr>
          <a:xfrm>
            <a:off x="4491720" y="16635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-1 – 1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6061320" y="1622520"/>
            <a:ext cx="10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6084000" y="2095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36"/>
              <p:cNvSpPr txBox="1"/>
              <p:nvPr/>
            </p:nvSpPr>
            <p:spPr>
              <a:xfrm>
                <a:off x="6559560" y="1954080"/>
                <a:ext cx="21160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Rectangle 3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8"/>
              <p:cNvSpPr txBox="1"/>
              <p:nvPr/>
            </p:nvSpPr>
            <p:spPr>
              <a:xfrm>
                <a:off x="4913280" y="4186080"/>
                <a:ext cx="21240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6" name="Object 45"/>
          <p:cNvGraphicFramePr/>
          <p:nvPr/>
        </p:nvGraphicFramePr>
        <p:xfrm>
          <a:off x="4761000" y="2979720"/>
          <a:ext cx="302580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979720"/>
                    <a:ext cx="3025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47"/>
          <p:cNvSpPr/>
          <p:nvPr/>
        </p:nvSpPr>
        <p:spPr>
          <a:xfrm>
            <a:off x="4565520" y="3608280"/>
            <a:ext cx="25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lai prinsip dari ln z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C06D-078F-447F-ABD7-C8516459D3BC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32436155-01E5-479F-ADC3-F705067CC7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ukan bagian real dan bagian imajiner d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sinh iz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ln ( z – i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cosh z – cosh 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atakan berikut ke dalam bentuk U + i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h ( 3 + 2i) – sinh ( 2 – 3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h ( 6 + 8i ) + cosh ( 6 – 8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saikan persamaan berik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 – 4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n (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) = ½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h z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ub Pokok Bahas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Ana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Harmo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Elem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B031-012A-43EF-B3EE-26616A007D4F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B3E3C29-7464-40CC-8C27-9279ABB656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CD14-785E-4A32-973D-F2D6043C76D6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51319886-1592-4CD2-B087-8A0D6915A4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130320"/>
            <a:ext cx="698508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finisi Fungsi Analitik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453708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f(z) diseb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itik pada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impunan buka) bila f ’(z) ada untu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 (atau  f(z) berlaku PCR untu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ungsi f(z) disebut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alitik di z = z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bila f(z) analitik pada lingkungan dari z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( Lingkungan dari z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adalah lingkaran buka yang berpusat di z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dan berjari-jari r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ungsi f(z) disebut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ntire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bila f(z) analitik untuk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z di C ( f(z) berlaku PCR untuk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z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C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ila f(z) gagal analitik di  z = z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(atau f(z) tidak berlaku PCR di z = z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) maka  z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disebut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itik singular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dari f(z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7236000" y="555840"/>
            <a:ext cx="1296720" cy="2093400"/>
            <a:chOff x="7236000" y="555840"/>
            <a:chExt cx="1296720" cy="2093400"/>
          </a:xfrm>
        </p:grpSpPr>
        <p:sp>
          <p:nvSpPr>
            <p:cNvPr id="59" name="Oval 5"/>
            <p:cNvSpPr/>
            <p:nvPr/>
          </p:nvSpPr>
          <p:spPr>
            <a:xfrm>
              <a:off x="7236000" y="555840"/>
              <a:ext cx="1296720" cy="209340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6"/>
            <p:cNvSpPr/>
            <p:nvPr/>
          </p:nvSpPr>
          <p:spPr>
            <a:xfrm>
              <a:off x="7746480" y="1420560"/>
              <a:ext cx="549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7"/>
          <p:cNvGrpSpPr/>
          <p:nvPr/>
        </p:nvGrpSpPr>
        <p:grpSpPr>
          <a:xfrm>
            <a:off x="4788000" y="975240"/>
            <a:ext cx="2130480" cy="1426320"/>
            <a:chOff x="4788000" y="975240"/>
            <a:chExt cx="2130480" cy="1426320"/>
          </a:xfrm>
        </p:grpSpPr>
        <p:sp>
          <p:nvSpPr>
            <p:cNvPr id="62" name="Oval 8"/>
            <p:cNvSpPr/>
            <p:nvPr/>
          </p:nvSpPr>
          <p:spPr>
            <a:xfrm>
              <a:off x="4788000" y="975240"/>
              <a:ext cx="2130480" cy="14263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5551560" y="1628640"/>
              <a:ext cx="1079640" cy="43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AutoShape 10"/>
          <p:cNvSpPr/>
          <p:nvPr/>
        </p:nvSpPr>
        <p:spPr>
          <a:xfrm>
            <a:off x="5078160" y="3250080"/>
            <a:ext cx="965880" cy="797040"/>
          </a:xfrm>
          <a:prstGeom prst="rightArrow">
            <a:avLst>
              <a:gd name="adj1" fmla="val 50000"/>
              <a:gd name="adj2" fmla="val 3029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6457320" y="3243240"/>
            <a:ext cx="1143720" cy="797040"/>
          </a:xfrm>
          <a:prstGeom prst="rightArrow">
            <a:avLst>
              <a:gd name="adj1" fmla="val 50000"/>
              <a:gd name="adj2" fmla="val 3587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5861880" y="4180320"/>
            <a:ext cx="1905840" cy="797040"/>
          </a:xfrm>
          <a:prstGeom prst="leftArrow">
            <a:avLst>
              <a:gd name="adj1" fmla="val 50000"/>
              <a:gd name="adj2" fmla="val 597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erensi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3500280"/>
            <a:ext cx="936720" cy="1297080"/>
          </a:xfrm>
          <a:custGeom>
            <a:avLst/>
            <a:gdLst>
              <a:gd name="textAreaLeft" fmla="*/ 125280 w 936720"/>
              <a:gd name="textAreaRight" fmla="*/ 811440 w 93672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4646520" y="4366440"/>
            <a:ext cx="1085760" cy="441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7885080" y="1052640"/>
            <a:ext cx="28728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7842240" y="1073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FD54-7F5C-4C28-B351-2A931650768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D75D9508-3CAF-4CC8-80BB-019A008428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49480" y="907200"/>
            <a:ext cx="29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ilah titik singular d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338040" y="1353960"/>
                <a:ext cx="18576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3132000" y="1413000"/>
                <a:ext cx="1656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5651640" y="1413000"/>
                <a:ext cx="20872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Rectangle 8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179280" y="2202120"/>
            <a:ext cx="28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mbuat nol penyebut z = 2, sehingga f(z) diskontinu di z = 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tidak diferensiabel di z = 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z) tidak  analitik di z = 2. Jadi z = 2 titik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2987640" y="2248200"/>
            <a:ext cx="28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mbuat nol penyebut z = i dan z = -i, sehingga f(z) diskontinu di z = i dan z = -i </a:t>
            </a:r>
            <a:r>
              <a:rPr b="0" lang="en-US" sz="20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(z) tidak diferensiabel </a:t>
            </a:r>
            <a:r>
              <a:rPr b="0" lang="en-US" sz="20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f(z) tidak analitik di z = i dan z = -i Jadi z = i dan z = -i titik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5940360" y="2275200"/>
            <a:ext cx="28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mbuat nol penyebut z = 3 dan z = -1, sehingga f(z) diskontinu di z = 3 dan z = -1 </a:t>
            </a:r>
            <a:r>
              <a:rPr b="0" lang="en-US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(z) tidak diferensiabel </a:t>
            </a:r>
            <a:r>
              <a:rPr b="0" lang="en-US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f(z) tidak analitik di z = 3 dan z = -1. Jadi z = 3 dan z = -1 titik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4"/>
              <p:cNvSpPr txBox="1"/>
              <p:nvPr/>
            </p:nvSpPr>
            <p:spPr>
              <a:xfrm>
                <a:off x="7740720" y="1557360"/>
                <a:ext cx="1403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042F-4485-4483-83FF-190FB5D43EBF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443C734E-4579-46FE-A2C4-B94D670A85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46240" y="827640"/>
            <a:ext cx="40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riksa apakah f(z) fungsi analit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da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973080" y="1400040"/>
                <a:ext cx="1654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Rectangle 7"/>
          <p:cNvSpPr/>
          <p:nvPr/>
        </p:nvSpPr>
        <p:spPr>
          <a:xfrm>
            <a:off x="248040" y="226116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D : | z + 1 |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3"/>
          <p:cNvGrpSpPr/>
          <p:nvPr/>
        </p:nvGrpSpPr>
        <p:grpSpPr>
          <a:xfrm>
            <a:off x="466560" y="2997360"/>
            <a:ext cx="2017440" cy="1441440"/>
            <a:chOff x="466560" y="2997360"/>
            <a:chExt cx="2017440" cy="1441440"/>
          </a:xfrm>
        </p:grpSpPr>
        <p:sp>
          <p:nvSpPr>
            <p:cNvPr id="96" name="Line 9"/>
            <p:cNvSpPr/>
            <p:nvPr/>
          </p:nvSpPr>
          <p:spPr>
            <a:xfrm flipV="1">
              <a:off x="1402920" y="2997360"/>
              <a:ext cx="0" cy="14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466560" y="3862800"/>
              <a:ext cx="20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1402920" y="38628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2102040" y="388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Oval 14"/>
          <p:cNvSpPr/>
          <p:nvPr/>
        </p:nvSpPr>
        <p:spPr>
          <a:xfrm>
            <a:off x="539640" y="3371040"/>
            <a:ext cx="863640" cy="90828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2268360" y="2852640"/>
            <a:ext cx="1656000" cy="647640"/>
          </a:xfrm>
          <a:prstGeom prst="wedgeEllipseCallout">
            <a:avLst>
              <a:gd name="adj1" fmla="val -47509"/>
              <a:gd name="adj2" fmla="val 85537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ik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376200" y="4583160"/>
            <a:ext cx="39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dalam D tidak terdapat titik singular sehingga f(z) analitik pad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714920" y="9802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. D :  | z | &lt;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5"/>
          <p:cNvGrpSpPr/>
          <p:nvPr/>
        </p:nvGrpSpPr>
        <p:grpSpPr>
          <a:xfrm>
            <a:off x="4788000" y="1771200"/>
            <a:ext cx="3024000" cy="2737080"/>
            <a:chOff x="4788000" y="1771200"/>
            <a:chExt cx="3024000" cy="2737080"/>
          </a:xfrm>
        </p:grpSpPr>
        <p:sp>
          <p:nvSpPr>
            <p:cNvPr id="105" name="Line 19"/>
            <p:cNvSpPr/>
            <p:nvPr/>
          </p:nvSpPr>
          <p:spPr>
            <a:xfrm flipV="1">
              <a:off x="6156360" y="1771200"/>
              <a:ext cx="0" cy="273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>
              <a:off x="4788000" y="3068640"/>
              <a:ext cx="30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154560" y="30686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2"/>
            <p:cNvSpPr/>
            <p:nvPr/>
          </p:nvSpPr>
          <p:spPr>
            <a:xfrm>
              <a:off x="6851520" y="30891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Oval 24"/>
          <p:cNvSpPr/>
          <p:nvPr/>
        </p:nvSpPr>
        <p:spPr>
          <a:xfrm>
            <a:off x="4859280" y="1843560"/>
            <a:ext cx="2592360" cy="2459880"/>
          </a:xfrm>
          <a:prstGeom prst="ellipse">
            <a:avLst/>
          </a:prstGeom>
          <a:gradFill rotWithShape="0">
            <a:gsLst>
              <a:gs pos="0">
                <a:srgbClr val="ffff99">
                  <a:alpha val="50196"/>
                </a:srgbClr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4624560" y="4583160"/>
            <a:ext cx="390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itik singular z = 2 terdapat di dalam D sehingga f(z) tidak analitik pad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C969-07A4-4F93-8560-7E92249F3BF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2E123568-13AA-4828-B2CA-1E6FA1B063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41920" y="892800"/>
            <a:ext cx="47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= xy – ixy merupakan fungsi entire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41200" y="137556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 x,y ) = x y   dan  V( x,y ) = - x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324000" y="1844640"/>
                <a:ext cx="17269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8"/>
              <p:cNvSpPr txBox="1"/>
              <p:nvPr/>
            </p:nvSpPr>
            <p:spPr>
              <a:xfrm>
                <a:off x="2467080" y="1844640"/>
                <a:ext cx="18176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324000" y="2282760"/>
                <a:ext cx="168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2484360" y="2276640"/>
                <a:ext cx="1943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16"/>
          <p:cNvSpPr/>
          <p:nvPr/>
        </p:nvSpPr>
        <p:spPr>
          <a:xfrm>
            <a:off x="1800" y="2924280"/>
            <a:ext cx="18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303120" y="2871720"/>
            <a:ext cx="462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idak berlaku PCR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f(z) bukan fungsi 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324000" y="358992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kah fungsi f(z) = xy – ixy  analitik pada suatu titik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2"/>
              <p:cNvSpPr txBox="1"/>
              <p:nvPr/>
            </p:nvSpPr>
            <p:spPr>
              <a:xfrm>
                <a:off x="442800" y="4344840"/>
                <a:ext cx="36975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3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4"/>
              <p:cNvSpPr txBox="1"/>
              <p:nvPr/>
            </p:nvSpPr>
            <p:spPr>
              <a:xfrm>
                <a:off x="482760" y="4778280"/>
                <a:ext cx="3657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36"/>
          <p:cNvSpPr/>
          <p:nvPr/>
        </p:nvSpPr>
        <p:spPr>
          <a:xfrm>
            <a:off x="655920" y="5295960"/>
            <a:ext cx="28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0 dan y = 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0"/>
          <p:cNvGrpSpPr/>
          <p:nvPr/>
        </p:nvGrpSpPr>
        <p:grpSpPr>
          <a:xfrm>
            <a:off x="6156360" y="1125360"/>
            <a:ext cx="1655640" cy="1151280"/>
            <a:chOff x="6156360" y="1125360"/>
            <a:chExt cx="1655640" cy="1151280"/>
          </a:xfrm>
        </p:grpSpPr>
        <p:sp>
          <p:nvSpPr>
            <p:cNvPr id="130" name="Line 37"/>
            <p:cNvSpPr/>
            <p:nvPr/>
          </p:nvSpPr>
          <p:spPr>
            <a:xfrm>
              <a:off x="6877080" y="1125360"/>
              <a:ext cx="0" cy="115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>
              <a:off x="6156360" y="162864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6589800" y="1628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41"/>
          <p:cNvSpPr/>
          <p:nvPr/>
        </p:nvSpPr>
        <p:spPr>
          <a:xfrm>
            <a:off x="6588000" y="1341360"/>
            <a:ext cx="574920" cy="576360"/>
          </a:xfrm>
          <a:prstGeom prst="ellipse">
            <a:avLst/>
          </a:prstGeom>
          <a:solidFill>
            <a:srgbClr val="ffff00">
              <a:alpha val="5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5148360" y="263052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laku PCR di z = 0 namun  tidak analitik di z = 0 sebab tidak dapat dibuat lingkungan di z = 0 sehingga  berlaku PCR pada lingkungan terseb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4"/>
          <p:cNvSpPr/>
          <p:nvPr/>
        </p:nvSpPr>
        <p:spPr>
          <a:xfrm>
            <a:off x="7743960" y="79380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0694"/>
              <a:gd name="adj5" fmla="val 136981"/>
              <a:gd name="adj6" fmla="val -94791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125680" y="4451400"/>
            <a:ext cx="380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t : Karena PCR berlaku di z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a f(z) mempunyai turun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58E0-9838-4641-89B6-D47668997943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B5BB3E86-B73F-44E0-A9FE-5B74DB986C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86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lah titik singular dari fungsi berik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idiki fungsi berikut entire, analitik pada pada suatu titik atau hanya diferensi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1244520" y="1484280"/>
                <a:ext cx="23907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1249200" y="2276640"/>
                <a:ext cx="31878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Rectangle 9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4859280" y="1484280"/>
                <a:ext cx="2575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184400" y="4005360"/>
                <a:ext cx="22352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12"/>
          <p:cNvGraphicFramePr/>
          <p:nvPr/>
        </p:nvGraphicFramePr>
        <p:xfrm>
          <a:off x="1190520" y="4573440"/>
          <a:ext cx="28180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4573440"/>
                    <a:ext cx="28180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1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4"/>
              <p:cNvSpPr txBox="1"/>
              <p:nvPr/>
            </p:nvSpPr>
            <p:spPr>
              <a:xfrm>
                <a:off x="1208160" y="5194440"/>
                <a:ext cx="43005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209A-A571-470F-9476-B0B5EDA933AD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BE2F41B4-F546-4BA7-B93E-65F6B28064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Harmonik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9840" y="1059480"/>
            <a:ext cx="81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ungsi H(x,y) disebut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ungsi harmonik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bila  berlaku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971640" y="1484280"/>
                <a:ext cx="3024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5651640" y="2990880"/>
                <a:ext cx="2087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 Box 8"/>
          <p:cNvSpPr/>
          <p:nvPr/>
        </p:nvSpPr>
        <p:spPr>
          <a:xfrm>
            <a:off x="532440" y="3068640"/>
            <a:ext cx="500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: Tunjukkan H(x,y) fungsi harmo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1763640" y="3430440"/>
                <a:ext cx="20890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1763640" y="3943440"/>
                <a:ext cx="21448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3"/>
              <p:cNvSpPr txBox="1"/>
              <p:nvPr/>
            </p:nvSpPr>
            <p:spPr>
              <a:xfrm>
                <a:off x="4067280" y="3405240"/>
                <a:ext cx="2087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1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4140360" y="3911760"/>
                <a:ext cx="2232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1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7"/>
              <p:cNvSpPr txBox="1"/>
              <p:nvPr/>
            </p:nvSpPr>
            <p:spPr>
              <a:xfrm>
                <a:off x="1720800" y="4653000"/>
                <a:ext cx="6254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9"/>
          <p:cNvSpPr/>
          <p:nvPr/>
        </p:nvSpPr>
        <p:spPr>
          <a:xfrm>
            <a:off x="466560" y="190692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U(x,y) dan V(x,y) harmonik pada D dan berlaku PCR, maka V(x,y) diseb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jugate ( sekawan ) harmon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U(x,y) atau sebalik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9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712C-EC8B-4D1B-8D90-3B29C1621F6B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6AC3F39A-02D3-46AC-96B5-9FAA7A78F4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ekawan Harmonik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755640" y="195156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G(x,y) merupakan sekawan harmonik dari H(x,y), maka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675000" y="1052640"/>
            <a:ext cx="57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: Tentukan sekawan harmonik dari H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0"/>
              <p:cNvSpPr txBox="1"/>
              <p:nvPr/>
            </p:nvSpPr>
            <p:spPr>
              <a:xfrm>
                <a:off x="826920" y="2421000"/>
                <a:ext cx="57848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Rectangle 2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2"/>
              <p:cNvSpPr txBox="1"/>
              <p:nvPr/>
            </p:nvSpPr>
            <p:spPr>
              <a:xfrm>
                <a:off x="871560" y="2852640"/>
                <a:ext cx="3024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4"/>
              <p:cNvSpPr txBox="1"/>
              <p:nvPr/>
            </p:nvSpPr>
            <p:spPr>
              <a:xfrm>
                <a:off x="900000" y="3357720"/>
                <a:ext cx="2519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Rectangle 2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6"/>
              <p:cNvSpPr txBox="1"/>
              <p:nvPr/>
            </p:nvSpPr>
            <p:spPr>
              <a:xfrm>
                <a:off x="3492360" y="3357720"/>
                <a:ext cx="20163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7"/>
              <p:cNvSpPr txBox="1"/>
              <p:nvPr/>
            </p:nvSpPr>
            <p:spPr>
              <a:xfrm>
                <a:off x="1835280" y="1413000"/>
                <a:ext cx="2305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914400" y="3838680"/>
                <a:ext cx="3225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900000" y="4437000"/>
                <a:ext cx="3600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2"/>
              <p:cNvSpPr txBox="1"/>
              <p:nvPr/>
            </p:nvSpPr>
            <p:spPr>
              <a:xfrm>
                <a:off x="900000" y="5157720"/>
                <a:ext cx="1224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Text Box 33"/>
          <p:cNvSpPr/>
          <p:nvPr/>
        </p:nvSpPr>
        <p:spPr>
          <a:xfrm>
            <a:off x="2176920" y="50846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(x)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4"/>
              <p:cNvSpPr txBox="1"/>
              <p:nvPr/>
            </p:nvSpPr>
            <p:spPr>
              <a:xfrm>
                <a:off x="900000" y="5445000"/>
                <a:ext cx="25923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1" name="AutoShape 35"/>
          <p:cNvCxnSpPr/>
          <p:nvPr/>
        </p:nvCxnSpPr>
        <p:spPr>
          <a:xfrm flipV="1">
            <a:off x="4140000" y="2613960"/>
            <a:ext cx="2472120" cy="1486440"/>
          </a:xfrm>
          <a:prstGeom prst="bentConnector3">
            <a:avLst>
              <a:gd name="adj1" fmla="val 109248"/>
            </a:avLst>
          </a:prstGeom>
          <a:ln w="284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  <p:transition>
    <p:cover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4-09T01:16:53Z</dcterms:modified>
  <cp:revision>76</cp:revision>
  <dc:subject/>
  <dc:title>Slide 1</dc:title>
</cp:coreProperties>
</file>