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25.gif" ContentType="image/gif"/>
  <Override PartName="/ppt/media/image18.png" ContentType="image/png"/>
  <Override PartName="/ppt/media/image28.png" ContentType="image/png"/>
  <Override PartName="/ppt/media/image7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32.png" ContentType="image/png"/>
  <Override PartName="/ppt/media/image41.jpeg" ContentType="image/jpeg"/>
  <Override PartName="/ppt/media/image42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12.jpeg" ContentType="image/jpe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44B-811F-45B1-A21B-A98DBB3E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A1F-E3D2-447C-9CDC-CC358E7D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38C-4CFE-4885-8945-8004E32D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F1B4-984F-49EE-A8A8-8D391CE0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F25-B4F2-4B8C-8975-7D302E5C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027-8031-437B-9C6D-AB0A23AE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3B2-ECFC-4ACC-A5D1-53917A75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9C8-59A6-47F9-89F3-A51B4BFE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FA8-5B6F-4535-9A95-68E7D230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0AA-3594-4D31-9644-FEBE300C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BB5C-C1A1-4DEB-B164-BD633CC4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045-DC3A-44EE-8844-27D41D89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C4D5-970C-40D3-A5A0-170FB5A5ED44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5760" y="1487520"/>
            <a:ext cx="5072040" cy="40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ALFABET98"/>
              </a:rPr>
              <a:t>GÖRGÜ KURALLAR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Resim" descr="BoyWithBanana.gif"/>
          <p:cNvPicPr/>
          <p:nvPr/>
        </p:nvPicPr>
        <p:blipFill>
          <a:blip r:embed="rId1"/>
          <a:stretch/>
        </p:blipFill>
        <p:spPr>
          <a:xfrm>
            <a:off x="857160" y="2631960"/>
            <a:ext cx="2857680" cy="3940200"/>
          </a:xfrm>
          <a:prstGeom prst="rect">
            <a:avLst/>
          </a:prstGeom>
          <a:ln w="0">
            <a:noFill/>
          </a:ln>
        </p:spPr>
      </p:pic>
      <p:pic>
        <p:nvPicPr>
          <p:cNvPr id="69" name="2 Resim" descr="kız.jpg"/>
          <p:cNvPicPr/>
          <p:nvPr/>
        </p:nvPicPr>
        <p:blipFill>
          <a:blip r:embed="rId2"/>
          <a:stretch/>
        </p:blipFill>
        <p:spPr>
          <a:xfrm>
            <a:off x="5500800" y="2685960"/>
            <a:ext cx="2617560" cy="3886200"/>
          </a:xfrm>
          <a:prstGeom prst="rect">
            <a:avLst/>
          </a:prstGeom>
          <a:ln w="0">
            <a:noFill/>
          </a:ln>
        </p:spPr>
      </p:pic>
      <p:sp>
        <p:nvSpPr>
          <p:cNvPr id="70" name="1 Başlık"/>
          <p:cNvSpPr/>
          <p:nvPr/>
        </p:nvSpPr>
        <p:spPr>
          <a:xfrm>
            <a:off x="285840" y="214200"/>
            <a:ext cx="8715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Görgü kurallarına uymak bizi diğer insanlalara yaklaştırır. Sıcak ilişkiler kurarız.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Arkadaşlık bağlarımız güçlen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4 Köşeleri Yuvarlanmış Dikdörtgen Belirtme Çizgisi"/>
          <p:cNvGrpSpPr/>
          <p:nvPr/>
        </p:nvGrpSpPr>
        <p:grpSpPr>
          <a:xfrm>
            <a:off x="4383000" y="324000"/>
            <a:ext cx="4084560" cy="2247840"/>
            <a:chOff x="4383000" y="324000"/>
            <a:chExt cx="4084560" cy="2247840"/>
          </a:xfrm>
        </p:grpSpPr>
        <p:pic>
          <p:nvPicPr>
            <p:cNvPr id="72" name="4 Köşeleri Yuvarlanmış Dikdörtgen Belirtme Çizgisi" descr=""/>
            <p:cNvPicPr/>
            <p:nvPr/>
          </p:nvPicPr>
          <p:blipFill>
            <a:blip r:embed="rId3"/>
            <a:stretch/>
          </p:blipFill>
          <p:spPr>
            <a:xfrm>
              <a:off x="4383000" y="324000"/>
              <a:ext cx="408456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564080" y="420840"/>
              <a:ext cx="3730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800" spc="-1" strike="noStrike">
                  <a:solidFill>
                    <a:srgbClr val="ffffff"/>
                  </a:solidFill>
                  <a:latin typeface="ALFABET98"/>
                </a:rPr>
                <a:t>Afiyet olsun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5 Köşeleri Yuvarlanmış Dikdörtgen Belirtme Çizgisi"/>
          <p:cNvGrpSpPr/>
          <p:nvPr/>
        </p:nvGrpSpPr>
        <p:grpSpPr>
          <a:xfrm>
            <a:off x="79200" y="324000"/>
            <a:ext cx="3975120" cy="2400120"/>
            <a:chOff x="79200" y="324000"/>
            <a:chExt cx="3975120" cy="2400120"/>
          </a:xfrm>
        </p:grpSpPr>
        <p:pic>
          <p:nvPicPr>
            <p:cNvPr id="75" name="5 Köşeleri Yuvarlanmış Dikdörtgen Belirtme Çizgisi" descr=""/>
            <p:cNvPicPr/>
            <p:nvPr/>
          </p:nvPicPr>
          <p:blipFill>
            <a:blip r:embed="rId4"/>
            <a:stretch/>
          </p:blipFill>
          <p:spPr>
            <a:xfrm>
              <a:off x="79200" y="324000"/>
              <a:ext cx="3975120" cy="24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06280" y="420840"/>
              <a:ext cx="3730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800" spc="-1" strike="noStrike">
                  <a:solidFill>
                    <a:srgbClr val="ffffff"/>
                  </a:solidFill>
                  <a:latin typeface="ALFABET98"/>
                </a:rPr>
                <a:t>Sağolun.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Başlık"/>
          <p:cNvSpPr/>
          <p:nvPr/>
        </p:nvSpPr>
        <p:spPr>
          <a:xfrm>
            <a:off x="214200" y="0"/>
            <a:ext cx="8715600" cy="150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Görgü kurallarına uyarken sihirli sözcükler kullanmak zorundayız.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Bunl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 Başlık"/>
          <p:cNvSpPr/>
          <p:nvPr/>
        </p:nvSpPr>
        <p:spPr>
          <a:xfrm>
            <a:off x="285840" y="164304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Günaydı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 Başlık"/>
          <p:cNvSpPr/>
          <p:nvPr/>
        </p:nvSpPr>
        <p:spPr>
          <a:xfrm>
            <a:off x="285840" y="228600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2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İyi gü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 Başlık"/>
          <p:cNvSpPr/>
          <p:nvPr/>
        </p:nvSpPr>
        <p:spPr>
          <a:xfrm>
            <a:off x="285840" y="300024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3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Afedersin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 Başlık"/>
          <p:cNvSpPr/>
          <p:nvPr/>
        </p:nvSpPr>
        <p:spPr>
          <a:xfrm>
            <a:off x="285840" y="364320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4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Özür diler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 Başlık"/>
          <p:cNvSpPr/>
          <p:nvPr/>
        </p:nvSpPr>
        <p:spPr>
          <a:xfrm>
            <a:off x="285840" y="421488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5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Lütf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Başlık"/>
          <p:cNvSpPr/>
          <p:nvPr/>
        </p:nvSpPr>
        <p:spPr>
          <a:xfrm>
            <a:off x="285840" y="485784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6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Teşekkür eder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Başlık"/>
          <p:cNvSpPr/>
          <p:nvPr/>
        </p:nvSpPr>
        <p:spPr>
          <a:xfrm>
            <a:off x="285840" y="550080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7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Geçmiş ol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Başlık"/>
          <p:cNvSpPr/>
          <p:nvPr/>
        </p:nvSpPr>
        <p:spPr>
          <a:xfrm>
            <a:off x="5214960" y="1643040"/>
            <a:ext cx="3857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8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İyi gü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 Başlık"/>
          <p:cNvSpPr/>
          <p:nvPr/>
        </p:nvSpPr>
        <p:spPr>
          <a:xfrm>
            <a:off x="5214960" y="2357280"/>
            <a:ext cx="3857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9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Buyrun-efend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 Başlık"/>
          <p:cNvSpPr/>
          <p:nvPr/>
        </p:nvSpPr>
        <p:spPr>
          <a:xfrm>
            <a:off x="4857840" y="300024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0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Rica eder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 Başlık"/>
          <p:cNvSpPr/>
          <p:nvPr/>
        </p:nvSpPr>
        <p:spPr>
          <a:xfrm>
            <a:off x="4857840" y="357192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1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İyi gece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Başlık"/>
          <p:cNvSpPr/>
          <p:nvPr/>
        </p:nvSpPr>
        <p:spPr>
          <a:xfrm>
            <a:off x="4857840" y="421488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2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Hoşçakalı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 Başlık"/>
          <p:cNvSpPr/>
          <p:nvPr/>
        </p:nvSpPr>
        <p:spPr>
          <a:xfrm>
            <a:off x="4857840" y="485784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3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Elinize sağlı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 Başlık"/>
          <p:cNvSpPr/>
          <p:nvPr/>
        </p:nvSpPr>
        <p:spPr>
          <a:xfrm>
            <a:off x="4857840" y="5500800"/>
            <a:ext cx="4286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4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Sağlıcakla kalı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2 Dikdörtgen"/>
          <p:cNvSpPr/>
          <p:nvPr/>
        </p:nvSpPr>
        <p:spPr>
          <a:xfrm>
            <a:off x="357120" y="5716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Her zaman </a:t>
            </a: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"Lütfen" 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ve </a:t>
            </a: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"Teşekkür ederim" 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demeyi unutmayı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 Dikdörtgen"/>
          <p:cNvSpPr/>
          <p:nvPr/>
        </p:nvSpPr>
        <p:spPr>
          <a:xfrm>
            <a:off x="285840" y="218916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Büyükleriniz size  hitap ettiğinde, </a:t>
            </a: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‘’Buyurun efendim.’’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 diye karşılık ve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Dikdörtgen"/>
          <p:cNvSpPr/>
          <p:nvPr/>
        </p:nvSpPr>
        <p:spPr>
          <a:xfrm>
            <a:off x="214200" y="357192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Birisini eleştireceğiniz zaman karşınızdaki insanın duygularını göz önünde bulundurun ve kişi ile özel olarak konuşmaya özen göster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7 Resim" descr="grl_wave.gif"/>
          <p:cNvPicPr/>
          <p:nvPr/>
        </p:nvPicPr>
        <p:blipFill>
          <a:blip r:embed="rId1"/>
          <a:stretch/>
        </p:blipFill>
        <p:spPr>
          <a:xfrm>
            <a:off x="5143680" y="45007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Resim" descr="tea.gif"/>
          <p:cNvPicPr/>
          <p:nvPr/>
        </p:nvPicPr>
        <p:blipFill>
          <a:blip r:embed="rId1"/>
          <a:stretch/>
        </p:blipFill>
        <p:spPr>
          <a:xfrm>
            <a:off x="577800" y="2571840"/>
            <a:ext cx="8137440" cy="4130640"/>
          </a:xfrm>
          <a:prstGeom prst="rect">
            <a:avLst/>
          </a:prstGeom>
          <a:ln w="0">
            <a:noFill/>
          </a:ln>
        </p:spPr>
      </p:pic>
      <p:grpSp>
        <p:nvGrpSpPr>
          <p:cNvPr id="97" name="2 Köşeleri Yuvarlanmış Dikdörtgen Belirtme Çizgisi"/>
          <p:cNvGrpSpPr/>
          <p:nvPr/>
        </p:nvGrpSpPr>
        <p:grpSpPr>
          <a:xfrm>
            <a:off x="4651200" y="347760"/>
            <a:ext cx="3975120" cy="3711600"/>
            <a:chOff x="4651200" y="347760"/>
            <a:chExt cx="3975120" cy="3711600"/>
          </a:xfrm>
        </p:grpSpPr>
        <p:pic>
          <p:nvPicPr>
            <p:cNvPr id="98" name="2 Köşeleri Yuvarlanmış Dikdörtgen Belirtme Çizgisi" descr=""/>
            <p:cNvPicPr/>
            <p:nvPr/>
          </p:nvPicPr>
          <p:blipFill>
            <a:blip r:embed="rId2"/>
            <a:stretch/>
          </p:blipFill>
          <p:spPr>
            <a:xfrm>
              <a:off x="4651200" y="347760"/>
              <a:ext cx="3975120" cy="37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778280" y="492120"/>
              <a:ext cx="3730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3600" spc="-1" strike="noStrike">
                  <a:solidFill>
                    <a:srgbClr val="ffffff"/>
                  </a:solidFill>
                  <a:latin typeface="ALFABET98"/>
                </a:rPr>
                <a:t>Anneciğim kek alabilir miyim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3 Köşeleri Yuvarlanmış Dikdörtgen Belirtme Çizgisi"/>
          <p:cNvGrpSpPr/>
          <p:nvPr/>
        </p:nvGrpSpPr>
        <p:grpSpPr>
          <a:xfrm>
            <a:off x="4718160" y="463680"/>
            <a:ext cx="4181400" cy="2869920"/>
            <a:chOff x="4718160" y="463680"/>
            <a:chExt cx="4181400" cy="2869920"/>
          </a:xfrm>
        </p:grpSpPr>
        <p:pic>
          <p:nvPicPr>
            <p:cNvPr id="101" name="3 Köşeleri Yuvarlanmış Dikdörtgen Belirtme Çizgisi" descr=""/>
            <p:cNvPicPr/>
            <p:nvPr/>
          </p:nvPicPr>
          <p:blipFill>
            <a:blip r:embed="rId3"/>
            <a:stretch/>
          </p:blipFill>
          <p:spPr>
            <a:xfrm>
              <a:off x="4718160" y="463680"/>
              <a:ext cx="4181400" cy="28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30920" y="563400"/>
              <a:ext cx="3730320" cy="11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3600" spc="-1" strike="noStrike">
                  <a:solidFill>
                    <a:srgbClr val="ffffff"/>
                  </a:solidFill>
                  <a:latin typeface="ALFABET98"/>
                </a:rPr>
                <a:t>Elbette Sibelciğim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4 Köşeleri Yuvarlanmış Dikdörtgen Belirtme Çizgisi"/>
          <p:cNvGrpSpPr/>
          <p:nvPr/>
        </p:nvGrpSpPr>
        <p:grpSpPr>
          <a:xfrm>
            <a:off x="4724280" y="390600"/>
            <a:ext cx="3986280" cy="3668760"/>
            <a:chOff x="4724280" y="390600"/>
            <a:chExt cx="3986280" cy="3668760"/>
          </a:xfrm>
        </p:grpSpPr>
        <p:pic>
          <p:nvPicPr>
            <p:cNvPr id="104" name="4 Köşeleri Yuvarlanmış Dikdörtgen Belirtme Çizgisi" descr=""/>
            <p:cNvPicPr/>
            <p:nvPr/>
          </p:nvPicPr>
          <p:blipFill>
            <a:blip r:embed="rId4"/>
            <a:stretch/>
          </p:blipFill>
          <p:spPr>
            <a:xfrm>
              <a:off x="4724280" y="390600"/>
              <a:ext cx="398628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849920" y="492120"/>
              <a:ext cx="3730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3600" spc="-1" strike="noStrike">
                  <a:solidFill>
                    <a:srgbClr val="ffffff"/>
                  </a:solidFill>
                  <a:latin typeface="ALFABET98"/>
                </a:rPr>
                <a:t>Teşekkür ederim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643280" y="3300480"/>
            <a:ext cx="4071960" cy="3257640"/>
          </a:xfrm>
          <a:prstGeom prst="rect">
            <a:avLst/>
          </a:prstGeom>
          <a:ln w="0">
            <a:noFill/>
          </a:ln>
        </p:spPr>
      </p:pic>
      <p:sp>
        <p:nvSpPr>
          <p:cNvPr id="107" name="4 Dikdörtgen"/>
          <p:cNvSpPr/>
          <p:nvPr/>
        </p:nvSpPr>
        <p:spPr>
          <a:xfrm>
            <a:off x="285840" y="100008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Öksürürken yada esnerken ağzınızı kapatmayı unutmayın ve hemen elinizi yıkamaya özen göster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285840" y="3328920"/>
            <a:ext cx="3929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1 Dikdörtgen"/>
          <p:cNvSpPr/>
          <p:nvPr/>
        </p:nvSpPr>
        <p:spPr>
          <a:xfrm>
            <a:off x="285840" y="21420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Evde büyüklerin yanında daima terbiyeli olun. Yanlarına, izin alarak girin ve çıkı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Dikdörtgen"/>
          <p:cNvSpPr/>
          <p:nvPr/>
        </p:nvSpPr>
        <p:spPr>
          <a:xfrm>
            <a:off x="357120" y="150012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Büyüklerin sözüne izin almadan karışmayı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Dikdörtgen"/>
          <p:cNvSpPr/>
          <p:nvPr/>
        </p:nvSpPr>
        <p:spPr>
          <a:xfrm>
            <a:off x="357120" y="228600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Büyüklerin sözlerini dikkatle dinleyip </a:t>
            </a: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‘’peki efendim, baş üstüne’’ 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diyerek cevap ve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4 Dikdörtgen"/>
          <p:cNvSpPr/>
          <p:nvPr/>
        </p:nvSpPr>
        <p:spPr>
          <a:xfrm>
            <a:off x="357120" y="350028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Ana babanın yatak odalarına, kapıyı vurup izin almadan girmey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5 Dikdörtgen"/>
          <p:cNvSpPr/>
          <p:nvPr/>
        </p:nvSpPr>
        <p:spPr>
          <a:xfrm>
            <a:off x="285840" y="4714920"/>
            <a:ext cx="8501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Kardeşlerinize, bağlı ve saygılı olun. Küçükseniz sizden büyük kardeşlerine hürmet gösterin,. onların sözlerini tutun. Birbirinizin eşya ve oyuncaklarını izinsiz kullanmayı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7643880" y="701640"/>
            <a:ext cx="11127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862280" y="1397160"/>
          <a:ext cx="5418000" cy="4063680"/>
        </p:xfrm>
        <a:graphic>
          <a:graphicData uri="http://schemas.openxmlformats.org/drawingml/2006/table">
            <a:tbl>
              <a:tblPr/>
              <a:tblGrid>
                <a:gridCol w="5418000"/>
              </a:tblGrid>
              <a:tr h="373824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81360" rIns="81360" tIns="40680" bIns="40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2 Dikdörtgen"/>
          <p:cNvSpPr/>
          <p:nvPr/>
        </p:nvSpPr>
        <p:spPr>
          <a:xfrm>
            <a:off x="285840" y="785880"/>
            <a:ext cx="85010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Misafirliğe gitmeden önce ev sahibine haber verilir. Kararlaştırılan gün ve saatte gidilir. Evine girerken, kapının zilini çalarak veya seslenerek, izin isteni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Misafire ‘’Hoş geldiniz’’den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Ne ikram ederse, severek kabul edilir. Ev sahibinin o günkü hâline göre, üzüntü veya sevincine ortak olun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Çok fazla oturulmaz. Evin içinin döşenişi, eşyaların yeri ve durumu eleştirilmez. 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Giderken izin istenir, </a:t>
            </a:r>
            <a:r>
              <a:rPr b="0" lang="tr-TR" sz="2400" spc="-1" strike="noStrike">
                <a:solidFill>
                  <a:srgbClr val="ff0000"/>
                </a:solidFill>
                <a:latin typeface="ALFABET98"/>
              </a:rPr>
              <a:t>teşekkür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 edilir, ve‘</a:t>
            </a:r>
            <a:r>
              <a:rPr b="0" lang="tr-TR" sz="2400" spc="-1" strike="noStrike">
                <a:solidFill>
                  <a:srgbClr val="ff0000"/>
                </a:solidFill>
                <a:latin typeface="ALFABET98"/>
              </a:rPr>
              <a:t>’bize de buyurun’’ 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denili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Dikdörtgen"/>
          <p:cNvSpPr/>
          <p:nvPr/>
        </p:nvSpPr>
        <p:spPr>
          <a:xfrm>
            <a:off x="357120" y="21420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MİSAFİRLİKTE ŞUNLARI YAPMALIYIZ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929720" y="3214800"/>
            <a:ext cx="934920" cy="1004760"/>
          </a:xfrm>
          <a:prstGeom prst="rect">
            <a:avLst/>
          </a:prstGeom>
          <a:ln w="0">
            <a:noFill/>
          </a:ln>
        </p:spPr>
      </p:pic>
      <p:pic>
        <p:nvPicPr>
          <p:cNvPr id="119" name="5 Resim" descr="image251.gif"/>
          <p:cNvPicPr/>
          <p:nvPr/>
        </p:nvPicPr>
        <p:blipFill>
          <a:blip r:embed="rId2"/>
          <a:stretch/>
        </p:blipFill>
        <p:spPr>
          <a:xfrm>
            <a:off x="5857920" y="5715000"/>
            <a:ext cx="1000080" cy="1104840"/>
          </a:xfrm>
          <a:prstGeom prst="rect">
            <a:avLst/>
          </a:prstGeom>
          <a:ln w="0">
            <a:noFill/>
          </a:ln>
        </p:spPr>
      </p:pic>
      <p:pic>
        <p:nvPicPr>
          <p:cNvPr id="120" name="6 Resim" descr="ho_geldiniz.gif"/>
          <p:cNvPicPr/>
          <p:nvPr/>
        </p:nvPicPr>
        <p:blipFill>
          <a:blip r:embed="rId3"/>
          <a:stretch/>
        </p:blipFill>
        <p:spPr>
          <a:xfrm>
            <a:off x="5643720" y="2286000"/>
            <a:ext cx="286704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572680" cy="6143400"/>
          </a:xfrm>
          <a:prstGeom prst="rect">
            <a:avLst/>
          </a:prstGeom>
          <a:ln w="0">
            <a:noFill/>
          </a:ln>
        </p:spPr>
      </p:pic>
      <p:grpSp>
        <p:nvGrpSpPr>
          <p:cNvPr id="122" name="2 Köşeleri Yuvarlanmış Dikdörtgen Belirtme Çizgisi"/>
          <p:cNvGrpSpPr/>
          <p:nvPr/>
        </p:nvGrpSpPr>
        <p:grpSpPr>
          <a:xfrm>
            <a:off x="1146240" y="390600"/>
            <a:ext cx="4127400" cy="1822320"/>
            <a:chOff x="1146240" y="390600"/>
            <a:chExt cx="4127400" cy="1822320"/>
          </a:xfrm>
        </p:grpSpPr>
        <p:pic>
          <p:nvPicPr>
            <p:cNvPr id="123" name="2 Köşeleri Yuvarlanmış Dikdörtgen Belirtme Çizgisi" descr=""/>
            <p:cNvPicPr/>
            <p:nvPr/>
          </p:nvPicPr>
          <p:blipFill>
            <a:blip r:embed="rId2"/>
            <a:stretch/>
          </p:blipFill>
          <p:spPr>
            <a:xfrm>
              <a:off x="1146240" y="390600"/>
              <a:ext cx="412740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349280" y="492120"/>
              <a:ext cx="3730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800" spc="-1" strike="noStrike">
                  <a:solidFill>
                    <a:srgbClr val="ffffff"/>
                  </a:solidFill>
                  <a:latin typeface="ALFABET98"/>
                </a:rPr>
                <a:t>Hoş geldiniz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3 Köşeleri Yuvarlanmış Dikdörtgen Belirtme Çizgisi"/>
          <p:cNvGrpSpPr/>
          <p:nvPr/>
        </p:nvGrpSpPr>
        <p:grpSpPr>
          <a:xfrm>
            <a:off x="2651040" y="390600"/>
            <a:ext cx="3975120" cy="1766880"/>
            <a:chOff x="2651040" y="390600"/>
            <a:chExt cx="3975120" cy="1766880"/>
          </a:xfrm>
        </p:grpSpPr>
        <p:pic>
          <p:nvPicPr>
            <p:cNvPr id="126" name="3 Köşeleri Yuvarlanmış Dikdörtgen Belirtme Çizgisi" descr=""/>
            <p:cNvPicPr/>
            <p:nvPr/>
          </p:nvPicPr>
          <p:blipFill>
            <a:blip r:embed="rId3"/>
            <a:stretch/>
          </p:blipFill>
          <p:spPr>
            <a:xfrm>
              <a:off x="2651040" y="390600"/>
              <a:ext cx="397512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778120" y="492120"/>
              <a:ext cx="3730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800" spc="-1" strike="noStrike">
                  <a:solidFill>
                    <a:srgbClr val="ffffff"/>
                  </a:solidFill>
                  <a:latin typeface="ALFABET98"/>
                </a:rPr>
                <a:t>Hoş bulduk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Dikdörtgen"/>
          <p:cNvSpPr/>
          <p:nvPr/>
        </p:nvSpPr>
        <p:spPr>
          <a:xfrm>
            <a:off x="285840" y="2817720"/>
            <a:ext cx="8501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Sokakta: </a:t>
            </a:r>
            <a:br>
              <a:rPr sz="3200"/>
            </a:b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Sokağa tükürmek, çöp atmak, geliş geçişe engel olmak, tiksindirici, çirkin şeyler bırakmak, görgüsüzlüktür. Bunları sakın yapmayın. </a:t>
            </a:r>
            <a:br>
              <a:rPr sz="3200"/>
            </a:br>
            <a:br>
              <a:rPr sz="3200"/>
            </a:b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İhtiyar, kadın ve hastalara her zaman öncelik verin. İhtiyaçları varsa yardımcı ol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786040" y="428760"/>
            <a:ext cx="38340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1 Dikdörtgen"/>
          <p:cNvSpPr/>
          <p:nvPr/>
        </p:nvSpPr>
        <p:spPr>
          <a:xfrm>
            <a:off x="428760" y="7128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Taşıma araçlarında:</a:t>
            </a: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 </a:t>
            </a:r>
            <a:br>
              <a:rPr sz="3200"/>
            </a:b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İnip binerken itişmek, sıra olan yerlerde sırasını beklememek çirkin davranıştı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Gençler; yaşlılara ve hastalara yer ve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 Dikdörtgen"/>
          <p:cNvSpPr/>
          <p:nvPr/>
        </p:nvSpPr>
        <p:spPr>
          <a:xfrm>
            <a:off x="357120" y="384480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Atalarımıza layık torunlar olmaya çalışmalıyı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3 Resim" descr="bus.gif"/>
          <p:cNvPicPr/>
          <p:nvPr/>
        </p:nvPicPr>
        <p:blipFill>
          <a:blip r:embed="rId1"/>
          <a:stretch/>
        </p:blipFill>
        <p:spPr>
          <a:xfrm>
            <a:off x="2786040" y="4452840"/>
            <a:ext cx="2685960" cy="2048040"/>
          </a:xfrm>
          <a:prstGeom prst="rect">
            <a:avLst/>
          </a:prstGeom>
          <a:ln w="0">
            <a:noFill/>
          </a:ln>
        </p:spPr>
      </p:pic>
      <p:sp>
        <p:nvSpPr>
          <p:cNvPr id="133" name="4 Dikdörtgen"/>
          <p:cNvSpPr/>
          <p:nvPr/>
        </p:nvSpPr>
        <p:spPr>
          <a:xfrm>
            <a:off x="428760" y="214308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Toplu taşım araçlarında yüksek sesle konuşmamalıyız. Toplu taş araçlarına binerken sıraya girmeliyi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Dikdörtgen"/>
          <p:cNvSpPr/>
          <p:nvPr/>
        </p:nvSpPr>
        <p:spPr>
          <a:xfrm>
            <a:off x="285840" y="428760"/>
            <a:ext cx="8501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Alış verişte: </a:t>
            </a:r>
            <a:br>
              <a:rPr sz="3200"/>
            </a:b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İzin almadan satıcının malına dokunulma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Malın görünüşünü, kalitesini bozacak şekilde ellenilmez ve bakılma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Alınsa da alınmasa da teşekkür ed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Satıcı müşterisinin memnun olacağı hâl ve harekette bulunur. Malını almayanlara kızmaz, darılmaz, arkalarından konuşma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Alış verişte her iki taraf birbirlerini aldatmaktan uzak dur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4 Resim" descr="bushel_red_apples.jpg"/>
          <p:cNvPicPr/>
          <p:nvPr/>
        </p:nvPicPr>
        <p:blipFill>
          <a:blip r:embed="rId1"/>
          <a:stretch/>
        </p:blipFill>
        <p:spPr>
          <a:xfrm>
            <a:off x="6858000" y="4714920"/>
            <a:ext cx="1824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2 Dikdörtgen"/>
          <p:cNvSpPr/>
          <p:nvPr/>
        </p:nvSpPr>
        <p:spPr>
          <a:xfrm>
            <a:off x="357120" y="2858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Toplu yerlerde:</a:t>
            </a: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 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Düğün, cenaze ve bayramda daha hassas, nazik ve kibar olunur. </a:t>
            </a:r>
            <a:br>
              <a:rPr sz="2800"/>
            </a:b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Cenazede, cenaze sahiplerinin üzüntüsü paylaşılır, maddi ve manevi üzerine düşen yardım yapılır, teselli edici söz ve davranışlarda bulunulur. 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Yakınlarını kaybedenlere </a:t>
            </a:r>
            <a:r>
              <a:rPr b="0" i="1" lang="tr-TR" sz="2800" spc="-1" strike="noStrike">
                <a:solidFill>
                  <a:srgbClr val="00b0f0"/>
                </a:solidFill>
                <a:latin typeface="ALFABET98"/>
              </a:rPr>
              <a:t>baş sağlığı 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dilenir.</a:t>
            </a:r>
            <a:br>
              <a:rPr sz="2800"/>
            </a:b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Düğün ve bayramlarda her zamankinden daha fazla güler yüzlü, neşeli, nazik olmak, büyüklere ve küçüklere uygun hediyeler vermek, gönüllerini ve dualarını almak, görgülerimiz arasında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1 Dikdörtgen"/>
          <p:cNvSpPr/>
          <p:nvPr/>
        </p:nvSpPr>
        <p:spPr>
          <a:xfrm>
            <a:off x="214200" y="357120"/>
            <a:ext cx="8572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Komşulukta: 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İyi geçim, karşılıklı yardımlaşma, dert ve sevinçlerini paylaşma, her karşılaştıklarında selamlaşma, hal hatır sorma, komşulukta önemli görgü kurallarından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Gürültü, çöp, pislik, rahatsız edici koku ve benzeri şeylerle komşuları rahatsız etmek hiç hoş değil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Komşu eş ve çocuklarına ayrı bir itina, hürmet ve şefkat göster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2 Resim" descr="sol_logo.png"/>
          <p:cNvPicPr/>
          <p:nvPr/>
        </p:nvPicPr>
        <p:blipFill>
          <a:blip r:embed="rId1"/>
          <a:stretch/>
        </p:blipFill>
        <p:spPr>
          <a:xfrm>
            <a:off x="3643200" y="4429080"/>
            <a:ext cx="25718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1 Dikdörtgen"/>
          <p:cNvSpPr/>
          <p:nvPr/>
        </p:nvSpPr>
        <p:spPr>
          <a:xfrm>
            <a:off x="357120" y="285840"/>
            <a:ext cx="8501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Hasta ziyaretinde: </a:t>
            </a:r>
            <a:br>
              <a:rPr sz="3200"/>
            </a:b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Ziyarete yeni elbise ile değil, her gün giydiği elbise ile gitmelidi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Giderken meyve veya çiçek gibi bir hediye götürmek iyi ol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Hastanın yanında asık suratlı durmamalı, güzel şeylerden bahsetmeli, iyileşmesi için dua etmelidi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2 Resim" descr="goodnite.gif"/>
          <p:cNvPicPr/>
          <p:nvPr/>
        </p:nvPicPr>
        <p:blipFill>
          <a:blip r:embed="rId1"/>
          <a:stretch/>
        </p:blipFill>
        <p:spPr>
          <a:xfrm>
            <a:off x="3786120" y="4929120"/>
            <a:ext cx="2571840" cy="1594080"/>
          </a:xfrm>
          <a:prstGeom prst="rect">
            <a:avLst/>
          </a:prstGeom>
          <a:ln w="0">
            <a:noFill/>
          </a:ln>
        </p:spPr>
      </p:pic>
      <p:pic>
        <p:nvPicPr>
          <p:cNvPr id="141" name="3 Resim" descr="clipart0113.jpg"/>
          <p:cNvPicPr/>
          <p:nvPr/>
        </p:nvPicPr>
        <p:blipFill>
          <a:blip r:embed="rId2"/>
          <a:stretch/>
        </p:blipFill>
        <p:spPr>
          <a:xfrm>
            <a:off x="2413080" y="5072040"/>
            <a:ext cx="10872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1 Dikdörtgen"/>
          <p:cNvSpPr/>
          <p:nvPr/>
        </p:nvSpPr>
        <p:spPr>
          <a:xfrm>
            <a:off x="357120" y="21420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Okulda: 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Çok kıymetli bir varlık olan öğretmenin sözleri dikkatle dinlenmeli ve bir şey istediğinde, </a:t>
            </a:r>
            <a:r>
              <a:rPr b="1" i="1" lang="tr-TR" sz="2800" spc="-1" strike="noStrike" u="sng">
                <a:solidFill>
                  <a:srgbClr val="ff0000"/>
                </a:solidFill>
                <a:uFillTx/>
                <a:latin typeface="ALFABET98"/>
              </a:rPr>
              <a:t>‘’Peki efendim.’’ 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gibi sözlerle cevap verilir.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Arkadaşlar arasında birbirine saygısızlık yapılmaz.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Kaba hareket yapılmaz. 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Tahta, sıra, harita gibi ders âletleri tahrip edilmez. 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Kimsenin kusurlarıyla alay edilmez, küçük görülmez, aşağılanmaz.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Ders içinde ve dışında öğretmenle konuşmada saygılı hareket ed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2 Resim" descr="ilkokul.png"/>
          <p:cNvPicPr/>
          <p:nvPr/>
        </p:nvPicPr>
        <p:blipFill>
          <a:blip r:embed="rId1"/>
          <a:stretch/>
        </p:blipFill>
        <p:spPr>
          <a:xfrm>
            <a:off x="5143680" y="4857840"/>
            <a:ext cx="1357200" cy="1663560"/>
          </a:xfrm>
          <a:prstGeom prst="rect">
            <a:avLst/>
          </a:prstGeom>
          <a:ln w="0">
            <a:noFill/>
          </a:ln>
        </p:spPr>
      </p:pic>
      <p:pic>
        <p:nvPicPr>
          <p:cNvPr id="144" name="3 Resim" descr="teach5.gif"/>
          <p:cNvPicPr/>
          <p:nvPr/>
        </p:nvPicPr>
        <p:blipFill>
          <a:blip r:embed="rId2"/>
          <a:stretch/>
        </p:blipFill>
        <p:spPr>
          <a:xfrm>
            <a:off x="2857680" y="4643280"/>
            <a:ext cx="1752480" cy="200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/>
          <p:cNvPicPr/>
          <p:nvPr/>
        </p:nvPicPr>
        <p:blipFill>
          <a:blip r:embed="rId3"/>
          <a:stretch/>
        </p:blipFill>
        <p:spPr>
          <a:xfrm>
            <a:off x="7143840" y="4714920"/>
            <a:ext cx="1514520" cy="1809720"/>
          </a:xfrm>
          <a:prstGeom prst="rect">
            <a:avLst/>
          </a:prstGeom>
          <a:ln w="0">
            <a:noFill/>
          </a:ln>
        </p:spPr>
      </p:pic>
      <p:sp>
        <p:nvSpPr>
          <p:cNvPr id="146" name="5 Çarpma"/>
          <p:cNvSpPr/>
          <p:nvPr/>
        </p:nvSpPr>
        <p:spPr>
          <a:xfrm>
            <a:off x="7000920" y="4429080"/>
            <a:ext cx="1928880" cy="2428920"/>
          </a:xfrm>
          <a:prstGeom prst="pi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4"/>
          <a:stretch/>
        </p:blipFill>
        <p:spPr>
          <a:xfrm>
            <a:off x="928800" y="5072040"/>
            <a:ext cx="157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 Dikdörtgen"/>
          <p:cNvSpPr/>
          <p:nvPr/>
        </p:nvSpPr>
        <p:spPr>
          <a:xfrm>
            <a:off x="357120" y="750960"/>
            <a:ext cx="835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Telefonda: 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Telefon eden, karşı taraf ahizeyi kaldırınca, önce kendini tanıtmalıdır! 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Konuşmalar kısa ve öz konuşmalı, dakikalarca sohbet etmemeli ve ‘’efendim’’siz konuşmamalıdır! 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Her yerde, her zaman, hep nazik ve kibar olmalıdır. Argo ve nahoş konuşma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2 Resim" descr="firemarn.gif"/>
          <p:cNvPicPr/>
          <p:nvPr/>
        </p:nvPicPr>
        <p:blipFill>
          <a:blip r:embed="rId1"/>
          <a:stretch/>
        </p:blipFill>
        <p:spPr>
          <a:xfrm>
            <a:off x="1714680" y="3786120"/>
            <a:ext cx="4733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 Dikdörtgen"/>
          <p:cNvSpPr/>
          <p:nvPr/>
        </p:nvSpPr>
        <p:spPr>
          <a:xfrm>
            <a:off x="357120" y="428760"/>
            <a:ext cx="842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Konuşurken: 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Konuşanın sözünü kesmek nezaketsizliktir. Söz almadan konuşmamalı.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Bir kişi konuşurken diğerleri onu dinlemeli.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Konuşmalarımızda küfür, kötü söz asla söylenmemeli.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Konuşmalarımız kibar ve nazik olmalı,Karşımızdakileri etkilemeli.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Güzel konuşabilmek için bol bol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LFABET98"/>
              </a:rPr>
              <a:t>kitap,gazete, dergi okumalı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2 Resim" descr="cchild.gif"/>
          <p:cNvPicPr/>
          <p:nvPr/>
        </p:nvPicPr>
        <p:blipFill>
          <a:blip r:embed="rId1"/>
          <a:stretch/>
        </p:blipFill>
        <p:spPr>
          <a:xfrm>
            <a:off x="3000240" y="3959280"/>
            <a:ext cx="22860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7836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643960" cy="2000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285840" y="2786040"/>
            <a:ext cx="86439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714920" cy="3473640"/>
          </a:xfrm>
          <a:prstGeom prst="rect">
            <a:avLst/>
          </a:prstGeom>
          <a:ln w="0">
            <a:noFill/>
          </a:ln>
        </p:spPr>
      </p:pic>
      <p:sp>
        <p:nvSpPr>
          <p:cNvPr id="44" name="1 Başlık"/>
          <p:cNvSpPr/>
          <p:nvPr/>
        </p:nvSpPr>
        <p:spPr>
          <a:xfrm>
            <a:off x="500040" y="3701880"/>
            <a:ext cx="814392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Ahmet evlerine ders çalışmaya gelen arkadaşına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‘’hoş geldin’’ 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dedi ve tokalaştı. Ders çalıştıktan sonra da acıkınca arkadaşına pasta ve börek  ikram ett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5143680" y="254160"/>
            <a:ext cx="364320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714920" cy="3473640"/>
          </a:xfrm>
          <a:prstGeom prst="rect">
            <a:avLst/>
          </a:prstGeom>
          <a:ln w="0">
            <a:noFill/>
          </a:ln>
        </p:spPr>
      </p:pic>
      <p:sp>
        <p:nvSpPr>
          <p:cNvPr id="47" name="1 Başlık"/>
          <p:cNvSpPr/>
          <p:nvPr/>
        </p:nvSpPr>
        <p:spPr>
          <a:xfrm>
            <a:off x="214200" y="4071960"/>
            <a:ext cx="87156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000000"/>
                </a:solidFill>
                <a:latin typeface="ALFABET98"/>
              </a:rPr>
              <a:t>Arkadaşı, Ahmet’in kendisiyle ilgilenmesinden çok memnun oldu.</a:t>
            </a:r>
            <a:br>
              <a:rPr sz="3500"/>
            </a:br>
            <a:r>
              <a:rPr b="1" lang="tr-TR" sz="3500" spc="-1" strike="noStrike">
                <a:solidFill>
                  <a:srgbClr val="000000"/>
                </a:solidFill>
                <a:latin typeface="ALFABET98"/>
              </a:rPr>
              <a:t>Eğer böyle davranmasaydı çok büyük saygısızlık ve görgüsüzlük yapmış olacaktı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5143680" y="254160"/>
            <a:ext cx="364320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476360" y="285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1 Başlık"/>
          <p:cNvSpPr/>
          <p:nvPr/>
        </p:nvSpPr>
        <p:spPr>
          <a:xfrm>
            <a:off x="285840" y="4929120"/>
            <a:ext cx="87152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Biliyorsunuz ki dünyada Türkler konukseverliği ile tanını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Resim" descr="Image8.gif"/>
          <p:cNvPicPr/>
          <p:nvPr/>
        </p:nvPicPr>
        <p:blipFill>
          <a:blip r:embed="rId1"/>
          <a:stretch/>
        </p:blipFill>
        <p:spPr>
          <a:xfrm>
            <a:off x="770040" y="2214720"/>
            <a:ext cx="7445160" cy="4429080"/>
          </a:xfrm>
          <a:prstGeom prst="rect">
            <a:avLst/>
          </a:prstGeom>
          <a:ln w="0">
            <a:noFill/>
          </a:ln>
        </p:spPr>
      </p:pic>
      <p:sp>
        <p:nvSpPr>
          <p:cNvPr id="52" name="1 Başlık"/>
          <p:cNvSpPr/>
          <p:nvPr/>
        </p:nvSpPr>
        <p:spPr>
          <a:xfrm>
            <a:off x="285840" y="214200"/>
            <a:ext cx="8715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Toplum içinde birlikte yaşıyoruz. Birlikte yaşamanın da kurallar vardır. Bu kurallardan biri de </a:t>
            </a: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GÖRGÜ KURALLARI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Resim" descr="Image8.gif"/>
          <p:cNvPicPr/>
          <p:nvPr/>
        </p:nvPicPr>
        <p:blipFill>
          <a:blip r:embed="rId1"/>
          <a:stretch/>
        </p:blipFill>
        <p:spPr>
          <a:xfrm>
            <a:off x="1285920" y="1785960"/>
            <a:ext cx="5802120" cy="3451320"/>
          </a:xfrm>
          <a:prstGeom prst="rect">
            <a:avLst/>
          </a:prstGeom>
          <a:ln w="0">
            <a:noFill/>
          </a:ln>
        </p:spPr>
      </p:pic>
      <p:sp>
        <p:nvSpPr>
          <p:cNvPr id="54" name="1 Başlık"/>
          <p:cNvSpPr/>
          <p:nvPr/>
        </p:nvSpPr>
        <p:spPr>
          <a:xfrm>
            <a:off x="285840" y="214200"/>
            <a:ext cx="8715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Görgü kurallarına ve diğer kurallara uyarsak mutlu yaşarız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 Dikdörtgen"/>
          <p:cNvSpPr/>
          <p:nvPr/>
        </p:nvSpPr>
        <p:spPr>
          <a:xfrm>
            <a:off x="142920" y="535464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LFABET98"/>
              </a:rPr>
              <a:t>İnsanlar karşılıklı sevgi, saygı ve inceliği gerektiren davranışlarda bulunmalı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Başlık"/>
          <p:cNvSpPr/>
          <p:nvPr/>
        </p:nvSpPr>
        <p:spPr>
          <a:xfrm>
            <a:off x="285840" y="142920"/>
            <a:ext cx="87152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Uygar bir insan toplum içinde görgü kurallarına uygun davran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 Başlık"/>
          <p:cNvSpPr/>
          <p:nvPr/>
        </p:nvSpPr>
        <p:spPr>
          <a:xfrm>
            <a:off x="142920" y="1357200"/>
            <a:ext cx="88581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Görgü kurallarına uygun davrananlar sevilir ve beğenilirl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286080" y="2143080"/>
            <a:ext cx="2954520" cy="3141720"/>
          </a:xfrm>
          <a:prstGeom prst="rect">
            <a:avLst/>
          </a:prstGeom>
          <a:ln w="0">
            <a:noFill/>
          </a:ln>
        </p:spPr>
      </p:pic>
      <p:sp>
        <p:nvSpPr>
          <p:cNvPr id="59" name="1 Başlık"/>
          <p:cNvSpPr/>
          <p:nvPr/>
        </p:nvSpPr>
        <p:spPr>
          <a:xfrm>
            <a:off x="142920" y="5286240"/>
            <a:ext cx="88581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Bu kurallara uymayan insanlar çevresindekiler tarafından </a:t>
            </a:r>
            <a:r>
              <a:rPr b="1" lang="tr-TR" sz="3200" spc="-1" strike="noStrike" u="sng">
                <a:solidFill>
                  <a:srgbClr val="ff0000"/>
                </a:solidFill>
                <a:uFillTx/>
                <a:latin typeface="ALFABET98"/>
              </a:rPr>
              <a:t>ayıplanır, kınanır ve dışlanır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Resim" descr="c1.gif"/>
          <p:cNvPicPr/>
          <p:nvPr/>
        </p:nvPicPr>
        <p:blipFill>
          <a:blip r:embed="rId1"/>
          <a:stretch/>
        </p:blipFill>
        <p:spPr>
          <a:xfrm>
            <a:off x="1500120" y="2482920"/>
            <a:ext cx="6286680" cy="4232160"/>
          </a:xfrm>
          <a:prstGeom prst="rect">
            <a:avLst/>
          </a:prstGeom>
          <a:ln w="0">
            <a:noFill/>
          </a:ln>
        </p:spPr>
      </p:pic>
      <p:sp>
        <p:nvSpPr>
          <p:cNvPr id="61" name="1 Başlık"/>
          <p:cNvSpPr/>
          <p:nvPr/>
        </p:nvSpPr>
        <p:spPr>
          <a:xfrm>
            <a:off x="285840" y="214200"/>
            <a:ext cx="8715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Görgü kurallarına uymak diğer insanlara saygı göstermektir .Görgü kurallarına uymak karşımızdakilerin duygularına önem verdiğimizi göstermek demekt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3 Köşeleri Yuvarlanmış Dikdörtgen Belirtme Çizgisi"/>
          <p:cNvGrpSpPr/>
          <p:nvPr/>
        </p:nvGrpSpPr>
        <p:grpSpPr>
          <a:xfrm>
            <a:off x="743040" y="676440"/>
            <a:ext cx="4359240" cy="3066840"/>
            <a:chOff x="743040" y="676440"/>
            <a:chExt cx="4359240" cy="3066840"/>
          </a:xfrm>
        </p:grpSpPr>
        <p:pic>
          <p:nvPicPr>
            <p:cNvPr id="63" name="3 Köşeleri Yuvarlanmış Dikdörtgen Belirtme Çizgisi" descr=""/>
            <p:cNvPicPr/>
            <p:nvPr/>
          </p:nvPicPr>
          <p:blipFill>
            <a:blip r:embed="rId2"/>
            <a:stretch/>
          </p:blipFill>
          <p:spPr>
            <a:xfrm>
              <a:off x="743040" y="676440"/>
              <a:ext cx="4359240" cy="30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063800" y="777960"/>
              <a:ext cx="373032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800" spc="-1" strike="noStrike">
                  <a:solidFill>
                    <a:srgbClr val="ffffff"/>
                  </a:solidFill>
                  <a:latin typeface="ALFABET98"/>
                </a:rPr>
                <a:t>Günaydın Ali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4 Köşeleri Yuvarlanmış Dikdörtgen Belirtme Çizgisi"/>
          <p:cNvGrpSpPr/>
          <p:nvPr/>
        </p:nvGrpSpPr>
        <p:grpSpPr>
          <a:xfrm>
            <a:off x="4724280" y="262080"/>
            <a:ext cx="3975120" cy="3066840"/>
            <a:chOff x="4724280" y="262080"/>
            <a:chExt cx="3975120" cy="3066840"/>
          </a:xfrm>
        </p:grpSpPr>
        <p:pic>
          <p:nvPicPr>
            <p:cNvPr id="66" name="4 Köşeleri Yuvarlanmış Dikdörtgen Belirtme Çizgisi" descr=""/>
            <p:cNvPicPr/>
            <p:nvPr/>
          </p:nvPicPr>
          <p:blipFill>
            <a:blip r:embed="rId3"/>
            <a:stretch/>
          </p:blipFill>
          <p:spPr>
            <a:xfrm>
              <a:off x="4724280" y="262080"/>
              <a:ext cx="3975120" cy="30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862520" y="504720"/>
              <a:ext cx="370512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800" spc="-1" strike="noStrike">
                  <a:solidFill>
                    <a:srgbClr val="ffffff"/>
                  </a:solidFill>
                  <a:latin typeface="ALFABET98"/>
                </a:rPr>
                <a:t>Günaydın Ayşe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1:40:54Z</dcterms:created>
  <dc:creator>hikmet</dc:creator>
  <dc:description/>
  <dc:language>en-US</dc:language>
  <cp:lastModifiedBy>hikmet</cp:lastModifiedBy>
  <dcterms:modified xsi:type="dcterms:W3CDTF">2009-03-03T02:55:24Z</dcterms:modified>
  <cp:revision>4</cp:revision>
  <dc:subject/>
  <dc:title>GÖRGÜ KURALLARI</dc:title>
</cp:coreProperties>
</file>