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051-E52B-4EC5-B739-C09197CC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2C9-76DE-418B-9701-C8161F6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442-1EA6-4171-87B7-49961EDB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6D9-73CF-40A6-A007-14AEE29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D2E1-8DBE-471A-A228-BA0C25C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4992-061E-4846-9759-FD9D56E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EAE-4226-43F7-A915-27D91E7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D7D7-9082-434E-BE7B-8619D61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FC36-30BC-422B-BF8E-FC33492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595-648A-454F-9CCF-6BE994E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2106-EBB4-46C3-A2C0-D8DC2DA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614-FEAA-42F0-B29E-4B4335AF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4629-0D1A-4642-A0E8-9432E3A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783-C3BD-4DDC-8173-DCF8682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299-4CBE-4D6D-919E-DB663AFF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F353-6C5E-4091-8040-5CA02885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6FF1-328B-4378-A67A-343D0E34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835-A4F9-4785-AEE8-5001622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D3C-43D9-4D4F-99D8-70BAFE2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CF7-52C3-4026-895C-390553C3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AC5-CE43-4C64-9F58-ED01C94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34E-8C0C-4164-9065-294BD369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93E-E0F9-4ECD-81CC-4FA5334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95E-A386-4409-8F79-7B1204C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D1C0-6C07-465F-8671-09732B36901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AD6-AF7C-4534-98AF-E24CBEF28CE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844640"/>
            <a:ext cx="741708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ضرات الحق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محاليل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معلق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spensions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، 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مستحل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عقيمة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erile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مولدات الحرارة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yr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حضرات الحقنية ذات الحجم الصغ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Volume Paren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حضرات الحقنية ذات الحجم الكب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olume Paren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br>
              <a:rPr sz="3200"/>
            </a:br>
            <a:r>
              <a:rPr b="1" lang="ar-SY" sz="2200" spc="-1" strike="noStrike">
                <a:solidFill>
                  <a:srgbClr val="ffff41"/>
                </a:solidFill>
                <a:latin typeface="Times New Roman"/>
                <a:cs typeface="Times New Roman"/>
              </a:rPr>
              <a:t>الأستاذ الدكتور بديع كع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492280"/>
            <a:ext cx="3961080" cy="2737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17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وري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ous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عض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muscla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تحت الجل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أدم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derm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مفص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articula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سيسا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spen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شريان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arteri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قل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ardiac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709720"/>
          <a:ext cx="338436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9720"/>
                    <a:ext cx="33843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2200" y="2709720"/>
            <a:ext cx="9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الور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74640" y="2992320"/>
            <a:ext cx="13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تحت لجل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34400" y="327348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العضل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4840" y="23986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و. د. / م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31480" y="50133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دقي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1700280"/>
            <a:ext cx="568980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طرق الحقن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enteral Routes of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773360"/>
            <a:ext cx="8353440" cy="424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أنماط الحقن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ypes of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 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ماط حقنية جاهزة مباشرة للحقن: محاليل، معلقات، مستحلبات تتضمن مختلف الموا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المساعد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دوارئ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uffers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مثبتات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tabilizer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مواد حافظة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e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ضرات بشكل مساحيق جافة يضاف إليها، قبل الحقن مباشرة، السواغ المناسب لتحويلها إ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محلول أو معل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لمذيبات والسواغات المستعملة في المحضرات الحق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olvents and Vehicles fo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اء المعقم الخاص بالمحضرات الزرق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e water fo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(الماء المقطر المعقم الخالي من مولدات الحرار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 على المستوى الصناعي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على نطاق ضيق (في الصيدلية أو المخب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773360"/>
            <a:ext cx="8353440" cy="4535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غات غير م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aqueous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غير مخر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irritating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- غير سا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tox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*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وت نباتية ثابت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vegetable 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زيتات الايثي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oleat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ميريستات الايزوبروبي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opyl meri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دي ميثيل اسيتامي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amide Dimeth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واد المساعدة أو المضاف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* مذي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zen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مضادات تأكس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* عوامل مضادة للجراثي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al agent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دوار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صائص المحضرات الحق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Parenteral Preparation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عقام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628640"/>
            <a:ext cx="8353440" cy="5040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طرق التعقيم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ethods of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بخار المضغو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m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(التعقيم بالحرارة ال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idity-Heat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صاد الموصد (أوتوكلا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cl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°       20 mi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الجاف بالحرا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-Heat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فران تعقيم مخصصة لهذا الغرض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      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ترشي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zation by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شح ذات مسامات دقيق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por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سترات السلولو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ose ester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حجم المسا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 size &lt; 0.2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غا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كسيد الايثيلي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اشعاع المُؤيِّ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zation by ionizing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شعة غام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1773360"/>
            <a:ext cx="6337440" cy="122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ضغط الحلولي والتوتر في المحضرات الزرق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lality and Tonicity in 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نخفاض درجة الإنجماد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52640"/>
          <a:ext cx="421164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52640"/>
                    <a:ext cx="421164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964400" y="57330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غ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10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960" y="2492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هيماتوكري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278080"/>
            <a:ext cx="8353440" cy="431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78120" algn="r" rtl="1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19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طرق تحضير محاليل معادلة للتوتر </a:t>
            </a:r>
            <a:r>
              <a:rPr b="1" lang="en-US" sz="19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ethods of Isotonic solution Prepa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معادل أو المكافئ من كلوريد الصوديو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chloride equival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تحديد انخفاض درجة الإنجما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ا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كمية كلور الصوديوم التي يجب أضافتها لجعل الوصفة الآتية معادلة للتوت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وريدرات البروكائين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ء معقم م. ك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 من محلول كلور الصوديوم المعادل للتوتر تحوي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9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7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/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معادل الحلولي من كلوريد الصوديوم ل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من كلوريدرات البروكائين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2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0.6</a:t>
            </a:r>
            <a:r>
              <a:rPr b="1" lang="ar-SY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كمية كلور الصوديوم التي تعادل حلولياً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lang="ar-SY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من كلوريدرات البروكائي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4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2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7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كمية كلور الصوديوم اللازم إضافتها  لجعل المحلول معادلاً للتوت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260280"/>
            <a:ext cx="6985080" cy="1224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1630440"/>
            <a:ext cx="324000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ادل التوت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y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773360"/>
            <a:ext cx="640872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70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قيمة باهاء المحضرات الرزقية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 of 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21000"/>
            <a:ext cx="4103640" cy="1584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79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حمل العضوية للمحضر الحقن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بات المادة الدوائية وحفظه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عالية المادة الدو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نحلال المادة الدو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2651040"/>
          <a:ext cx="360036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51040"/>
                    <a:ext cx="360036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8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3482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غ ث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56037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مة الباه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4579920"/>
            <a:ext cx="266400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7.35 – 7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08:45:30Z</dcterms:created>
  <dc:creator>.</dc:creator>
  <dc:description/>
  <dc:language>en-US</dc:language>
  <cp:lastModifiedBy> </cp:lastModifiedBy>
  <dcterms:modified xsi:type="dcterms:W3CDTF">2005-12-07T08:31:00Z</dcterms:modified>
  <cp:revision>63</cp:revision>
  <dc:subject/>
  <dc:title>الشريحة 1</dc:title>
</cp:coreProperties>
</file>