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50C-2398-4EDA-B101-0E27E65A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8BE-760A-4B87-9F08-3298FA9F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C24-7039-40D4-9C13-C9271AF2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176-589B-46BF-B3C9-C641DB97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02D6-6682-44CC-BAA0-1F2D265A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1FD3-2565-4689-82BE-713F048A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3EC0-C408-4549-BBFB-E98F50B0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44D9-B27C-45C0-89EA-6947B9A4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9379-2436-4298-814E-A490B7F4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366F-7471-4402-AD2E-64A7978C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714E-79B4-4511-8598-EE7C90C7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DB3-CF1E-4890-94AC-2C7C89F9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1470-33CA-4D4F-9508-4918EB62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EA47-7282-46D5-8F2B-31154419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689C-01B7-4806-9637-E02B9EBC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7207-5D6C-4340-B8A5-087B15DE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C853-53B5-48C6-8C25-1E5FF26F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430-89FB-4EFB-B79A-2A58D01C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1AA-BD10-476B-BC16-AB48F95F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EBB-C8D7-483E-94F3-D078C1EB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500-90CB-4F45-AF7D-C3F596E8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223-97A6-4E72-A71D-FE632FB2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A4B-F610-4F88-9002-00D4FF74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3F0-05E1-4D00-9152-9BBA7E9F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73A8-D01A-477F-A586-5ADC8C44CC20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9698-95A8-406B-86D2-866CDF4FC69D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1844640"/>
            <a:ext cx="7417080" cy="41054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932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ضرات الحقن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eral Prepa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2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عري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* محاليل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* معلقات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uspensions</a:t>
            </a:r>
            <a:r>
              <a:rPr b="1" lang="ar-SY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، </a:t>
            </a: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* مستحلبات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* عقيمة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erile</a:t>
            </a: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ar-SY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* مولدات الحرارة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yr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2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2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حضرات الحقنية ذات الحجم الصغي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Volume Paren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2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2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حضرات الحقنية ذات الحجم الكبي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Volume Paren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260280"/>
            <a:ext cx="6985080" cy="1440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حضرات العقيم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e Preparations</a:t>
            </a:r>
            <a:br>
              <a:rPr sz="3200"/>
            </a:br>
            <a:r>
              <a:rPr b="1" lang="ar-SY" sz="2200" spc="-1" strike="noStrike">
                <a:solidFill>
                  <a:srgbClr val="ffff41"/>
                </a:solidFill>
                <a:latin typeface="Times New Roman"/>
                <a:cs typeface="Times New Roman"/>
              </a:rPr>
              <a:t>الأستاذ الدكتور بديع كعي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2492280"/>
            <a:ext cx="3961080" cy="273708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8172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ريق داخل الوريد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ous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72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ريق داخل العضل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musclar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72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ريق تحت الجلد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utaneous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72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ريق داخل الأدمة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dermal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72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ريق داخل المفصل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articular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72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ريق داخل السيساء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spenal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72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ريق داخل الشريان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arterial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720" algn="r" rtl="1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طريق داخل القلب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ardiac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60280"/>
            <a:ext cx="6985080" cy="129708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حضرات العقيم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e Prep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709720"/>
          <a:ext cx="338436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709720"/>
                    <a:ext cx="338436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2200" y="2709720"/>
            <a:ext cx="97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طريق الوري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74640" y="2992320"/>
            <a:ext cx="13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طريق تحت لجل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34400" y="3273480"/>
            <a:ext cx="12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طريق العضل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4840" y="239868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و. د. / م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31480" y="50133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دقيق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87640" y="1700280"/>
            <a:ext cx="5689800" cy="50472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781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20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طرق الحقن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arenteral Routes of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1773360"/>
            <a:ext cx="8353440" cy="4248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أنماط الحقن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ypes of In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 </a:t>
            </a:r>
            <a:r>
              <a:rPr b="1" lang="ar-SY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ماط حقنية جاهزة مباشرة للحقن: محاليل، معلقات، مستحلبات تتضمن مختلف المواد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المساعدة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ar-SY" sz="20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دوارئ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uffers</a:t>
            </a:r>
            <a:r>
              <a:rPr b="1" lang="ar-SY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  مثبتات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Stabilizers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</a:t>
            </a:r>
            <a:r>
              <a:rPr b="1" lang="ar-SY" sz="2000" spc="-1" strike="noStrike">
                <a:solidFill>
                  <a:srgbClr val="009900"/>
                </a:solidFill>
                <a:latin typeface="Times New Roman"/>
                <a:cs typeface="Times New Roman"/>
              </a:rPr>
              <a:t>مواد حافظة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Preser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ar-SY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حضرات بشكل مساحيق جافة يضاف إليها، قبل الحقن مباشرة، السواغ المناسب لتحويلها إل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محلول أو معل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المذيبات والسواغات المستعملة في المحضرات الحقن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Solvents and Vehicles for In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660066"/>
                </a:solidFill>
                <a:latin typeface="Wingdings"/>
                <a:ea typeface="Wingdings"/>
              </a:rPr>
              <a:t>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اء المعقم الخاص بالمحضرات الزرق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ile water for In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(الماء المقطر المعقم الخالي من مولدات الحرار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* على المستوى الصناعي  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على نطاق ضيق (في الصيدلية أو المخب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260280"/>
            <a:ext cx="6985080" cy="129708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حضرات العقيم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e Prep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773360"/>
            <a:ext cx="8353440" cy="453528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660066"/>
                </a:solidFill>
                <a:latin typeface="Wingdings"/>
                <a:ea typeface="Wingdings"/>
              </a:rPr>
              <a:t>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واغات غير مائ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aqueous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- غير مخر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irritating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- غير سا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tox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*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يوت نباتية ثابت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vegetable 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زيتات الايثيل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yl oleate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ميريستات الايزوبروبيل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propyl meri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دي ميثيل اسيتاميد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amide Dimeth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Wingdings"/>
                <a:ea typeface="Wingdings"/>
              </a:rPr>
              <a:t>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واد المساعدة أو المضاف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ed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* مذيبات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ilizens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مضادات تأكسد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oxid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* عوامل مضادة للجراثي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icrobial agents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دوارئ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Wingdings"/>
                <a:ea typeface="Wingdings"/>
              </a:rPr>
              <a:t>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صائص المحضرات الحقن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Parenteral Preparations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1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العقام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60280"/>
            <a:ext cx="6985080" cy="129708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حضرات العقيم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e Prep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628640"/>
            <a:ext cx="8353440" cy="50403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400" algn="r" rtl="1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طرق التعقيم 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Methods of ster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التعقيم بالبخار المضغو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am ster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(التعقيم بالحرارة الرطب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idity-Heat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صاد الموصد (أوتوكلا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cla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1°       20 min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التعقيم الجاف بالحرار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y-Heat Ster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فران تعقيم مخصصة لهذا الغرض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        &g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التعقيم بالترشيح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ilization by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مراشح ذات مسامات دقيق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ipor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سترات السلولو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ose esters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حجم المسام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e size &lt; 0.2 µ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التعقيم بالغا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z Ster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أكسيد الايثيلين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ylene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التعقيم بالاشعاع المُؤيِّن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ilization by ionizing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شعة غاما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ma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260280"/>
            <a:ext cx="6985080" cy="129708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حضرات العقيم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e Prep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1773360"/>
            <a:ext cx="6337440" cy="122400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ضغط الحلولي والتوتر في المحضرات الزرق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molality and Tonicity in Parenteral Prepa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9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نخفاض درجة الإنجماد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2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60280"/>
            <a:ext cx="6985080" cy="129708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حضرات العقيم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e Prep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852640"/>
          <a:ext cx="4211640" cy="32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852640"/>
                    <a:ext cx="421164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964400" y="573300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غ 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Simplified Arabic"/>
              </a:rPr>
              <a:t>10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1960" y="24922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هيماتوكري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2278080"/>
            <a:ext cx="8353440" cy="431964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78120" algn="r" rtl="1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19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طرق تحضير محاليل معادلة للتوتر </a:t>
            </a:r>
            <a:r>
              <a:rPr b="1" lang="en-US" sz="19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Methods of Isotonic solution Prepa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81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يقة المعادل أو المكافئ من كلوريد الصوديو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 chloride equivalen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1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يقة تحديد انخفاض درجة الإنجماد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0840" indent="-23436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ثا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0840" indent="-234360" algn="r" rtl="1">
              <a:lnSpc>
                <a:spcPct val="10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كمية كلور الصوديوم التي يجب أضافتها لجعل الوصفة الآتية معادلة للتوت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0840" indent="-234360" algn="r" rtl="1">
              <a:lnSpc>
                <a:spcPct val="10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وريدرات البروكائين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6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0840" indent="-234360" algn="r" rtl="1">
              <a:lnSpc>
                <a:spcPct val="10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ء معقم م. ك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120" algn="r" rtl="1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81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 من محلول كلور الصوديوم المعادل للتوتر تحوي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09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70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غ /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1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المعادل الحلولي من كلوريد الصوديوم ل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غ من كلوريدرات البروكائين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120" algn="r" rtl="1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26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1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0.6</a:t>
            </a:r>
            <a:r>
              <a:rPr b="1" lang="ar-SY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غ كمية كلور الصوديوم التي تعادل حلولياً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6</a:t>
            </a:r>
            <a:r>
              <a:rPr b="1" lang="ar-SY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غ من كلوريدرات البروكائين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81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4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2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70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غ كمية كلور الصوديوم اللازم إضافتها  لجعل المحلول معادلاً للتوت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260280"/>
            <a:ext cx="6985080" cy="122400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حضرات العقيم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e Prep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08720" y="1630440"/>
            <a:ext cx="3240000" cy="50328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●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عادل التوت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tony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>
              <a:alpha val="25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773360"/>
            <a:ext cx="6408720" cy="50328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70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قيمة باهاء المحضرات الرزقية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H of parenteral prepa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260280"/>
            <a:ext cx="6985080" cy="1297080"/>
          </a:xfrm>
          <a:prstGeom prst="rect">
            <a:avLst/>
          </a:prstGeom>
          <a:solidFill>
            <a:srgbClr val="33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حضرات العقيمة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e Prepa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2421000"/>
            <a:ext cx="4103640" cy="1584360"/>
          </a:xfrm>
          <a:prstGeom prst="rect">
            <a:avLst/>
          </a:prstGeom>
          <a:solidFill>
            <a:srgbClr val="ffffa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79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حمل العضوية للمحضر الحقني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92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ثبات المادة الدوائية وحفظها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92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عالية المادة الدوائ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920" algn="r" rtl="1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نحلال المادة الدوائ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95280" y="2651040"/>
          <a:ext cx="3600360" cy="33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51040"/>
                    <a:ext cx="3600360" cy="33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0" y="18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28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34828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غ ث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5603760"/>
            <a:ext cx="93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مة الباها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92720" y="4579920"/>
            <a:ext cx="2664000" cy="504720"/>
          </a:xfrm>
          <a:prstGeom prst="rect">
            <a:avLst/>
          </a:prstGeom>
          <a:solidFill>
            <a:srgbClr val="ffffa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ar-S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7.35 – 7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2T08:45:30Z</dcterms:created>
  <dc:creator>.</dc:creator>
  <dc:description/>
  <dc:language>en-US</dc:language>
  <cp:lastModifiedBy> </cp:lastModifiedBy>
  <dcterms:modified xsi:type="dcterms:W3CDTF">2005-12-07T08:31:00Z</dcterms:modified>
  <cp:revision>63</cp:revision>
  <dc:subject/>
  <dc:title>الشريحة 1</dc:title>
</cp:coreProperties>
</file>