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D54-C227-415A-8DD7-C3986B18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A93-17E4-4C25-9C01-79B5889F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6C6-165E-4E2E-BFCA-9292537E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34C-7DC8-443A-A227-94704C0D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A12-A727-451C-8B5F-4F60698E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98E-9FB6-467C-8C86-45879BCD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F53-85DC-47C4-A478-8B574DC8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158-8E0F-41F0-801D-869642A5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91C-D6F1-4AFD-9819-B1BBC218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760-5379-4C84-A43E-41EF3512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049-153B-4600-9D87-710E332F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8A5-56E5-42B7-9864-5440AAF2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D786-45E8-4F47-96C6-CCBF8BEFDD2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2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7:24:42Z</dcterms:modified>
  <cp:revision>25</cp:revision>
  <dc:subject/>
  <dc:title>슬라이드 1</dc:title>
</cp:coreProperties>
</file>