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FE7-1FBD-44F9-B81B-D6222F5F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75B-1150-408C-A731-E5DD1B3B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2A0-349D-40DD-860D-4B382B72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8EE-D704-4CD0-A312-DC99F9AF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498-62A0-4938-93BB-F665C9DC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0AD-8264-44D4-8022-9D9F450E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256-F735-4042-A9E8-099428B8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AEE-49DF-491D-BF2B-83A6C3C3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5A0-BA97-4DED-8A37-D6E26CC7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114-9932-4819-9716-17A4294F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9D5-9BE0-4999-870A-782720F2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14C-B913-4FF9-9D0A-9D1F7AE5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9D1E-3E42-4C57-958D-15AE05E4596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2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7:24:42Z</dcterms:modified>
  <cp:revision>25</cp:revision>
  <dc:subject/>
  <dc:title>슬라이드 1</dc:title>
</cp:coreProperties>
</file>