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8E68-FA57-4F6A-8C59-39FB08950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1FD0-CB84-45E7-AFCA-EE0DD6A82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4BAC-CD2E-49FD-9991-01F91AD28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816C-2123-4B16-B4DB-B9521751E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086-994B-43D4-BCD2-9D5C51F37C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321-944B-4393-9FC2-006480AD6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CA3-2968-4F2C-939F-F0113E6609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495-2A10-42F9-910D-9A418A41EC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E74-54B8-4475-8F14-CB21D18B6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BD7-D937-4F6E-B00A-2B7540045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3A0-B9E3-43F2-9EA6-03485B24F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1CF6-ABED-44B3-87FC-3FF075963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8BC-C108-4086-B7C0-008972CEF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575-DDED-4974-8291-F275AB217C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DBD-22B0-40BD-BDDE-44E1A9228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8A6-B89F-41FD-9760-1BA207B8E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2AB-C6FF-42C7-8919-898D37230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348D-A545-4E63-94B9-5FD9FBA0F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01E6-B2D4-4940-A609-B859C574D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0D58-2872-4E12-8237-945F65F3C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98A9-7B75-4076-83BE-FBC9D8968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16AD-875B-4108-A610-F1D5C6504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8205-FAC6-4020-B434-24BFF8448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C914-11BD-4F2E-9B4B-365394038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Business and Economics, 6e © 2007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7D6CDB89-B37E-476E-BA92-E5030E52F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8680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C515825D-CB25-406F-9C0A-821F9373E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8686800" cy="117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Business and Economics, 6e © 2007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7652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mple Regre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usiness and Economics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602-117C-4669-BF1F-F47A5413D5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57948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5012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1CA1-F416-4C7C-A876-53D5A20ED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11560" y="4743360"/>
            <a:ext cx="45432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196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54760" y="26859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2000" y="4673520"/>
            <a:ext cx="45540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38098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45080" y="31431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2102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2600" y="276228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321F-49AE-41FB-971B-E0B5DAF94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5600" y="4044960"/>
                <a:ext cx="3629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linear regression equation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9240" y="267336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40320" y="27496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40120" y="3664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439960" y="3435480"/>
            <a:ext cx="22860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96920" y="2587680"/>
            <a:ext cx="1752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0760" y="3871800"/>
            <a:ext cx="27936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381636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x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126120" y="419724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6160" y="529416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774880" y="5807160"/>
                <a:ext cx="352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7CFC-6B23-405E-A10D-A049491B6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st Squares Estimat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67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tween  y  and     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66920" y="3282840"/>
                <a:ext cx="501480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  SSE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2733840"/>
                <a:ext cx="289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193840" y="5843520"/>
            <a:ext cx="5816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calculus is used to obtain the coefficient estimators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inimize 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524D-7A54-4CAA-8E26-C1C063231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coefficient estimat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constant or y-intercep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ression line always goes through the mean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487600" y="2405160"/>
                <a:ext cx="350856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48160" y="4929120"/>
                <a:ext cx="1670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8156520" y="595296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8485200" y="595296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st Squares Estimat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56F6-3F25-4CEA-BD98-638AD9301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the Least Squares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95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, and other regression results in this chapter, will be found using a compu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nd calculations are tedio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cal routines are built into 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statistical analysis software can be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E9EB-015E-4EAC-A933-147CDF056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31752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ar Regression Model Assum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e relationship form is linear (Y is a linear function of X, plus random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 terms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dependent of the x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 terms are random variables with mean 0 and constant varianc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onstant variance property is calle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scedast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error terms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not correlated with one another,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6720" y="4502160"/>
                <a:ext cx="53323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035160" y="5880240"/>
                <a:ext cx="2963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for all 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377F-97C1-4715-B5AD-043020256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219320" y="2120760"/>
            <a:ext cx="7315200" cy="4027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is the estimated average value of  y  when the value of  x  is ze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 x = 0  is in the range of observed  x 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is the estimated change in the average value of  y  as a result of a one-unit change in 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360" y="539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lope and the Intercep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DCEF-239D-4811-95DD-34F29A7FA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Linear Regress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800D-FFEA-4C2B-A557-C506E8347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e Data for House Price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23880" y="1600200"/>
          <a:ext cx="6096240" cy="446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19D5-37F8-458B-8EFB-574A0EF77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14320"/>
            <a:ext cx="7924680" cy="470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rrelation coefficient and perform a hypothesis test for zero population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imple linear 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asure of explanatory power of the 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ABCF-5B31-4194-B9CB-DB1693B10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120" y="1952280"/>
            <a:ext cx="579132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D3F2-1E82-4044-998C-2E767C146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Using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858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7C8D-B354-4258-A898-9B7FD958A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33520" y="1676520"/>
          <a:ext cx="8229600" cy="432432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42C4-8DA2-4B5B-ABD5-09639B12B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68040"/>
            <a:ext cx="731520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261F-0AD3-482F-A755-1A16FBCF51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ept,  b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9700-748F-4C70-939C-28159ED6A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lope Coefficient,  b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E4F2-6C3C-4F61-A45E-949C3D960F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010640" cy="67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52280" y="4419720"/>
                <a:ext cx="2660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215040" y="4433760"/>
                <a:ext cx="2774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284640" y="4432320"/>
                <a:ext cx="2593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905120" y="5105520"/>
            <a:ext cx="63244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882880" y="6199200"/>
                <a:ext cx="20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62360" y="5486400"/>
                <a:ext cx="241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AD26-C820-4F0B-8590-E26999ABAF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45720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 around their mean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ed variation attributable to the linear relationship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attributable to factors other than the linear relationship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51240" y="2806560"/>
            <a:ext cx="18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43B5-3581-41C8-ACD6-00A329F387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381636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7600" y="276696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45600" y="222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44528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35020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6B15-86A7-4FB0-A97D-687FA256EA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90720" y="1639800"/>
            <a:ext cx="76197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Determination, 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770280" y="5805360"/>
                <a:ext cx="1906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860480" y="4489560"/>
                <a:ext cx="58755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7D12-F07E-4385-B566-ED15F11BE6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measures of variation and determine whether the independent variable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regression equation for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forecast intervals around an estimated Y value for a give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phical analysis to recognize potential problems in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58F3-7161-4B4F-ADB0-8FEA14FD1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813C-7EC0-4354-A0BA-33F439D4F9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EE92-C192-41BE-8482-20D673BB0F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 of Approx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7E31-D174-4DFE-B6BC-CF2EC2175C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c7daf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987720" y="1523880"/>
                <a:ext cx="4629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7D70-03E3-4DE2-962F-20C05B3B14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d R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6471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fficient of determination,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a simple regression is equal to the simple correlation squ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402000" y="3648240"/>
                <a:ext cx="18669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6A91-F169-4F5F-B324-B2FF6E1CE9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Model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rror Vari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or for the variance of the population model err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by n – 2 instead of n – 1 is because the simple regression model uses two estimated parameters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error of th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2816280" y="2697120"/>
                <a:ext cx="35481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170000" y="5440320"/>
                <a:ext cx="1339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1BB0-6F72-46F8-B3A7-B15D5AFC81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de0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 flipV="1">
            <a:off x="3276720" y="2133360"/>
            <a:ext cx="6094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010040" y="1814400"/>
                <a:ext cx="2438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14B9-84A9-4DE2-A793-7564789778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Standard Err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748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332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4317200">
            <a:off x="5625720" y="3887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4317200">
            <a:off x="562572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4317200">
            <a:off x="737820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4317200">
            <a:off x="753084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4317200">
            <a:off x="608292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4317200">
            <a:off x="7378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4317200">
            <a:off x="69210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4317200">
            <a:off x="699732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4317200">
            <a:off x="646380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4317200">
            <a:off x="55494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4317200">
            <a:off x="577800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4317200">
            <a:off x="6159240" y="3389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4317200">
            <a:off x="699732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4317200">
            <a:off x="661644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4317200">
            <a:off x="6463800" y="396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70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9748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4317200">
            <a:off x="775944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4317200">
            <a:off x="6921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4317200">
            <a:off x="676872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4317200">
            <a:off x="62352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4317200">
            <a:off x="7461000" y="3590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6512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8096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4317200">
            <a:off x="15174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4317200">
            <a:off x="15933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4317200">
            <a:off x="372708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4317200">
            <a:off x="349848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4317200">
            <a:off x="197460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4317200">
            <a:off x="3346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4317200">
            <a:off x="311760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4317200">
            <a:off x="182196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4317200">
            <a:off x="2203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4317200">
            <a:off x="296496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4317200">
            <a:off x="258408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4317200">
            <a:off x="22791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8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6512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4317200">
            <a:off x="2660400" y="3277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4317200">
            <a:off x="2889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4317200">
            <a:off x="24318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4317200">
            <a:off x="372708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7696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1544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27080" y="435780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51600" y="4359240"/>
                <a:ext cx="99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1371600" y="152388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496584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5791320"/>
            <a:ext cx="7467840" cy="8103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 - $3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A12F-3F69-4008-A3CC-2DC6C5786E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622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s About th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ression Mod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ance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502000" y="3170160"/>
                <a:ext cx="43862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1095480" y="5029200"/>
                <a:ext cx="509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2304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4D96-F07E-4217-ACD3-8BB42B0C4C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7daf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61040" y="2666880"/>
                <a:ext cx="2404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9A8D-7A7F-4BB8-9A49-2C254513F7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was first presented in 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532E-FC1E-4F89-87D7-C007B5552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Standard Errors of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312588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39720" y="327780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9736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23880" y="457344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57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600200" y="335412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600200" y="312552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79920" y="31399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784840" y="3063960"/>
            <a:ext cx="20574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53400" y="283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9920" y="458784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91760" y="45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08520" y="3673440"/>
            <a:ext cx="2362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556240" y="3368160"/>
            <a:ext cx="2438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035080" y="4649760"/>
                <a:ext cx="1136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078600" y="4664160"/>
                <a:ext cx="1090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99072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measure of the variation in the slope of regression lines from different possibl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108080" y="179712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6E73-C8B1-4957-8D8A-FBF241A809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676520" y="2895480"/>
            <a:ext cx="6324480" cy="838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065400" y="4419720"/>
                <a:ext cx="19130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5486400" y="4343400"/>
            <a:ext cx="35053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6C9D-B10B-464C-8055-28AFD6E8DF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28600" y="1905120"/>
          <a:ext cx="2819520" cy="39672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6DB8-2A19-4593-8BC3-D956F8F3BD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9640" y="340056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5320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972480" y="2514600"/>
            <a:ext cx="304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934320" y="373392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723888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5105520" y="4648320"/>
            <a:ext cx="380880" cy="459720"/>
          </a:xfrm>
          <a:prstGeom prst="rect">
            <a:avLst/>
          </a:prstGeom>
          <a:solidFill>
            <a:srgbClr val="c7daf7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082960" y="4419720"/>
                <a:ext cx="54165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1A92-2AAD-4E2A-9218-62839782E8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19640" y="340056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5320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972480" y="2514600"/>
            <a:ext cx="304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96248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723888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962520"/>
            <a:ext cx="4572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6273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27372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71640" y="5738760"/>
            <a:ext cx="96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62120" y="6099120"/>
            <a:ext cx="1218960" cy="393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361600" y="6099120"/>
            <a:ext cx="990360" cy="393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351960" y="6197760"/>
            <a:ext cx="83844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18520" y="3392640"/>
            <a:ext cx="1523880" cy="736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8,.0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2.3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3504960" y="5333760"/>
            <a:ext cx="6120" cy="874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3962520"/>
            <a:ext cx="2514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71760" y="5734080"/>
            <a:ext cx="96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7155-55B1-439F-9FAF-3BCB6E06B7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523880"/>
            <a:ext cx="3429000" cy="5335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0.010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81439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2514600"/>
            <a:ext cx="763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72400" y="2057400"/>
            <a:ext cx="1066680" cy="39888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3962520"/>
            <a:ext cx="4572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3962520"/>
            <a:ext cx="40384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396252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wo-tail test, so the p-valu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t &gt; 3.329)+P(t &lt; -3.329) = 0.01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8 d.f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1FFE-AF76-4477-9846-DFE8A25E73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5376960"/>
            <a:ext cx="785808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646280" y="2259000"/>
                <a:ext cx="5815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675" name=""/>
          <p:cNvGraphicFramePr/>
          <p:nvPr/>
        </p:nvGraphicFramePr>
        <p:xfrm>
          <a:off x="304920" y="392904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662004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6304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248520" y="385272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4462560"/>
            <a:ext cx="1000080" cy="428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241400" y="2952720"/>
            <a:ext cx="114300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CBBE-F98E-468D-8F28-00EDA09EDC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04920" y="190512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683" name="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9067-1209-41B6-A00C-951CF45938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48000"/>
          </a:bodyPr>
          <a:p>
            <a:pPr marL="153720" indent="-153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9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267080" y="1676520"/>
                <a:ext cx="1755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83808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 follows an F distribution with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umerat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n – k - 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nominator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C504-6ACA-4907-A6AF-57234EB480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533520" y="1676520"/>
          <a:ext cx="8229600" cy="43383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505320" y="1981080"/>
                <a:ext cx="4701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 flipV="1">
            <a:off x="3124080" y="350496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248520" y="2590560"/>
            <a:ext cx="9903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9608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43800" y="3048120"/>
            <a:ext cx="129528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05320" y="2971800"/>
            <a:ext cx="236196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29718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E597-D1F5-45A2-BC53-EC470F4184E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6000" y="1636560"/>
            <a:ext cx="72853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pulation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noted 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e Greek letter r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30680" y="3267000"/>
                <a:ext cx="17938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633760" y="5111640"/>
                <a:ext cx="4070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901880" y="4635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9B55-3F95-4F5C-B211-756AD9064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3848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4759200" y="2209680"/>
                <a:ext cx="2613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7245-9D19-419B-92E8-BE1A007DF0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855800"/>
            <a:ext cx="7719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ression equation can be used to predict a value for y, given a particula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ed value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the predicted va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852640" y="4307040"/>
                <a:ext cx="33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A1E3-FCAD-4583-91BE-493B8A2455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s Us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6193-B44A-4FE7-AC57-1631004B61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152280" y="354348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4348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levant Data 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02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62120" y="4915080"/>
            <a:ext cx="167616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962520" y="346716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5400000">
            <a:off x="3047760" y="274320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4960" y="2990880"/>
            <a:ext cx="2560680" cy="398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data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0552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y to try to extrapolate far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4571640" y="3962160"/>
            <a:ext cx="60948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1599840" y="5333760"/>
            <a:ext cx="35053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636C-D9B2-46EF-AFF4-4EBE2C86EF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32040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ng Mean Values and Predicting Individual Val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293832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6215040"/>
            <a:ext cx="5214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200400" y="3395160"/>
            <a:ext cx="5334120" cy="2057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2633760"/>
            <a:ext cx="63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077320" y="62150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2200" y="255744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05640" y="619776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319560"/>
            <a:ext cx="212760" cy="175248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828800" y="4919400"/>
            <a:ext cx="60948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666160" y="3852720"/>
            <a:ext cx="228600" cy="7621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7400" y="3395520"/>
            <a:ext cx="6094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9240" y="4270320"/>
            <a:ext cx="160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6000" y="40957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065480" y="4462560"/>
            <a:ext cx="4011840" cy="161748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95840" y="5092560"/>
            <a:ext cx="3143160" cy="989280"/>
          </a:xfrm>
          <a:custGeom>
            <a:avLst/>
            <a:gdLst/>
            <a:ahLst/>
            <a:rect l="l" t="t" r="r" b="b"/>
            <a:pathLst>
              <a:path w="1980" h="623">
                <a:moveTo>
                  <a:pt x="0" y="623"/>
                </a:moveTo>
                <a:cubicBezTo>
                  <a:pt x="53" y="572"/>
                  <a:pt x="191" y="408"/>
                  <a:pt x="315" y="317"/>
                </a:cubicBezTo>
                <a:cubicBezTo>
                  <a:pt x="439" y="226"/>
                  <a:pt x="582" y="129"/>
                  <a:pt x="742" y="77"/>
                </a:cubicBezTo>
                <a:cubicBezTo>
                  <a:pt x="902" y="25"/>
                  <a:pt x="1067" y="10"/>
                  <a:pt x="1273" y="5"/>
                </a:cubicBezTo>
                <a:cubicBezTo>
                  <a:pt x="1479" y="0"/>
                  <a:pt x="1833" y="38"/>
                  <a:pt x="1980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38680" y="2457360"/>
            <a:ext cx="324792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2695680"/>
            <a:ext cx="3930480" cy="1938240"/>
          </a:xfrm>
          <a:custGeom>
            <a:avLst/>
            <a:gdLst/>
            <a:ahLst/>
            <a:rect l="l" t="t" r="r" b="b"/>
            <a:pathLst>
              <a:path w="3580" h="1221">
                <a:moveTo>
                  <a:pt x="0" y="1221"/>
                </a:moveTo>
                <a:cubicBezTo>
                  <a:pt x="194" y="1207"/>
                  <a:pt x="744" y="1217"/>
                  <a:pt x="1166" y="1133"/>
                </a:cubicBezTo>
                <a:cubicBezTo>
                  <a:pt x="1588" y="1049"/>
                  <a:pt x="2132" y="903"/>
                  <a:pt x="2534" y="714"/>
                </a:cubicBezTo>
                <a:cubicBezTo>
                  <a:pt x="2936" y="526"/>
                  <a:pt x="3362" y="149"/>
                  <a:pt x="358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1960" y="2295360"/>
            <a:ext cx="1765440" cy="17247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y,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3009960" y="4309560"/>
            <a:ext cx="316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4233960"/>
            <a:ext cx="152640" cy="1522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452920"/>
            <a:ext cx="2441520" cy="111492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gle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009960" y="3317760"/>
            <a:ext cx="3162240" cy="1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009960" y="509760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009960" y="4689360"/>
            <a:ext cx="3162240" cy="18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09960" y="3851280"/>
            <a:ext cx="3162240" cy="144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76520" y="43099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9240" y="4087800"/>
            <a:ext cx="14475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28800" y="1523880"/>
            <a:ext cx="6477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Form intervals around y to express uncertainty about the value of y for a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454960" y="2984400"/>
            <a:ext cx="27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458200" y="2743200"/>
            <a:ext cx="38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C922-4242-484F-AB43-99C5162FDA2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720" y="32040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Average Y, Given 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cted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19360" y="5148360"/>
            <a:ext cx="5778360" cy="1267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formula involves the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size of interval varies according to the distanc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rom the mea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409760" y="2770200"/>
                <a:ext cx="640548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den>
                            </m:f>
                          </m:e>
                        </m:d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4054320" y="6062760"/>
            <a:ext cx="11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997600" y="5111640"/>
                <a:ext cx="1135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52E8-F8FB-4234-BD54-46F7E060515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720" y="32040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 Individual Y, Given 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14400" y="1676520"/>
            <a:ext cx="7391520" cy="9097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tual observed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554832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410080" y="365760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206360" y="2952720"/>
                <a:ext cx="68281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den>
                            </m:f>
                          </m:e>
                        </m:d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 flipV="1">
            <a:off x="4718160" y="4672080"/>
            <a:ext cx="0" cy="869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9E3D-966F-4637-BCB4-8849601D4A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Mean Values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the mean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7040" y="3303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950760" y="1563840"/>
            <a:ext cx="7388280" cy="609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E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386000" y="4124160"/>
                <a:ext cx="6113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2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93640" y="5486400"/>
            <a:ext cx="800100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and 354.90, or from $280,660 to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46DF-BD3D-460B-A324-CC96C350540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360" y="24732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of Individual Values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90920" y="33037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1600200" y="1600200"/>
            <a:ext cx="6176880" cy="63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846000" y="4114800"/>
                <a:ext cx="74264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,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685800" y="5486400"/>
            <a:ext cx="7924680" cy="820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15.50 and 420.07, or from $215,500 to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65840" y="141768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C770-FC70-41AF-B927-5C62FC97FA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61760" y="3204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5CA2-236B-4EDA-A718-9E5EF0C00BB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st the null hypothesis of no linear associ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2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llows the Student’s  t distribution with (n – 2 ) degrees of fre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33440" y="228600"/>
            <a:ext cx="72612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 for Correl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11440" y="2697120"/>
                <a:ext cx="1540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54240" y="4489560"/>
                <a:ext cx="26607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0880" y="350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CD57-578D-4DF0-9EFE-9312289C9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761760" y="3204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48280" y="4929120"/>
            <a:ext cx="3531960" cy="7405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E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48280" y="5789520"/>
            <a:ext cx="3531960" cy="7405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individual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91120" y="4341960"/>
            <a:ext cx="4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70240" y="413244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809880" y="4572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048120" y="4419720"/>
            <a:ext cx="76176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668920" y="6016680"/>
            <a:ext cx="33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1A54-E9AD-472A-BA5E-0D13E1069E6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ar regression model is based on minimizing the sum of square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utliers exist, their potentially large squared errors may have a strong influence on the fitte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examine your data graphically for outliers and extrem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, based on your model and logic, whether the extreme points should remain or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5269-B062-484E-B055-64419322CD8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7720" y="1636560"/>
            <a:ext cx="8077320" cy="476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h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correlation and the assumptions of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stimating the simple linear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0923-FCFE-4A06-8668-FCF8E36267F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38240" y="5695920"/>
            <a:ext cx="424332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64824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100240"/>
            <a:ext cx="2514600" cy="14018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207648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57480" y="1454040"/>
            <a:ext cx="464508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ypothesis Test for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576000"/>
            <a:ext cx="73483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cision Ru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2560" y="4257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57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64824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638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57080" y="4257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364824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4638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7242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257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64824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64824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638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372420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3280" y="372420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05560" y="4181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410080" y="4181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72420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635360"/>
            <a:ext cx="63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463536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87120" y="4334040"/>
            <a:ext cx="3240" cy="301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67160" y="4307040"/>
            <a:ext cx="0" cy="365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13440" y="4343400"/>
            <a:ext cx="0" cy="328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4334040"/>
            <a:ext cx="3240" cy="301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960" y="5148360"/>
            <a:ext cx="25974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148360"/>
            <a:ext cx="2533680" cy="50508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9440" y="5148360"/>
            <a:ext cx="2695320" cy="80208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2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5720" y="595296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95880" y="589752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 n - 2  d.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62440" y="5734080"/>
                <a:ext cx="1444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3BD8-4567-487C-98A0-34708DA32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0786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dogenous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variable used to 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ogenous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7C17-ECB5-4F50-BA0E-2D70B6E1CB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near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90320" y="1782720"/>
            <a:ext cx="6954840" cy="4608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 X  and  Y  is described by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 Y  are assumed to b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hanges in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gression population eq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re the population model coefficients 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 random error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62440" y="4307040"/>
                <a:ext cx="3078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9621-D71E-4261-A273-F6AA1EE26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1:09:31Z</dcterms:created>
  <dc:creator>Dirk Yandell</dc:creator>
  <dc:description/>
  <dc:language>en-US</dc:language>
  <cp:lastModifiedBy>D Yandell</cp:lastModifiedBy>
  <cp:lastPrinted>1998-11-22T23:37:53Z</cp:lastPrinted>
  <dcterms:modified xsi:type="dcterms:W3CDTF">2006-03-24T18:25:18Z</dcterms:modified>
  <cp:revision>75</cp:revision>
  <dc:subject>Chapter 12</dc:subject>
  <dc:title>Statistics for Business and Economics, 6/e</dc:title>
</cp:coreProperties>
</file>