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DAE0A-8A87-4A2E-A086-6ADE812E3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75B8F-AC98-4BAD-9AB4-060EE548E8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26677-E6EF-4171-A2B2-9B13CE9780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868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000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868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000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650AF-14F3-4E29-A6AE-974BC9A039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C826-7B7B-4D1B-93F0-DFD63EB613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59F9-B1EA-4DD9-9EF6-344DE2A9AC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9C64-463A-481D-BBE2-AEEF92BCD9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91BE-23AC-47B5-B695-23C9107DE0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70FF-8FA8-41D1-B3C3-11AC833961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50560" y="228600"/>
            <a:ext cx="70786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A7D9-B030-4BE7-9DCA-B5CE4CF39B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2D34-EB68-4332-9245-0381905403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0B933-F958-4451-98DA-1181FCFDE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94A9-09FF-49DD-B3F4-F1D22FA84B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E0E2-277D-4541-B2F3-A6CFC421BD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6EC3-67CE-4FDF-9478-09C0EF9731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C6F2-226F-44D2-B3CE-F55D0DD09C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868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000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868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000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3D52-829A-4D4B-87F5-7DBB815FAA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0159B-283E-4B84-A081-B1CC1B91B7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FDCB7-1581-4C92-8448-E19E313F95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53446-1D80-4B5E-9C92-D94AA7812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228600"/>
            <a:ext cx="70786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815A7-F689-40A0-9B95-9CB0086BF0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B1365-2E3C-4006-BEA5-F4C0558782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00C3F-2415-4F0E-82F8-2EF9BDBDD6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F87DB-72A4-43A6-B4A3-DC77431703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5340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tistics for Business and Economics, 6e © 2007 Pearson Education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57640" y="65336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 12-</a:t>
            </a:r>
            <a:fld id="{8C09E580-77E4-41AA-8803-45648C3014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8686800" cy="117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33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3"/>
          </p:nvPr>
        </p:nvSpPr>
        <p:spPr>
          <a:xfrm>
            <a:off x="685764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 12-</a:t>
            </a:r>
            <a:fld id="{A8734D08-9870-4431-B250-2EA17D5ECD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8600" y="2590920"/>
            <a:ext cx="8686800" cy="1177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152280" y="65340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tistics for Business and Economics, 6e © 2007 Pearson Education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ctr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248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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06400" algn="ctr">
              <a:spcBef>
                <a:spcPts val="451"/>
              </a:spcBef>
              <a:buClr>
                <a:srgbClr val="fd2b4e"/>
              </a:buClr>
              <a:buSzPct val="50000"/>
              <a:buFont typeface="Wingdings" charset="2"/>
              <a:buChar char=""/>
              <a:tabLst>
                <a:tab algn="l" pos="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064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064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67652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mple Regress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838080"/>
            <a:ext cx="701028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atistics f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Business and Economics</a:t>
            </a:r>
            <a:r>
              <a:rPr b="0" lang="en-US" sz="41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1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6</a:t>
            </a:r>
            <a:r>
              <a:rPr b="0" lang="en-US" sz="28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1FAE-2BAE-463F-9859-5D03B5278E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643040" y="3581280"/>
                <a:ext cx="608796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3579480" y="502920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320400"/>
            <a:ext cx="70786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imple Linear Regression Mode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711440"/>
            <a:ext cx="4724280" cy="45468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tion regression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33720" y="2514600"/>
            <a:ext cx="1523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 inter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2362320"/>
            <a:ext cx="14479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Slop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effici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2286000"/>
            <a:ext cx="11476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Error 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3124080"/>
            <a:ext cx="1838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ent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320040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365760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3200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7358760" y="3388320"/>
            <a:ext cx="385920" cy="44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2514600"/>
            <a:ext cx="1605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 rot="16200000">
            <a:off x="4569120" y="3659400"/>
            <a:ext cx="228600" cy="2662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69120 h 2662200"/>
              <a:gd name="textAreaBottom" fmla="*/ 2593080 h 266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57040" y="3317760"/>
            <a:ext cx="298440" cy="34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 rot="16200000">
            <a:off x="7124400" y="45172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50120" y="5089680"/>
            <a:ext cx="178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1C0C4-5437-496F-8E8E-F578A6B0C4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 flipH="1">
            <a:off x="2286000" y="42670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286000" y="297180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47684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020840" y="3094200"/>
            <a:ext cx="6120" cy="279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122560" y="2990880"/>
            <a:ext cx="6470640" cy="1830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11560" y="4743360"/>
            <a:ext cx="454320" cy="453960"/>
          </a:xfrm>
          <a:custGeom>
            <a:avLst/>
            <a:gdLst/>
            <a:ahLst/>
            <a:rect l="l" t="t" r="r" b="b"/>
            <a:pathLst>
              <a:path w="286" h="286">
                <a:moveTo>
                  <a:pt x="0" y="145"/>
                </a:moveTo>
                <a:lnTo>
                  <a:pt x="7" y="99"/>
                </a:lnTo>
                <a:lnTo>
                  <a:pt x="26" y="61"/>
                </a:lnTo>
                <a:lnTo>
                  <a:pt x="61" y="30"/>
                </a:lnTo>
                <a:lnTo>
                  <a:pt x="99" y="8"/>
                </a:lnTo>
                <a:lnTo>
                  <a:pt x="144" y="0"/>
                </a:lnTo>
                <a:lnTo>
                  <a:pt x="186" y="8"/>
                </a:lnTo>
                <a:lnTo>
                  <a:pt x="228" y="30"/>
                </a:lnTo>
                <a:lnTo>
                  <a:pt x="259" y="61"/>
                </a:lnTo>
                <a:lnTo>
                  <a:pt x="278" y="99"/>
                </a:lnTo>
                <a:lnTo>
                  <a:pt x="285" y="145"/>
                </a:lnTo>
                <a:lnTo>
                  <a:pt x="278" y="190"/>
                </a:lnTo>
                <a:lnTo>
                  <a:pt x="259" y="228"/>
                </a:lnTo>
                <a:lnTo>
                  <a:pt x="228" y="259"/>
                </a:lnTo>
                <a:lnTo>
                  <a:pt x="186" y="281"/>
                </a:lnTo>
                <a:lnTo>
                  <a:pt x="144" y="285"/>
                </a:lnTo>
                <a:lnTo>
                  <a:pt x="99" y="281"/>
                </a:lnTo>
                <a:lnTo>
                  <a:pt x="61" y="259"/>
                </a:lnTo>
                <a:lnTo>
                  <a:pt x="26" y="228"/>
                </a:lnTo>
                <a:lnTo>
                  <a:pt x="7" y="190"/>
                </a:lnTo>
                <a:lnTo>
                  <a:pt x="0" y="145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97440" y="53370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3962520"/>
            <a:ext cx="243864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Error for this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11160" y="1924200"/>
            <a:ext cx="45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11960" y="5824440"/>
            <a:ext cx="45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754760" y="2685960"/>
            <a:ext cx="455760" cy="453960"/>
          </a:xfrm>
          <a:custGeom>
            <a:avLst/>
            <a:gdLst/>
            <a:ahLst/>
            <a:rect l="l" t="t" r="r" b="b"/>
            <a:pathLst>
              <a:path w="287" h="286">
                <a:moveTo>
                  <a:pt x="0" y="141"/>
                </a:moveTo>
                <a:lnTo>
                  <a:pt x="8" y="99"/>
                </a:lnTo>
                <a:lnTo>
                  <a:pt x="26" y="57"/>
                </a:lnTo>
                <a:lnTo>
                  <a:pt x="57" y="26"/>
                </a:lnTo>
                <a:lnTo>
                  <a:pt x="99" y="8"/>
                </a:lnTo>
                <a:lnTo>
                  <a:pt x="141" y="0"/>
                </a:lnTo>
                <a:lnTo>
                  <a:pt x="187" y="8"/>
                </a:lnTo>
                <a:lnTo>
                  <a:pt x="224" y="26"/>
                </a:lnTo>
                <a:lnTo>
                  <a:pt x="259" y="57"/>
                </a:lnTo>
                <a:lnTo>
                  <a:pt x="278" y="99"/>
                </a:lnTo>
                <a:lnTo>
                  <a:pt x="286" y="141"/>
                </a:lnTo>
                <a:lnTo>
                  <a:pt x="278" y="186"/>
                </a:lnTo>
                <a:lnTo>
                  <a:pt x="259" y="224"/>
                </a:lnTo>
                <a:lnTo>
                  <a:pt x="224" y="259"/>
                </a:lnTo>
                <a:lnTo>
                  <a:pt x="187" y="278"/>
                </a:lnTo>
                <a:lnTo>
                  <a:pt x="141" y="285"/>
                </a:lnTo>
                <a:lnTo>
                  <a:pt x="99" y="278"/>
                </a:lnTo>
                <a:lnTo>
                  <a:pt x="57" y="259"/>
                </a:lnTo>
                <a:lnTo>
                  <a:pt x="26" y="224"/>
                </a:lnTo>
                <a:lnTo>
                  <a:pt x="8" y="186"/>
                </a:lnTo>
                <a:lnTo>
                  <a:pt x="0" y="141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02000" y="4673520"/>
            <a:ext cx="455400" cy="455760"/>
          </a:xfrm>
          <a:custGeom>
            <a:avLst/>
            <a:gdLst/>
            <a:ahLst/>
            <a:rect l="l" t="t" r="r" b="b"/>
            <a:pathLst>
              <a:path w="287" h="287">
                <a:moveTo>
                  <a:pt x="0" y="145"/>
                </a:moveTo>
                <a:lnTo>
                  <a:pt x="8" y="99"/>
                </a:lnTo>
                <a:lnTo>
                  <a:pt x="27" y="62"/>
                </a:lnTo>
                <a:lnTo>
                  <a:pt x="58" y="27"/>
                </a:lnTo>
                <a:lnTo>
                  <a:pt x="99" y="8"/>
                </a:lnTo>
                <a:lnTo>
                  <a:pt x="141" y="0"/>
                </a:lnTo>
                <a:lnTo>
                  <a:pt x="187" y="8"/>
                </a:lnTo>
                <a:lnTo>
                  <a:pt x="225" y="27"/>
                </a:lnTo>
                <a:lnTo>
                  <a:pt x="260" y="62"/>
                </a:lnTo>
                <a:lnTo>
                  <a:pt x="278" y="99"/>
                </a:lnTo>
                <a:lnTo>
                  <a:pt x="286" y="145"/>
                </a:lnTo>
                <a:lnTo>
                  <a:pt x="278" y="187"/>
                </a:lnTo>
                <a:lnTo>
                  <a:pt x="260" y="228"/>
                </a:lnTo>
                <a:lnTo>
                  <a:pt x="225" y="260"/>
                </a:lnTo>
                <a:lnTo>
                  <a:pt x="187" y="278"/>
                </a:lnTo>
                <a:lnTo>
                  <a:pt x="141" y="286"/>
                </a:lnTo>
                <a:lnTo>
                  <a:pt x="99" y="278"/>
                </a:lnTo>
                <a:lnTo>
                  <a:pt x="58" y="260"/>
                </a:lnTo>
                <a:lnTo>
                  <a:pt x="27" y="228"/>
                </a:lnTo>
                <a:lnTo>
                  <a:pt x="8" y="187"/>
                </a:lnTo>
                <a:lnTo>
                  <a:pt x="0" y="145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38480" y="493704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3809880"/>
            <a:ext cx="455760" cy="454320"/>
          </a:xfrm>
          <a:custGeom>
            <a:avLst/>
            <a:gdLst/>
            <a:ahLst/>
            <a:rect l="l" t="t" r="r" b="b"/>
            <a:pathLst>
              <a:path w="287" h="286">
                <a:moveTo>
                  <a:pt x="0" y="144"/>
                </a:moveTo>
                <a:lnTo>
                  <a:pt x="8" y="99"/>
                </a:lnTo>
                <a:lnTo>
                  <a:pt x="26" y="61"/>
                </a:lnTo>
                <a:lnTo>
                  <a:pt x="58" y="26"/>
                </a:lnTo>
                <a:lnTo>
                  <a:pt x="99" y="7"/>
                </a:lnTo>
                <a:lnTo>
                  <a:pt x="141" y="0"/>
                </a:lnTo>
                <a:lnTo>
                  <a:pt x="187" y="7"/>
                </a:lnTo>
                <a:lnTo>
                  <a:pt x="225" y="26"/>
                </a:lnTo>
                <a:lnTo>
                  <a:pt x="260" y="61"/>
                </a:lnTo>
                <a:lnTo>
                  <a:pt x="278" y="99"/>
                </a:lnTo>
                <a:lnTo>
                  <a:pt x="286" y="144"/>
                </a:lnTo>
                <a:lnTo>
                  <a:pt x="278" y="186"/>
                </a:lnTo>
                <a:lnTo>
                  <a:pt x="260" y="228"/>
                </a:lnTo>
                <a:lnTo>
                  <a:pt x="225" y="259"/>
                </a:lnTo>
                <a:lnTo>
                  <a:pt x="187" y="277"/>
                </a:lnTo>
                <a:lnTo>
                  <a:pt x="141" y="285"/>
                </a:lnTo>
                <a:lnTo>
                  <a:pt x="99" y="277"/>
                </a:lnTo>
                <a:lnTo>
                  <a:pt x="58" y="259"/>
                </a:lnTo>
                <a:lnTo>
                  <a:pt x="26" y="228"/>
                </a:lnTo>
                <a:lnTo>
                  <a:pt x="8" y="186"/>
                </a:lnTo>
                <a:lnTo>
                  <a:pt x="0" y="144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45080" y="3143160"/>
            <a:ext cx="455760" cy="453960"/>
          </a:xfrm>
          <a:custGeom>
            <a:avLst/>
            <a:gdLst/>
            <a:ahLst/>
            <a:rect l="l" t="t" r="r" b="b"/>
            <a:pathLst>
              <a:path w="287" h="286">
                <a:moveTo>
                  <a:pt x="0" y="140"/>
                </a:moveTo>
                <a:lnTo>
                  <a:pt x="8" y="99"/>
                </a:lnTo>
                <a:lnTo>
                  <a:pt x="26" y="57"/>
                </a:lnTo>
                <a:lnTo>
                  <a:pt x="61" y="26"/>
                </a:lnTo>
                <a:lnTo>
                  <a:pt x="99" y="7"/>
                </a:lnTo>
                <a:lnTo>
                  <a:pt x="145" y="0"/>
                </a:lnTo>
                <a:lnTo>
                  <a:pt x="187" y="7"/>
                </a:lnTo>
                <a:lnTo>
                  <a:pt x="228" y="26"/>
                </a:lnTo>
                <a:lnTo>
                  <a:pt x="259" y="57"/>
                </a:lnTo>
                <a:lnTo>
                  <a:pt x="278" y="99"/>
                </a:lnTo>
                <a:lnTo>
                  <a:pt x="286" y="140"/>
                </a:lnTo>
                <a:lnTo>
                  <a:pt x="278" y="186"/>
                </a:lnTo>
                <a:lnTo>
                  <a:pt x="259" y="224"/>
                </a:lnTo>
                <a:lnTo>
                  <a:pt x="228" y="259"/>
                </a:lnTo>
                <a:lnTo>
                  <a:pt x="187" y="277"/>
                </a:lnTo>
                <a:lnTo>
                  <a:pt x="145" y="285"/>
                </a:lnTo>
                <a:lnTo>
                  <a:pt x="99" y="277"/>
                </a:lnTo>
                <a:lnTo>
                  <a:pt x="61" y="259"/>
                </a:lnTo>
                <a:lnTo>
                  <a:pt x="26" y="224"/>
                </a:lnTo>
                <a:lnTo>
                  <a:pt x="8" y="186"/>
                </a:lnTo>
                <a:lnTo>
                  <a:pt x="0" y="140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74880" y="411012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35520" y="29941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35520" y="3054240"/>
            <a:ext cx="183960" cy="921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35560" y="302436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438280"/>
            <a:ext cx="6323040" cy="3452760"/>
          </a:xfrm>
          <a:custGeom>
            <a:avLst/>
            <a:gdLst/>
            <a:ahLst/>
            <a:rect l="l" t="t" r="r" b="b"/>
            <a:pathLst>
              <a:path w="3983" h="2175">
                <a:moveTo>
                  <a:pt x="1" y="0"/>
                </a:moveTo>
                <a:lnTo>
                  <a:pt x="0" y="2175"/>
                </a:lnTo>
                <a:lnTo>
                  <a:pt x="3983" y="2175"/>
                </a:lnTo>
              </a:path>
            </a:pathLst>
          </a:custGeom>
          <a:noFill/>
          <a:ln cap="rnd"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00080" y="251604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00080" y="307656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0080" y="339084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00080" y="369900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00080" y="401472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00080" y="432900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0080" y="463716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00080" y="495144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00080" y="525924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00080" y="557532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58960" y="4237200"/>
            <a:ext cx="921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24400" y="616428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2666880"/>
            <a:ext cx="205740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d Value of Y for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4896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05720" y="3505320"/>
            <a:ext cx="1676160" cy="14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81880" y="3048120"/>
            <a:ext cx="1800" cy="4572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097160" y="3219480"/>
            <a:ext cx="152640" cy="990720"/>
          </a:xfrm>
          <a:custGeom>
            <a:avLst/>
            <a:gdLst>
              <a:gd name="textAreaLeft" fmla="*/ 97560 w 152640"/>
              <a:gd name="textAreaRight" fmla="*/ 153000 w 15264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75"/>
                </a:lnTo>
                <a:cubicBezTo>
                  <a:pt x="10800" y="9675"/>
                  <a:pt x="5400" y="10575"/>
                  <a:pt x="0" y="10575"/>
                </a:cubicBezTo>
                <a:cubicBezTo>
                  <a:pt x="5400" y="10575"/>
                  <a:pt x="10800" y="11475"/>
                  <a:pt x="10800" y="123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44880" y="4210200"/>
            <a:ext cx="152280" cy="152280"/>
          </a:xfrm>
          <a:custGeom>
            <a:avLst/>
            <a:gdLst/>
            <a:ahLst/>
            <a:rect l="l" t="t" r="r" b="b"/>
            <a:pathLst>
              <a:path w="286" h="286">
                <a:moveTo>
                  <a:pt x="0" y="145"/>
                </a:moveTo>
                <a:lnTo>
                  <a:pt x="7" y="99"/>
                </a:lnTo>
                <a:lnTo>
                  <a:pt x="26" y="61"/>
                </a:lnTo>
                <a:lnTo>
                  <a:pt x="61" y="30"/>
                </a:lnTo>
                <a:lnTo>
                  <a:pt x="99" y="8"/>
                </a:lnTo>
                <a:lnTo>
                  <a:pt x="144" y="0"/>
                </a:lnTo>
                <a:lnTo>
                  <a:pt x="186" y="8"/>
                </a:lnTo>
                <a:lnTo>
                  <a:pt x="228" y="30"/>
                </a:lnTo>
                <a:lnTo>
                  <a:pt x="259" y="61"/>
                </a:lnTo>
                <a:lnTo>
                  <a:pt x="278" y="99"/>
                </a:lnTo>
                <a:lnTo>
                  <a:pt x="285" y="145"/>
                </a:lnTo>
                <a:lnTo>
                  <a:pt x="278" y="190"/>
                </a:lnTo>
                <a:lnTo>
                  <a:pt x="259" y="228"/>
                </a:lnTo>
                <a:lnTo>
                  <a:pt x="228" y="259"/>
                </a:lnTo>
                <a:lnTo>
                  <a:pt x="186" y="281"/>
                </a:lnTo>
                <a:lnTo>
                  <a:pt x="144" y="285"/>
                </a:lnTo>
                <a:lnTo>
                  <a:pt x="99" y="281"/>
                </a:lnTo>
                <a:lnTo>
                  <a:pt x="61" y="259"/>
                </a:lnTo>
                <a:lnTo>
                  <a:pt x="26" y="228"/>
                </a:lnTo>
                <a:lnTo>
                  <a:pt x="7" y="190"/>
                </a:lnTo>
                <a:lnTo>
                  <a:pt x="0" y="145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3886200"/>
            <a:ext cx="198108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ed Value of Y for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629160" y="1752480"/>
                <a:ext cx="387828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3814200" y="5867280"/>
            <a:ext cx="42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92600" y="2762280"/>
            <a:ext cx="455400" cy="453960"/>
          </a:xfrm>
          <a:custGeom>
            <a:avLst/>
            <a:gdLst/>
            <a:ahLst/>
            <a:rect l="l" t="t" r="r" b="b"/>
            <a:pathLst>
              <a:path w="287" h="286">
                <a:moveTo>
                  <a:pt x="0" y="144"/>
                </a:moveTo>
                <a:lnTo>
                  <a:pt x="8" y="99"/>
                </a:lnTo>
                <a:lnTo>
                  <a:pt x="26" y="61"/>
                </a:lnTo>
                <a:lnTo>
                  <a:pt x="61" y="30"/>
                </a:lnTo>
                <a:lnTo>
                  <a:pt x="99" y="8"/>
                </a:lnTo>
                <a:lnTo>
                  <a:pt x="145" y="0"/>
                </a:lnTo>
                <a:lnTo>
                  <a:pt x="187" y="8"/>
                </a:lnTo>
                <a:lnTo>
                  <a:pt x="228" y="30"/>
                </a:lnTo>
                <a:lnTo>
                  <a:pt x="259" y="61"/>
                </a:lnTo>
                <a:lnTo>
                  <a:pt x="278" y="99"/>
                </a:lnTo>
                <a:lnTo>
                  <a:pt x="286" y="144"/>
                </a:lnTo>
                <a:lnTo>
                  <a:pt x="278" y="190"/>
                </a:lnTo>
                <a:lnTo>
                  <a:pt x="259" y="228"/>
                </a:lnTo>
                <a:lnTo>
                  <a:pt x="228" y="259"/>
                </a:lnTo>
                <a:lnTo>
                  <a:pt x="187" y="281"/>
                </a:lnTo>
                <a:lnTo>
                  <a:pt x="145" y="285"/>
                </a:lnTo>
                <a:lnTo>
                  <a:pt x="99" y="281"/>
                </a:lnTo>
                <a:lnTo>
                  <a:pt x="61" y="259"/>
                </a:lnTo>
                <a:lnTo>
                  <a:pt x="26" y="228"/>
                </a:lnTo>
                <a:lnTo>
                  <a:pt x="8" y="190"/>
                </a:lnTo>
                <a:lnTo>
                  <a:pt x="0" y="144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4648320" y="380952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24480" y="25146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934320" y="3429000"/>
            <a:ext cx="1676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pe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5105520"/>
            <a:ext cx="1828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ept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1120" y="3352680"/>
            <a:ext cx="533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320400"/>
            <a:ext cx="70786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imple Linear Regression Mode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79EB4-6CF5-4D7A-8742-B783E55B77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595600" y="4044960"/>
                <a:ext cx="36291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1143000" y="1600200"/>
            <a:ext cx="7086600" cy="8254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 linear regression equation provides an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population regression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320400"/>
            <a:ext cx="70786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imple Linear Regression Equ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59240" y="2673360"/>
            <a:ext cx="18288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of the regress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40320" y="2749680"/>
            <a:ext cx="20574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of the regression slop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40120" y="366408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5439960" y="3435480"/>
            <a:ext cx="22860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96920" y="2587680"/>
            <a:ext cx="17524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d  (or predicted) y value for observation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0760" y="3871800"/>
            <a:ext cx="279360" cy="32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59640" y="3816360"/>
            <a:ext cx="1752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of x for observation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126120" y="4197240"/>
            <a:ext cx="53352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16160" y="5294160"/>
            <a:ext cx="67816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he individual random error terms 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have a mean of 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774880" y="5807160"/>
                <a:ext cx="3524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DF4EA-18BB-482D-9A19-0E03371973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Least Squares Estimator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543800" cy="1677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and  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are obtained by finding the values of  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and  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that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minimize the sum of the squared differences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tween  y  and     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266920" y="3282840"/>
                <a:ext cx="5014800" cy="23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  SSE</m:t>
                        </m:r>
                        <m:r>
                          <m:t xml:space="preserve">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 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in 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</m:e>
                        </m:nary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in 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7172280" y="2733840"/>
                <a:ext cx="2890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2193840" y="5843520"/>
            <a:ext cx="58165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l calculus is used to obtain the coefficient estimators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minimize 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2279D-0173-40D1-B91F-BB5AA5EC87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lope coefficient estimator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constant or y-intercep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gression line always goes through the mean x,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487600" y="2405160"/>
                <a:ext cx="3508560" cy="15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548160" y="4929120"/>
                <a:ext cx="16700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8156520" y="5952960"/>
            <a:ext cx="146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508640" y="3346560"/>
                <a:ext cx="1267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508640" y="3346560"/>
                <a:ext cx="1267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8485200" y="5952960"/>
            <a:ext cx="146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Least Squares Estimator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47684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553BC-1C72-42FD-A798-2E61EFBF06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320400"/>
            <a:ext cx="70786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Finding the Least Squares Equ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8076960" cy="38955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5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coefficients  b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and  b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, and other regression results in this chapter, will be found using a compu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34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nd calculations are tediou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34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tistical routines are built into Exc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34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ther statistical analysis software can be us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80FBC-F5BC-44E0-BD80-E5359E0823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31752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inear Regression Model Assumption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ue relationship form is linear (Y is a linear function of X, plus random err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rror terms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independent of the x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rror terms are random variables with mean 0 and constant variance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e constant variance property is calle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omoscedasti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2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ndom error terms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re not correlated with one another, so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836720" y="4502160"/>
                <a:ext cx="533232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 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,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035160" y="5880240"/>
                <a:ext cx="29638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for all  i</m:t>
                    </m:r>
                    <m:r>
                      <m:t xml:space="preserve">≠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112B5-5433-4D2B-80A7-184E32C1F3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219320" y="2120760"/>
            <a:ext cx="7315200" cy="4027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1576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is the estimated average value of  y  when the value of  x  is zer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f  x = 0  is in the range of observed  x 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788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738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is the estimated change in the average value of  y  as a result of a one-unit change in  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990360" y="53928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terpretation of th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lope and the Intercep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234EA-CF7C-4542-A856-C0EA320292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828800"/>
            <a:ext cx="8153280" cy="13716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320400"/>
            <a:ext cx="70786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imple Linear Regression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real estate agent wishes to examine the relationship between the selling price of a home and its size (measured in square feet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3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random sample of 10 houses is select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Dependent variable (Y) = house price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in $1000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Independent variable (X) = square fe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58000" y="5029200"/>
            <a:ext cx="1981080" cy="130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6A7C8-8A8E-47A1-9394-8DE1D95277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320400"/>
            <a:ext cx="70786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ample Data for House Price Mode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523880" y="1600200"/>
          <a:ext cx="6096240" cy="44625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7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e Price in $1000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Y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60DE0-E312-4313-8FDF-424A951C47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pter Goal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14320"/>
            <a:ext cx="7924680" cy="470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correlation coefficient and perform a hypothesis test for zero population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simple linear regress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 and interpret the simple linear regression equation for a set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measure of explanatory power of the regress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assumptions behind regressio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C0C03-AA42-4C3A-83A9-B9FBB9E2E5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1447920" y="2286000"/>
          <a:ext cx="5715000" cy="388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86000"/>
                    <a:ext cx="5715000" cy="38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Graphical Present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752120" y="1952280"/>
            <a:ext cx="5791320" cy="1174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 price model:  scatter p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90C7D-36F4-48A7-A105-C10B43F8BC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Regression Using Exce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95280" y="152352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ols / Data Analysis / Regres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6858000" cy="447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55571-428C-4142-B0CA-2CDA42C710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010280" y="6056280"/>
            <a:ext cx="1219320" cy="8017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276720" y="2286000"/>
            <a:ext cx="5715000" cy="53352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cel Outpu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533520" y="1676520"/>
          <a:ext cx="8229600" cy="4324320"/>
        </p:xfrm>
        <a:graphic>
          <a:graphicData uri="http://schemas.openxmlformats.org/drawingml/2006/table">
            <a:tbl>
              <a:tblPr/>
              <a:tblGrid>
                <a:gridCol w="1600200"/>
                <a:gridCol w="1066680"/>
                <a:gridCol w="1447920"/>
                <a:gridCol w="1079280"/>
                <a:gridCol w="792360"/>
                <a:gridCol w="1252440"/>
                <a:gridCol w="990720"/>
              </a:tblGrid>
              <a:tr h="276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80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justed 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8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33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serv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nificance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08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65.56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8.1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600.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5.577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7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5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"/>
          <p:cNvSpPr/>
          <p:nvPr/>
        </p:nvSpPr>
        <p:spPr>
          <a:xfrm>
            <a:off x="380880" y="4952880"/>
            <a:ext cx="3124440" cy="1371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666880" y="2819520"/>
            <a:ext cx="1447920" cy="2209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00400" y="1828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regression equation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276720" y="2438280"/>
                <a:ext cx="573552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3657600" y="2362320"/>
            <a:ext cx="62856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374CB-6884-4BAD-B357-5E046277A3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"/>
          <p:cNvGraphicFramePr/>
          <p:nvPr/>
        </p:nvGraphicFramePr>
        <p:xfrm>
          <a:off x="2209680" y="2514600"/>
          <a:ext cx="4876920" cy="33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487692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1828800" y="5715000"/>
            <a:ext cx="6019920" cy="68580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Graphical Present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868040"/>
            <a:ext cx="7315200" cy="1174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 price model:  scatter plot and regression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1981080" y="5943600"/>
                <a:ext cx="57358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 flipH="1">
            <a:off x="2819520" y="3886200"/>
            <a:ext cx="1676160" cy="7621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438280" y="5867280"/>
            <a:ext cx="62892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010280" y="3124080"/>
            <a:ext cx="1371600" cy="698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109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066680" y="4724280"/>
            <a:ext cx="1219320" cy="79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98.248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6019920" y="2438280"/>
            <a:ext cx="1676160" cy="7621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400800" y="3048120"/>
            <a:ext cx="609480" cy="45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384" y="288"/>
                </a:moveTo>
                <a:cubicBezTo>
                  <a:pt x="272" y="288"/>
                  <a:pt x="160" y="288"/>
                  <a:pt x="96" y="240"/>
                </a:cubicBezTo>
                <a:cubicBezTo>
                  <a:pt x="32" y="192"/>
                  <a:pt x="16" y="96"/>
                  <a:pt x="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0" y="4572000"/>
            <a:ext cx="762120" cy="635040"/>
          </a:xfrm>
          <a:custGeom>
            <a:avLst/>
            <a:gdLst/>
            <a:ahLst/>
            <a:rect l="l" t="t" r="r" b="b"/>
            <a:pathLst>
              <a:path w="480" h="400">
                <a:moveTo>
                  <a:pt x="0" y="384"/>
                </a:moveTo>
                <a:cubicBezTo>
                  <a:pt x="152" y="392"/>
                  <a:pt x="304" y="400"/>
                  <a:pt x="384" y="336"/>
                </a:cubicBezTo>
                <a:cubicBezTo>
                  <a:pt x="464" y="272"/>
                  <a:pt x="464" y="56"/>
                  <a:pt x="48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0" y="5638680"/>
            <a:ext cx="1295280" cy="8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95791-31B6-49AB-975D-D14A478EC2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6629400" y="4267080"/>
            <a:ext cx="2057400" cy="45720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19520" y="1905120"/>
            <a:ext cx="1752480" cy="45720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360" y="24732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terpretation of th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tercept,  b</a:t>
            </a:r>
            <a:r>
              <a:rPr b="0" lang="en-US" sz="4000" spc="-1" strike="noStrike" baseline="-25000">
                <a:solidFill>
                  <a:srgbClr val="333399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8077320" cy="337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estimated average value of Y when the value of X is zero (if X = 0 is in the range of observed X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ere, no houses had 0 square feet, so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= 98.24833 just indicates that, for houses within the range of sizes observed, $98,248.33 is the portion of the house price not explained by square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33520" y="1905120"/>
                <a:ext cx="80010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1219320" y="1828800"/>
            <a:ext cx="62856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1676520"/>
            <a:ext cx="830592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71F9D-B757-4BCB-8A00-64CC45EAE86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800600" y="1905120"/>
            <a:ext cx="1523880" cy="45720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133720" y="4572000"/>
            <a:ext cx="1676160" cy="45720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360" y="24732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terpretation of th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lope Coefficient,  b</a:t>
            </a:r>
            <a:r>
              <a:rPr b="0" lang="en-US" sz="40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2743200"/>
            <a:ext cx="8077320" cy="318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9000"/>
          </a:bodyPr>
          <a:p>
            <a:pPr marL="317520" indent="-317520">
              <a:lnSpc>
                <a:spcPct val="11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sures the estimated change in the average value of Y as a result of a one-unit change in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lnSpc>
                <a:spcPct val="11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ere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= .10977 tells us that the average value of a house increases by .10977($1000) = $109.77, on average, for each additional one square foot of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533520" y="1905120"/>
                <a:ext cx="80010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1219320" y="1828800"/>
            <a:ext cx="62856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" y="1676520"/>
            <a:ext cx="830592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6858000" y="5867280"/>
            <a:ext cx="1295280" cy="8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37AD0-5BB4-40CD-A976-AA21B3851C3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easures of Vari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68400"/>
            <a:ext cx="7010640" cy="67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variation is made up of two par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934920" y="2362320"/>
                <a:ext cx="72090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T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 SSR 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  SS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685800" y="3352680"/>
            <a:ext cx="1600200" cy="76212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otal Sum of Squa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505320" y="3352680"/>
            <a:ext cx="2057400" cy="762120"/>
          </a:xfrm>
          <a:prstGeom prst="rect">
            <a:avLst/>
          </a:prstGeom>
          <a:solidFill>
            <a:srgbClr val="c4e6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gression Sum of Squa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477120" y="3352680"/>
            <a:ext cx="2057400" cy="762120"/>
          </a:xfrm>
          <a:prstGeom prst="rect">
            <a:avLst/>
          </a:prstGeom>
          <a:solidFill>
            <a:srgbClr val="ff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rror Sum of Squa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152280" y="4419720"/>
                <a:ext cx="26607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215040" y="4433760"/>
                <a:ext cx="2774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E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3284640" y="4432320"/>
                <a:ext cx="25938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R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1905120" y="5105520"/>
            <a:ext cx="632448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verage value of the dependent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Observed values of the dependent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Predicted value of y for the give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2882880" y="6199200"/>
                <a:ext cx="2016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2862360" y="5486400"/>
                <a:ext cx="2412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743F6-C1D2-48CB-A243-44BDA1F8800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143000" y="4572000"/>
            <a:ext cx="3962520" cy="457200"/>
          </a:xfrm>
          <a:prstGeom prst="rect">
            <a:avLst/>
          </a:prstGeom>
          <a:solidFill>
            <a:srgbClr val="ff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143000" y="3276720"/>
            <a:ext cx="4724280" cy="457200"/>
          </a:xfrm>
          <a:prstGeom prst="rect">
            <a:avLst/>
          </a:prstGeom>
          <a:solidFill>
            <a:srgbClr val="c4e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1828800"/>
            <a:ext cx="3886200" cy="4572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14280" indent="-3142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T = total sum of squa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-2628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the variation of the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ues around their mean,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R = regression sum of squa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-2628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ed variation attributable to the linear relationship between x an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E = error sum of squa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-2628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 attributable to factors other than the linear relationship between x an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47684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easures of Vari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451240" y="2806560"/>
            <a:ext cx="182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9A2ED-A867-41FA-8D86-F206DB912EA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 flipH="1">
            <a:off x="685440" y="4724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685800" y="220968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570560" y="4037040"/>
            <a:ext cx="685800" cy="457200"/>
          </a:xfrm>
          <a:prstGeom prst="rect">
            <a:avLst/>
          </a:prstGeom>
          <a:solidFill>
            <a:srgbClr val="c4e6c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0" y="2362320"/>
            <a:ext cx="685800" cy="457200"/>
          </a:xfrm>
          <a:prstGeom prst="rect">
            <a:avLst/>
          </a:prstGeom>
          <a:solidFill>
            <a:srgbClr val="ffe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3124080"/>
            <a:ext cx="685800" cy="45720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7684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1828800"/>
            <a:ext cx="0" cy="415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85800" y="6019920"/>
            <a:ext cx="7639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209600" y="2453760"/>
            <a:ext cx="6269040" cy="2713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09880" y="2057400"/>
            <a:ext cx="304920" cy="30492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62520" y="2386080"/>
            <a:ext cx="0" cy="23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735360" y="6021360"/>
            <a:ext cx="835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50760" y="4724280"/>
            <a:ext cx="7170840" cy="0"/>
          </a:xfrm>
          <a:prstGeom prst="line">
            <a:avLst/>
          </a:prstGeom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305920" y="4495680"/>
            <a:ext cx="466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e4a8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305920" y="5867280"/>
            <a:ext cx="466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28600" y="1905120"/>
            <a:ext cx="771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125880" y="2208240"/>
            <a:ext cx="534960" cy="2519280"/>
          </a:xfrm>
          <a:custGeom>
            <a:avLst/>
            <a:gdLst/>
            <a:ahLst/>
            <a:rect l="l" t="t" r="r" b="b"/>
            <a:pathLst>
              <a:path w="337" h="1587">
                <a:moveTo>
                  <a:pt x="336" y="0"/>
                </a:moveTo>
                <a:lnTo>
                  <a:pt x="303" y="5"/>
                </a:lnTo>
                <a:lnTo>
                  <a:pt x="270" y="10"/>
                </a:lnTo>
                <a:lnTo>
                  <a:pt x="240" y="23"/>
                </a:lnTo>
                <a:lnTo>
                  <a:pt x="218" y="42"/>
                </a:lnTo>
                <a:lnTo>
                  <a:pt x="196" y="60"/>
                </a:lnTo>
                <a:lnTo>
                  <a:pt x="181" y="83"/>
                </a:lnTo>
                <a:lnTo>
                  <a:pt x="170" y="106"/>
                </a:lnTo>
                <a:lnTo>
                  <a:pt x="166" y="134"/>
                </a:lnTo>
                <a:lnTo>
                  <a:pt x="166" y="659"/>
                </a:lnTo>
                <a:lnTo>
                  <a:pt x="163" y="687"/>
                </a:lnTo>
                <a:lnTo>
                  <a:pt x="155" y="710"/>
                </a:lnTo>
                <a:lnTo>
                  <a:pt x="137" y="733"/>
                </a:lnTo>
                <a:lnTo>
                  <a:pt x="118" y="756"/>
                </a:lnTo>
                <a:lnTo>
                  <a:pt x="93" y="770"/>
                </a:lnTo>
                <a:lnTo>
                  <a:pt x="67" y="784"/>
                </a:lnTo>
                <a:lnTo>
                  <a:pt x="34" y="789"/>
                </a:lnTo>
                <a:lnTo>
                  <a:pt x="0" y="793"/>
                </a:lnTo>
                <a:lnTo>
                  <a:pt x="34" y="798"/>
                </a:lnTo>
                <a:lnTo>
                  <a:pt x="67" y="802"/>
                </a:lnTo>
                <a:lnTo>
                  <a:pt x="93" y="816"/>
                </a:lnTo>
                <a:lnTo>
                  <a:pt x="118" y="835"/>
                </a:lnTo>
                <a:lnTo>
                  <a:pt x="137" y="853"/>
                </a:lnTo>
                <a:lnTo>
                  <a:pt x="155" y="876"/>
                </a:lnTo>
                <a:lnTo>
                  <a:pt x="163" y="899"/>
                </a:lnTo>
                <a:lnTo>
                  <a:pt x="166" y="927"/>
                </a:lnTo>
                <a:lnTo>
                  <a:pt x="166" y="1452"/>
                </a:lnTo>
                <a:lnTo>
                  <a:pt x="170" y="1480"/>
                </a:lnTo>
                <a:lnTo>
                  <a:pt x="181" y="1503"/>
                </a:lnTo>
                <a:lnTo>
                  <a:pt x="196" y="1526"/>
                </a:lnTo>
                <a:lnTo>
                  <a:pt x="218" y="1549"/>
                </a:lnTo>
                <a:lnTo>
                  <a:pt x="240" y="1563"/>
                </a:lnTo>
                <a:lnTo>
                  <a:pt x="270" y="1577"/>
                </a:lnTo>
                <a:lnTo>
                  <a:pt x="303" y="1581"/>
                </a:lnTo>
                <a:lnTo>
                  <a:pt x="336" y="1586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63560" y="3125880"/>
            <a:ext cx="2587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T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e4a8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2209680"/>
            <a:ext cx="311040" cy="1606680"/>
          </a:xfrm>
          <a:custGeom>
            <a:avLst/>
            <a:gdLst/>
            <a:ahLst/>
            <a:rect l="l" t="t" r="r" b="b"/>
            <a:pathLst>
              <a:path w="196" h="1012">
                <a:moveTo>
                  <a:pt x="0" y="0"/>
                </a:moveTo>
                <a:lnTo>
                  <a:pt x="18" y="4"/>
                </a:lnTo>
                <a:lnTo>
                  <a:pt x="41" y="8"/>
                </a:lnTo>
                <a:lnTo>
                  <a:pt x="73" y="26"/>
                </a:lnTo>
                <a:lnTo>
                  <a:pt x="91" y="52"/>
                </a:lnTo>
                <a:lnTo>
                  <a:pt x="100" y="85"/>
                </a:lnTo>
                <a:lnTo>
                  <a:pt x="100" y="421"/>
                </a:lnTo>
                <a:lnTo>
                  <a:pt x="109" y="454"/>
                </a:lnTo>
                <a:lnTo>
                  <a:pt x="127" y="480"/>
                </a:lnTo>
                <a:lnTo>
                  <a:pt x="159" y="498"/>
                </a:lnTo>
                <a:lnTo>
                  <a:pt x="195" y="506"/>
                </a:lnTo>
                <a:lnTo>
                  <a:pt x="159" y="513"/>
                </a:lnTo>
                <a:lnTo>
                  <a:pt x="127" y="532"/>
                </a:lnTo>
                <a:lnTo>
                  <a:pt x="109" y="557"/>
                </a:lnTo>
                <a:lnTo>
                  <a:pt x="100" y="591"/>
                </a:lnTo>
                <a:lnTo>
                  <a:pt x="100" y="926"/>
                </a:lnTo>
                <a:lnTo>
                  <a:pt x="91" y="959"/>
                </a:lnTo>
                <a:lnTo>
                  <a:pt x="73" y="985"/>
                </a:lnTo>
                <a:lnTo>
                  <a:pt x="41" y="1004"/>
                </a:lnTo>
                <a:lnTo>
                  <a:pt x="18" y="1011"/>
                </a:lnTo>
                <a:lnTo>
                  <a:pt x="0" y="1011"/>
                </a:lnTo>
              </a:path>
            </a:pathLst>
          </a:custGeom>
          <a:noFill/>
          <a:ln cap="rnd" w="255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497480" y="2363760"/>
            <a:ext cx="2511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E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48520" y="2133720"/>
            <a:ext cx="107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114800" y="3962520"/>
            <a:ext cx="228600" cy="765000"/>
          </a:xfrm>
          <a:custGeom>
            <a:avLst/>
            <a:gdLst/>
            <a:ahLst/>
            <a:rect l="l" t="t" r="r" b="b"/>
            <a:pathLst>
              <a:path w="144" h="577">
                <a:moveTo>
                  <a:pt x="0" y="0"/>
                </a:moveTo>
                <a:lnTo>
                  <a:pt x="28" y="4"/>
                </a:lnTo>
                <a:lnTo>
                  <a:pt x="51" y="14"/>
                </a:lnTo>
                <a:lnTo>
                  <a:pt x="65" y="27"/>
                </a:lnTo>
                <a:lnTo>
                  <a:pt x="69" y="46"/>
                </a:lnTo>
                <a:lnTo>
                  <a:pt x="69" y="239"/>
                </a:lnTo>
                <a:lnTo>
                  <a:pt x="74" y="258"/>
                </a:lnTo>
                <a:lnTo>
                  <a:pt x="92" y="272"/>
                </a:lnTo>
                <a:lnTo>
                  <a:pt x="115" y="281"/>
                </a:lnTo>
                <a:lnTo>
                  <a:pt x="143" y="286"/>
                </a:lnTo>
                <a:lnTo>
                  <a:pt x="115" y="290"/>
                </a:lnTo>
                <a:lnTo>
                  <a:pt x="92" y="299"/>
                </a:lnTo>
                <a:lnTo>
                  <a:pt x="74" y="318"/>
                </a:lnTo>
                <a:lnTo>
                  <a:pt x="69" y="336"/>
                </a:lnTo>
                <a:lnTo>
                  <a:pt x="69" y="525"/>
                </a:lnTo>
                <a:lnTo>
                  <a:pt x="65" y="544"/>
                </a:lnTo>
                <a:lnTo>
                  <a:pt x="51" y="562"/>
                </a:lnTo>
                <a:lnTo>
                  <a:pt x="28" y="571"/>
                </a:lnTo>
                <a:lnTo>
                  <a:pt x="0" y="576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495680" y="4038480"/>
            <a:ext cx="3349800" cy="10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R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e4a8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791320" y="3816360"/>
            <a:ext cx="107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4748040"/>
            <a:ext cx="0" cy="1252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307360" y="411624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e4a8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48520" y="3657600"/>
            <a:ext cx="606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e4a8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487600" y="276696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e4a8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545600" y="2222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543800" y="1981080"/>
            <a:ext cx="107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1523880"/>
            <a:ext cx="466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685800" y="396252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" y="445284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e4a8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" y="403848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e4a8"/>
                </a:solidFill>
                <a:latin typeface="Arial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06720" y="37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4920" y="3502080"/>
            <a:ext cx="107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easures of Vari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A4C63-C9A4-479B-BFBB-04CBB7628C3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990720" y="1639800"/>
            <a:ext cx="761976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coefficient of determinatio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the portion of the total variation in the dependent variable that is explained by variation in the independent varia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coefficient of determination is also called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R-square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nd is denoted as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0" lang="en-US" sz="27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efficient of Determination, R</a:t>
            </a:r>
            <a:r>
              <a:rPr b="0" lang="en-US" sz="40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3770280" y="5805360"/>
                <a:ext cx="19065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2895480" y="58672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1860480" y="4489560"/>
                <a:ext cx="587556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S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egression sum of squares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sum of squar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9002E-F37F-4783-8114-E566D18DEEC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pter Goal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924680" cy="4757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measures of variation and determine whether the independent variable is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and interpret confidence intervals for the regression coeffic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regression equation for 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forecast intervals around an estimated Y value for a given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graphical analysis to recognize potential problems in regressio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47684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94E1C-FE65-4047-ACDE-D4D1F774E4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622160" y="5992920"/>
            <a:ext cx="916560" cy="45972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4732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amples of Approximat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r</a:t>
            </a:r>
            <a:r>
              <a:rPr b="0" lang="en-US" sz="40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 Valu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932040" y="2295360"/>
            <a:ext cx="0" cy="152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947880" y="2448000"/>
            <a:ext cx="257472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 rot="7282800">
            <a:off x="3064320" y="3133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 rot="7282800">
            <a:off x="2454840" y="2904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 rot="7282800">
            <a:off x="1997640" y="2752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 rot="7282800">
            <a:off x="1006920" y="2371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 rot="7282800">
            <a:off x="1388160" y="2523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 rot="7282800">
            <a:off x="1769040" y="2676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57440" y="176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32040" y="38196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 rot="7282800">
            <a:off x="2683440" y="2980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195720" y="3589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938160" y="449568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1090440" y="4800600"/>
            <a:ext cx="26672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11280" y="4265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938160" y="59436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14317200">
            <a:off x="124272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202200" y="578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607760" y="3886200"/>
            <a:ext cx="916560" cy="45972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14317200">
            <a:off x="154728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14317200">
            <a:off x="185220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14317200">
            <a:off x="215712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14317200">
            <a:off x="261432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4317200">
            <a:off x="2918880" y="4876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14317200">
            <a:off x="345240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122360" y="2286000"/>
            <a:ext cx="916560" cy="45972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114800" y="3048120"/>
            <a:ext cx="441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ect linear relationship between X and Y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% of the variation in Y is explained by variation in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73E62-8CE0-44ED-8E63-AA4644EDCBE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amples of Approximat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r</a:t>
            </a:r>
            <a:r>
              <a:rPr b="0" lang="en-US" sz="40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 Valu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990720" y="2362320"/>
            <a:ext cx="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999720" y="2506320"/>
            <a:ext cx="2575080" cy="87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4317200">
            <a:off x="3276360" y="342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4317200">
            <a:off x="3041280" y="3115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14317200">
            <a:off x="1212480" y="2125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14317200">
            <a:off x="1569600" y="2506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4317200">
            <a:off x="2736360" y="3344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14317200">
            <a:off x="1060200" y="2811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4317200">
            <a:off x="2331720" y="3268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4317200">
            <a:off x="175212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4317200">
            <a:off x="259056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4317200">
            <a:off x="3047760" y="2742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4317200">
            <a:off x="1417320" y="2963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4317200">
            <a:off x="22093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4317200">
            <a:off x="175212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4317200">
            <a:off x="2179440" y="2963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10000" y="1743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90720" y="3809880"/>
            <a:ext cx="2361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27852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984240" y="4640400"/>
            <a:ext cx="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1000080" y="4792320"/>
            <a:ext cx="2575080" cy="87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4317200">
            <a:off x="1212480" y="5706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rot="14317200">
            <a:off x="1212480" y="5401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14317200">
            <a:off x="2964960" y="441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14317200">
            <a:off x="3117600" y="479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rot="14317200">
            <a:off x="1669680" y="5630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rot="14317200">
            <a:off x="2964960" y="5020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14317200">
            <a:off x="2507760" y="5630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14317200">
            <a:off x="2584080" y="441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14317200">
            <a:off x="2050560" y="456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rot="14317200">
            <a:off x="1136160" y="5020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14317200">
            <a:off x="1364760" y="4640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4317200">
            <a:off x="1746000" y="5208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14317200">
            <a:off x="2584080" y="5173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14317200">
            <a:off x="2203200" y="5325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14317200">
            <a:off x="2050560" y="5783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7360" y="4334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984240" y="608796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rot="14317200">
            <a:off x="3346200" y="5249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248280" y="5934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14317200">
            <a:off x="2507760" y="486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14317200">
            <a:off x="2355480" y="456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14317200">
            <a:off x="1821960" y="486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rot="14317200">
            <a:off x="2636640" y="2887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rot="14317200">
            <a:off x="190476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rot="14317200">
            <a:off x="1904760" y="312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121280" y="2286000"/>
            <a:ext cx="1434960" cy="45972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&lt; 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114800" y="304812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ker linear relationships between X and Y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but not all of the variation in Y is explained by variation in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rot="14317200">
            <a:off x="304776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18B86-647E-4561-AF77-83956F9577A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amples of Approximat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r</a:t>
            </a:r>
            <a:r>
              <a:rPr b="0" lang="en-US" sz="40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 Valu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122360" y="2286000"/>
            <a:ext cx="916560" cy="45972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3048120"/>
            <a:ext cx="4191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linear relationship between X and Y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value of Y does not depend on X.  (None of the variation in Y is explained by variation in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90640" y="2936880"/>
            <a:ext cx="0" cy="160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rot="14317200">
            <a:off x="1142640" y="369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rot="14317200">
            <a:off x="2971440" y="3317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14317200">
            <a:off x="2666520" y="3470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rot="14317200">
            <a:off x="2285640" y="3774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14317200">
            <a:off x="2361960" y="316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14317200">
            <a:off x="1904760" y="316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14317200">
            <a:off x="1066320" y="324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14317200">
            <a:off x="1371240" y="339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rot="14317200">
            <a:off x="1676160" y="3580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14317200">
            <a:off x="2057040" y="35460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rot="14317200">
            <a:off x="1828440" y="3850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35040" y="2554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914400" y="45370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rot="14317200">
            <a:off x="2795400" y="369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049920" y="4459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66960" y="36226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733040" y="4613400"/>
            <a:ext cx="916560" cy="45972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78BB3-2FB2-4F0F-ACEC-1AD34709C88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6934320" y="6019920"/>
            <a:ext cx="1066680" cy="70164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533520" y="4648320"/>
            <a:ext cx="990360" cy="22860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33520" y="4114800"/>
            <a:ext cx="990360" cy="22860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80880" y="2133720"/>
            <a:ext cx="3124440" cy="457200"/>
          </a:xfrm>
          <a:prstGeom prst="ellipse">
            <a:avLst/>
          </a:prstGeom>
          <a:solidFill>
            <a:srgbClr val="c7daf7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733920" y="3809880"/>
            <a:ext cx="380880" cy="22860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657600" y="4648320"/>
            <a:ext cx="990720" cy="22860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657600" y="4114800"/>
            <a:ext cx="990720" cy="22860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cel Outpu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533520" y="1676520"/>
          <a:ext cx="8229600" cy="4352760"/>
        </p:xfrm>
        <a:graphic>
          <a:graphicData uri="http://schemas.openxmlformats.org/drawingml/2006/table">
            <a:tbl>
              <a:tblPr/>
              <a:tblGrid>
                <a:gridCol w="1600200"/>
                <a:gridCol w="1066680"/>
                <a:gridCol w="1447920"/>
                <a:gridCol w="1079280"/>
                <a:gridCol w="792360"/>
                <a:gridCol w="1252440"/>
                <a:gridCol w="990720"/>
              </a:tblGrid>
              <a:tr h="276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80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justed 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8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33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serv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nificance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08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65.56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8.1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600.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5.577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7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5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8" name=""/>
          <p:cNvSpPr/>
          <p:nvPr/>
        </p:nvSpPr>
        <p:spPr>
          <a:xfrm flipV="1">
            <a:off x="3429000" y="1980720"/>
            <a:ext cx="5335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105520" y="2446560"/>
            <a:ext cx="3692520" cy="100872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8.08% of the variation in house prices is explained by variation in square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523880" y="41911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523880" y="48006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3987720" y="1523880"/>
                <a:ext cx="462924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S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9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6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08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3" name=""/>
          <p:cNvSpPr/>
          <p:nvPr/>
        </p:nvSpPr>
        <p:spPr>
          <a:xfrm flipV="1">
            <a:off x="4114800" y="2286000"/>
            <a:ext cx="609480" cy="1295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57200" y="3581280"/>
            <a:ext cx="4191120" cy="1371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520C2-E1D0-409F-99E6-EF06C40D1A3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rrelation and R</a:t>
            </a:r>
            <a:r>
              <a:rPr b="0" lang="en-US" sz="4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68400"/>
            <a:ext cx="76471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efficient of determination,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or a simple regression is equal to the simple correlation squ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3402000" y="3648240"/>
                <a:ext cx="186696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7AD12-227C-4A69-AE2D-13FD718A7CA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320400"/>
            <a:ext cx="70786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stimation of Model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rror Varianc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stimator for the variance of the population model error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sion by n – 2 instead of n – 1 is because the simple regression model uses two estimated parameters,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stead of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called 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andard error of the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2816280" y="2697120"/>
                <a:ext cx="354816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E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1170000" y="5440320"/>
                <a:ext cx="13399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DFB36-9644-4D02-9AFC-10267EAAF0B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6781680" y="6019920"/>
            <a:ext cx="1143000" cy="75240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304920" y="2666880"/>
            <a:ext cx="3124080" cy="457200"/>
          </a:xfrm>
          <a:prstGeom prst="ellipse">
            <a:avLst/>
          </a:prstGeom>
          <a:solidFill>
            <a:srgbClr val="fde0b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cel Outpu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533520" y="1676520"/>
          <a:ext cx="8229600" cy="4352760"/>
        </p:xfrm>
        <a:graphic>
          <a:graphicData uri="http://schemas.openxmlformats.org/drawingml/2006/table">
            <a:tbl>
              <a:tblPr/>
              <a:tblGrid>
                <a:gridCol w="1600200"/>
                <a:gridCol w="1066680"/>
                <a:gridCol w="1447920"/>
                <a:gridCol w="1079280"/>
                <a:gridCol w="792360"/>
                <a:gridCol w="1252440"/>
                <a:gridCol w="990720"/>
              </a:tblGrid>
              <a:tr h="276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80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justed 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8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33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serv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nificance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08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65.56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8.1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600.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5.577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7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5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6" name=""/>
          <p:cNvSpPr/>
          <p:nvPr/>
        </p:nvSpPr>
        <p:spPr>
          <a:xfrm flipV="1">
            <a:off x="3276720" y="2133360"/>
            <a:ext cx="6094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4010040" y="1814400"/>
                <a:ext cx="24382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0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16CEE-888A-467F-8051-06F5DECA3CB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mparing Standard Error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397480" y="282096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5413320" y="2973240"/>
            <a:ext cx="2575080" cy="87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14317200">
            <a:off x="5625720" y="38872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14317200">
            <a:off x="5625720" y="3582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14317200">
            <a:off x="7378200" y="25920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14317200">
            <a:off x="7530840" y="29728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rot="14317200">
            <a:off x="6082920" y="3811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14317200">
            <a:off x="7378200" y="32014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14317200">
            <a:off x="6921000" y="3811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14317200">
            <a:off x="6997320" y="25920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14317200">
            <a:off x="6463800" y="27442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rot="14317200">
            <a:off x="5549400" y="32014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rot="14317200">
            <a:off x="5778000" y="2820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rot="14317200">
            <a:off x="6159240" y="3389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rot="14317200">
            <a:off x="6997320" y="3354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rot="14317200">
            <a:off x="6616440" y="3506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rot="14317200">
            <a:off x="6463800" y="3963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070600" y="2514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397480" y="42688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rot="14317200">
            <a:off x="7759440" y="34300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rot="14317200">
            <a:off x="6921000" y="3049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rot="14317200">
            <a:off x="6768720" y="27442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rot="14317200">
            <a:off x="6235200" y="3049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rot="14317200">
            <a:off x="7461000" y="3590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365120" y="282096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1380960" y="2973240"/>
            <a:ext cx="2575080" cy="87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rot="14317200">
            <a:off x="1517400" y="3811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rot="14317200">
            <a:off x="1593360" y="3582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rot="14317200">
            <a:off x="3727080" y="2820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14317200">
            <a:off x="3498480" y="29728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rot="14317200">
            <a:off x="1974600" y="3582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14317200">
            <a:off x="3346200" y="32014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14317200">
            <a:off x="3117600" y="29728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rot="14317200">
            <a:off x="1821960" y="34300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rot="14317200">
            <a:off x="2203200" y="32014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14317200">
            <a:off x="2964960" y="3354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14317200">
            <a:off x="2584080" y="3506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14317200">
            <a:off x="2279160" y="3582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8600" y="2514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365120" y="42688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rot="14317200">
            <a:off x="2660400" y="3277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14317200">
            <a:off x="2889000" y="3049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rot="14317200">
            <a:off x="2431800" y="32014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rot="14317200">
            <a:off x="3727080" y="3049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576960" y="4191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615440" y="4199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1927080" y="4357800"/>
                <a:ext cx="10447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mall 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051600" y="4359240"/>
                <a:ext cx="9968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arge 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7" name=""/>
          <p:cNvSpPr/>
          <p:nvPr/>
        </p:nvSpPr>
        <p:spPr>
          <a:xfrm>
            <a:off x="1371600" y="1523880"/>
            <a:ext cx="6400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measure of the variation of observed y values from the regression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066680" y="4965840"/>
            <a:ext cx="74678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gnitude of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uld always be judged relative to the size of the y values in the sampl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066680" y="5791320"/>
            <a:ext cx="7467840" cy="81036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$41.33K i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ately small relative to house prices in the $200 - $300K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A0D7F-70F8-43F5-A60D-31D8D1BD48A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90360" y="622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ferences About the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gression Model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riance of the regression slope coefficient (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estima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2502000" y="3170160"/>
                <a:ext cx="438624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sSub>
                          <m:e/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3" name=""/>
          <p:cNvSpPr/>
          <p:nvPr/>
        </p:nvSpPr>
        <p:spPr>
          <a:xfrm>
            <a:off x="685800" y="4648320"/>
            <a:ext cx="81532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Estimate of the standard error of the least squares sl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Standard error of the est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1095480" y="5029200"/>
                <a:ext cx="5094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1230480" y="5638680"/>
                <a:ext cx="14922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SE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2C18D-7860-4312-ABC9-5AFB7D5F917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6781680" y="6019920"/>
            <a:ext cx="1143000" cy="75240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3733920" y="5715000"/>
            <a:ext cx="990360" cy="304920"/>
          </a:xfrm>
          <a:prstGeom prst="rect">
            <a:avLst/>
          </a:prstGeom>
          <a:solidFill>
            <a:srgbClr val="c7daf7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cel Outpu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533520" y="1676520"/>
          <a:ext cx="8229600" cy="4352760"/>
        </p:xfrm>
        <a:graphic>
          <a:graphicData uri="http://schemas.openxmlformats.org/drawingml/2006/table">
            <a:tbl>
              <a:tblPr/>
              <a:tblGrid>
                <a:gridCol w="1600200"/>
                <a:gridCol w="1066680"/>
                <a:gridCol w="1447920"/>
                <a:gridCol w="1079280"/>
                <a:gridCol w="792360"/>
                <a:gridCol w="1252440"/>
                <a:gridCol w="990720"/>
              </a:tblGrid>
              <a:tr h="276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80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justed 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8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33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serv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nificance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08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65.56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8.1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600.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5.577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7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5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0" name=""/>
          <p:cNvSpPr/>
          <p:nvPr/>
        </p:nvSpPr>
        <p:spPr>
          <a:xfrm flipV="1">
            <a:off x="4648320" y="3276360"/>
            <a:ext cx="0" cy="2438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4361040" y="2666880"/>
                <a:ext cx="240480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29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30236-0CD9-47C1-9B0A-C2FC4C60F7F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rrelation Analysi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rre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alysis is used to measure strength of the association (linear relationship) between two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ion is only concerned with strength of the relationsh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ausal effect is implied with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ion was first presented in Chapter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7DC46-A23D-4F13-B447-9F5E804C72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50560" y="320400"/>
            <a:ext cx="70786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mparing Standard Errors of the Slop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523880" y="3125880"/>
            <a:ext cx="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1539720" y="3277800"/>
            <a:ext cx="2575080" cy="87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197360" y="281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523880" y="457344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735720" y="4495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1600200" y="3354120"/>
            <a:ext cx="25909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1600200" y="3125520"/>
            <a:ext cx="236232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479920" y="313992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5784840" y="3063960"/>
            <a:ext cx="205740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153400" y="283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479920" y="458784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691760" y="4510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708520" y="3673440"/>
            <a:ext cx="23623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5556240" y="3368160"/>
            <a:ext cx="243828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2035080" y="4649760"/>
                <a:ext cx="11368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mall 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6078600" y="4664160"/>
                <a:ext cx="10904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arge 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9" name=""/>
          <p:cNvSpPr/>
          <p:nvPr/>
        </p:nvSpPr>
        <p:spPr>
          <a:xfrm>
            <a:off x="990720" y="18288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measure of the variation in the slope of regression lines from different possible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1108080" y="1797120"/>
                <a:ext cx="5684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08A27-B5BF-42B9-B4C2-7125560D63F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1676520" y="2895480"/>
            <a:ext cx="6324480" cy="83844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90360" y="24732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ference about the Slope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 Tes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43000" y="1563840"/>
            <a:ext cx="7848720" cy="4913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test for a population s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a linear relationship between X and 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 and alternative 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 linear relation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inear relationship does ex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stat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3065400" y="4419720"/>
                <a:ext cx="191304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3200400" y="6019920"/>
                <a:ext cx="1676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6" name=""/>
          <p:cNvSpPr/>
          <p:nvPr/>
        </p:nvSpPr>
        <p:spPr>
          <a:xfrm>
            <a:off x="5486400" y="4343400"/>
            <a:ext cx="3505320" cy="21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regression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hypothesized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of the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05EDC-7F69-4859-A524-7A13C22A1D7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7" name=""/>
          <p:cNvGraphicFramePr/>
          <p:nvPr/>
        </p:nvGraphicFramePr>
        <p:xfrm>
          <a:off x="228600" y="1905120"/>
          <a:ext cx="2819520" cy="3967200"/>
        </p:xfrm>
        <a:graphic>
          <a:graphicData uri="http://schemas.openxmlformats.org/drawingml/2006/table">
            <a:tbl>
              <a:tblPr/>
              <a:tblGrid>
                <a:gridCol w="1409760"/>
                <a:gridCol w="1409760"/>
              </a:tblGrid>
              <a:tr h="78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e Price in $1000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y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3970440" y="2438280"/>
                <a:ext cx="434808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8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9" name=""/>
          <p:cNvSpPr/>
          <p:nvPr/>
        </p:nvSpPr>
        <p:spPr>
          <a:xfrm>
            <a:off x="4419720" y="2362320"/>
            <a:ext cx="62856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505320" y="1747800"/>
            <a:ext cx="502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ed Regression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809880" y="3505320"/>
            <a:ext cx="4800600" cy="13766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lope of this model is 0.109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square footage of the house affect its sales pr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ference about the Slope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 Tes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47684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36484-9A20-4A92-A06B-449F67FE1A7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ferences about the Slope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est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1600200" cy="99072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 fontScale="99000"/>
          </a:bodyPr>
          <a:p>
            <a:pPr marL="3175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514600" y="2209680"/>
            <a:ext cx="366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Excel outp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2743200" y="2743200"/>
          <a:ext cx="6324480" cy="9572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676160"/>
                <a:gridCol w="955800"/>
                <a:gridCol w="949320"/>
              </a:tblGrid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sp>
        <p:nvSpPr>
          <p:cNvPr id="599" name=""/>
          <p:cNvSpPr/>
          <p:nvPr/>
        </p:nvSpPr>
        <p:spPr>
          <a:xfrm>
            <a:off x="4495680" y="3429000"/>
            <a:ext cx="11052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119640" y="3400560"/>
            <a:ext cx="1043280" cy="333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153200" y="3381480"/>
            <a:ext cx="1000080" cy="352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5448240" y="2514600"/>
            <a:ext cx="102888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6972480" y="2514600"/>
            <a:ext cx="30456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934320" y="3733920"/>
            <a:ext cx="53316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7238880" y="1981080"/>
                <a:ext cx="4762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6" name=""/>
          <p:cNvSpPr/>
          <p:nvPr/>
        </p:nvSpPr>
        <p:spPr>
          <a:xfrm>
            <a:off x="5105520" y="4648320"/>
            <a:ext cx="380880" cy="459720"/>
          </a:xfrm>
          <a:prstGeom prst="rect">
            <a:avLst/>
          </a:prstGeom>
          <a:solidFill>
            <a:srgbClr val="c7daf7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324480" y="2057400"/>
            <a:ext cx="533520" cy="51012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2082960" y="4419720"/>
                <a:ext cx="541656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977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29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93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CFA37-D37F-4240-844A-22B0BAC1B6F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ferences about the Slope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est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1600200" cy="99072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 fontScale="99000"/>
          </a:bodyPr>
          <a:p>
            <a:pPr marL="3175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981080" y="1523880"/>
            <a:ext cx="4038840" cy="53352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Statistic: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 = 3.3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572000" y="5262480"/>
            <a:ext cx="4572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re is sufficient evidence that square footage affects house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4600" y="2209680"/>
            <a:ext cx="366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Excel outp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800600" y="4343400"/>
            <a:ext cx="3971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2743200" y="2743200"/>
          <a:ext cx="6324480" cy="9572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676160"/>
                <a:gridCol w="955800"/>
                <a:gridCol w="949320"/>
              </a:tblGrid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sp>
        <p:nvSpPr>
          <p:cNvPr id="616" name=""/>
          <p:cNvSpPr/>
          <p:nvPr/>
        </p:nvSpPr>
        <p:spPr>
          <a:xfrm>
            <a:off x="4495680" y="3429000"/>
            <a:ext cx="11052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119640" y="3400560"/>
            <a:ext cx="1043280" cy="333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153200" y="3381480"/>
            <a:ext cx="1000080" cy="352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5448240" y="2514600"/>
            <a:ext cx="102888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6972480" y="2514600"/>
            <a:ext cx="30456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7962480" y="2514600"/>
            <a:ext cx="26676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7238880" y="1981080"/>
                <a:ext cx="4762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3" name=""/>
          <p:cNvSpPr/>
          <p:nvPr/>
        </p:nvSpPr>
        <p:spPr>
          <a:xfrm>
            <a:off x="8001000" y="2057400"/>
            <a:ext cx="380880" cy="45972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324480" y="2057400"/>
            <a:ext cx="533520" cy="51012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114800" y="3962520"/>
            <a:ext cx="4572000" cy="14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362320" y="6273720"/>
            <a:ext cx="914400" cy="2286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62120" y="6273720"/>
            <a:ext cx="1066680" cy="2286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048120" y="5562720"/>
            <a:ext cx="99036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04920" y="5562720"/>
            <a:ext cx="99036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814480" y="4775040"/>
            <a:ext cx="851040" cy="561960"/>
          </a:xfrm>
          <a:custGeom>
            <a:avLst/>
            <a:gdLst/>
            <a:ahLst/>
            <a:rect l="l" t="t" r="r" b="b"/>
            <a:pathLst>
              <a:path w="536" h="354">
                <a:moveTo>
                  <a:pt x="536" y="351"/>
                </a:moveTo>
                <a:lnTo>
                  <a:pt x="535" y="312"/>
                </a:lnTo>
                <a:lnTo>
                  <a:pt x="315" y="273"/>
                </a:lnTo>
                <a:lnTo>
                  <a:pt x="188" y="208"/>
                </a:lnTo>
                <a:lnTo>
                  <a:pt x="117" y="153"/>
                </a:lnTo>
                <a:lnTo>
                  <a:pt x="3" y="0"/>
                </a:lnTo>
                <a:lnTo>
                  <a:pt x="0" y="354"/>
                </a:lnTo>
                <a:lnTo>
                  <a:pt x="527" y="351"/>
                </a:lnTo>
                <a:lnTo>
                  <a:pt x="527" y="347"/>
                </a:lnTo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17680" y="4842000"/>
            <a:ext cx="853920" cy="495000"/>
          </a:xfrm>
          <a:custGeom>
            <a:avLst/>
            <a:gdLst/>
            <a:ahLst/>
            <a:rect l="l" t="t" r="r" b="b"/>
            <a:pathLst>
              <a:path w="538" h="312">
                <a:moveTo>
                  <a:pt x="0" y="312"/>
                </a:moveTo>
                <a:lnTo>
                  <a:pt x="0" y="267"/>
                </a:lnTo>
                <a:lnTo>
                  <a:pt x="219" y="235"/>
                </a:lnTo>
                <a:lnTo>
                  <a:pt x="330" y="190"/>
                </a:lnTo>
                <a:lnTo>
                  <a:pt x="403" y="141"/>
                </a:lnTo>
                <a:lnTo>
                  <a:pt x="537" y="0"/>
                </a:lnTo>
                <a:lnTo>
                  <a:pt x="538" y="309"/>
                </a:lnTo>
                <a:lnTo>
                  <a:pt x="18" y="309"/>
                </a:lnTo>
                <a:lnTo>
                  <a:pt x="18" y="305"/>
                </a:lnTo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33520" y="3962520"/>
            <a:ext cx="160020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133720" y="3962520"/>
            <a:ext cx="152388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57200" y="5334120"/>
            <a:ext cx="3200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990720" y="480060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380880" y="4495680"/>
            <a:ext cx="1067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2=.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133720" y="396252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371600" y="54100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971640" y="5738760"/>
            <a:ext cx="966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-2,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371600" y="556272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295280" y="5562720"/>
            <a:ext cx="1524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28600" y="55627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905120" y="579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819520" y="54100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971800" y="4770360"/>
            <a:ext cx="204840" cy="411120"/>
          </a:xfrm>
          <a:custGeom>
            <a:avLst/>
            <a:gdLst/>
            <a:ahLst/>
            <a:rect l="l" t="t" r="r" b="b"/>
            <a:pathLst>
              <a:path w="48" h="249">
                <a:moveTo>
                  <a:pt x="48" y="0"/>
                </a:moveTo>
                <a:lnTo>
                  <a:pt x="0" y="249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2894760" y="4495680"/>
            <a:ext cx="121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2=.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762120" y="6099120"/>
            <a:ext cx="1218960" cy="3938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.30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361600" y="6099120"/>
            <a:ext cx="990360" cy="3938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30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3351960" y="6197760"/>
            <a:ext cx="83844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.3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18520" y="3392640"/>
            <a:ext cx="1523880" cy="7362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.f. = 10-2 =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8,.02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2.30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819520" y="556272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3504960" y="5333760"/>
            <a:ext cx="6120" cy="874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47684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114800" y="3962520"/>
            <a:ext cx="2514600" cy="914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471760" y="5734080"/>
            <a:ext cx="966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-2,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DC5FE-F460-4D8D-8055-C09BEBC290A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ferences about the Slope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est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1600200" cy="99072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 fontScale="99000"/>
          </a:bodyPr>
          <a:p>
            <a:pPr marL="3175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1523880"/>
            <a:ext cx="3429000" cy="53352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-value =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0.010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572000" y="5262480"/>
            <a:ext cx="4572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re is sufficient evidence that square footage affects house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514600" y="2209680"/>
            <a:ext cx="366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Excel outp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800600" y="4343400"/>
            <a:ext cx="3971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2743200" y="2743200"/>
          <a:ext cx="6324480" cy="9572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676160"/>
                <a:gridCol w="955800"/>
                <a:gridCol w="949320"/>
              </a:tblGrid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sp>
        <p:nvSpPr>
          <p:cNvPr id="663" name=""/>
          <p:cNvSpPr/>
          <p:nvPr/>
        </p:nvSpPr>
        <p:spPr>
          <a:xfrm>
            <a:off x="8143920" y="3381480"/>
            <a:ext cx="1000080" cy="352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8153280" y="2514600"/>
            <a:ext cx="7632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772400" y="2057400"/>
            <a:ext cx="1066680" cy="39888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-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114800" y="3962520"/>
            <a:ext cx="4572000" cy="14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s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-value &lt;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47684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114800" y="3962520"/>
            <a:ext cx="4038480" cy="914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52280" y="3962520"/>
            <a:ext cx="38102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two-tail test, so the p-valu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t &gt; 3.329)+P(t &lt; -3.329) = 0.010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r 8 d.f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8C3B8-6AE9-47B6-845D-F3ACDD4B352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90360" y="24732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nfidence Interval Estimat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for the Slop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066680" y="1600200"/>
            <a:ext cx="770580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fidence Interval Estimate of the Slope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04920" y="3352680"/>
            <a:ext cx="4505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 Printout for House Pr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" y="5376960"/>
            <a:ext cx="7858080" cy="82044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95% level of confidence, the confidence interval for the slope is (0.0337, 0.185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1646280" y="2259000"/>
                <a:ext cx="58150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,α/2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,α/2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675" name=""/>
          <p:cNvGraphicFramePr/>
          <p:nvPr/>
        </p:nvGraphicFramePr>
        <p:xfrm>
          <a:off x="304920" y="3929040"/>
          <a:ext cx="8381880" cy="866520"/>
        </p:xfrm>
        <a:graphic>
          <a:graphicData uri="http://schemas.openxmlformats.org/drawingml/2006/table">
            <a:tbl>
              <a:tblPr/>
              <a:tblGrid>
                <a:gridCol w="1447560"/>
                <a:gridCol w="1219320"/>
                <a:gridCol w="1447920"/>
                <a:gridCol w="990360"/>
                <a:gridCol w="881280"/>
                <a:gridCol w="1252440"/>
                <a:gridCol w="1143000"/>
              </a:tblGrid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5.577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73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5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sp>
        <p:nvSpPr>
          <p:cNvPr id="676" name=""/>
          <p:cNvSpPr/>
          <p:nvPr/>
        </p:nvSpPr>
        <p:spPr>
          <a:xfrm>
            <a:off x="6620040" y="4462560"/>
            <a:ext cx="1000080" cy="428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763040" y="4462560"/>
            <a:ext cx="1000080" cy="428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248520" y="3852720"/>
            <a:ext cx="259056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057400" y="4462560"/>
            <a:ext cx="1000080" cy="428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7241400" y="2952720"/>
            <a:ext cx="1143000" cy="33228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.f. = n -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BF904-6539-4533-8185-452C6F892F9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1143000" y="3200400"/>
            <a:ext cx="6934320" cy="155196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 units of the house price variable is $1000s, we are 95% confident that the average impact on sales price is between $33.70 and $185.80 per square foot of hous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2" name=""/>
          <p:cNvGraphicFramePr/>
          <p:nvPr/>
        </p:nvGraphicFramePr>
        <p:xfrm>
          <a:off x="304920" y="1905120"/>
          <a:ext cx="8381880" cy="866520"/>
        </p:xfrm>
        <a:graphic>
          <a:graphicData uri="http://schemas.openxmlformats.org/drawingml/2006/table">
            <a:tbl>
              <a:tblPr/>
              <a:tblGrid>
                <a:gridCol w="1447560"/>
                <a:gridCol w="1219320"/>
                <a:gridCol w="1447920"/>
                <a:gridCol w="990360"/>
                <a:gridCol w="881280"/>
                <a:gridCol w="1252440"/>
                <a:gridCol w="1143000"/>
              </a:tblGrid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5.577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73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5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sp>
        <p:nvSpPr>
          <p:cNvPr id="683" name=""/>
          <p:cNvSpPr/>
          <p:nvPr/>
        </p:nvSpPr>
        <p:spPr>
          <a:xfrm>
            <a:off x="6620040" y="24382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763040" y="24382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248520" y="1828800"/>
            <a:ext cx="259056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24382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219320" y="5029200"/>
            <a:ext cx="6867360" cy="116244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95% confidence interval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es not include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nclu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re is a significant relationship between house price and square feet at the .05 level of signific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90360" y="24732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nfidence Interval Estimat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for the Slop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55316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E82DE-F2AB-4C9D-AF18-8D830D2FE79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F-Test for Significanc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48000"/>
          </a:bodyPr>
          <a:p>
            <a:pPr marL="153720" indent="-1537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Test statist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3720" indent="0">
              <a:spcBef>
                <a:spcPts val="9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3720" indent="0">
              <a:spcBef>
                <a:spcPts val="79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3720" indent="0">
              <a:spcBef>
                <a:spcPts val="79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3720" indent="0">
              <a:spcBef>
                <a:spcPts val="3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3720" indent="0">
              <a:spcBef>
                <a:spcPts val="7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2" name=""/>
              <p:cNvSpPr txBox="1"/>
              <p:nvPr/>
            </p:nvSpPr>
            <p:spPr>
              <a:xfrm>
                <a:off x="4267080" y="1676520"/>
                <a:ext cx="17557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3657600" y="3200400"/>
                <a:ext cx="190512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SR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SE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4" name=""/>
          <p:cNvSpPr/>
          <p:nvPr/>
        </p:nvSpPr>
        <p:spPr>
          <a:xfrm>
            <a:off x="838080" y="4952880"/>
            <a:ext cx="784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F follows an F distribution with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numerator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n – k - 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denominator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grees of freed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k = the number of independent variables in the regression 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A27DC-C630-466C-83F5-BC5D9C4124D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6781680" y="6019920"/>
            <a:ext cx="1143000" cy="75240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cel Outpu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533520" y="1676520"/>
          <a:ext cx="8229600" cy="4338360"/>
        </p:xfrm>
        <a:graphic>
          <a:graphicData uri="http://schemas.openxmlformats.org/drawingml/2006/table">
            <a:tbl>
              <a:tblPr/>
              <a:tblGrid>
                <a:gridCol w="1600200"/>
                <a:gridCol w="1066680"/>
                <a:gridCol w="1447920"/>
                <a:gridCol w="1079280"/>
                <a:gridCol w="792360"/>
                <a:gridCol w="1252440"/>
                <a:gridCol w="990720"/>
              </a:tblGrid>
              <a:tr h="276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80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justed 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8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33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serv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nificance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08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65.56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8.1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600.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5.577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7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5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3505320" y="1981080"/>
                <a:ext cx="470196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9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0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5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9" name=""/>
          <p:cNvSpPr/>
          <p:nvPr/>
        </p:nvSpPr>
        <p:spPr>
          <a:xfrm flipV="1">
            <a:off x="3124080" y="3504960"/>
            <a:ext cx="3812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6248520" y="2590560"/>
            <a:ext cx="99036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7696080" y="36576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543800" y="3048120"/>
            <a:ext cx="1295280" cy="6094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505320" y="2971800"/>
            <a:ext cx="2361960" cy="60948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505320" y="297180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1 and 8 degrees of freed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7543800" y="30481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-value for the F-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33987-8993-4401-BDF5-ABD19A25DAB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rrelation Analysi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06000" y="1636560"/>
            <a:ext cx="7285320" cy="4648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opulation correlation coeffic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enoted  </a:t>
            </a:r>
            <a:r>
              <a:rPr b="0" lang="el-GR" sz="2800" spc="-1" strike="noStrike">
                <a:solidFill>
                  <a:srgbClr val="3333cc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he Greek letter r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mple correlation coeffic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730680" y="3267000"/>
                <a:ext cx="17938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633760" y="5111640"/>
                <a:ext cx="40701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901880" y="46353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9D92B-8B5A-4949-9572-A028A5B1CB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80880" y="1752480"/>
            <a:ext cx="3810240" cy="9144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380880" y="1752480"/>
            <a:ext cx="38484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013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3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≠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3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      d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41972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Statisti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eci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648320" y="3733920"/>
            <a:ext cx="3733560" cy="57456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495680" y="5168880"/>
            <a:ext cx="4496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sufficient evidence that house size affects selling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050920" y="5486400"/>
            <a:ext cx="1555920" cy="223920"/>
          </a:xfrm>
          <a:custGeom>
            <a:avLst/>
            <a:gdLst/>
            <a:ahLst/>
            <a:rect l="l" t="t" r="r" b="b"/>
            <a:pathLst>
              <a:path w="980" h="154">
                <a:moveTo>
                  <a:pt x="4" y="154"/>
                </a:moveTo>
                <a:lnTo>
                  <a:pt x="0" y="0"/>
                </a:lnTo>
                <a:lnTo>
                  <a:pt x="83" y="39"/>
                </a:lnTo>
                <a:lnTo>
                  <a:pt x="154" y="61"/>
                </a:lnTo>
                <a:lnTo>
                  <a:pt x="209" y="76"/>
                </a:lnTo>
                <a:lnTo>
                  <a:pt x="283" y="91"/>
                </a:lnTo>
                <a:lnTo>
                  <a:pt x="428" y="111"/>
                </a:lnTo>
                <a:lnTo>
                  <a:pt x="592" y="126"/>
                </a:lnTo>
                <a:lnTo>
                  <a:pt x="979" y="141"/>
                </a:lnTo>
                <a:lnTo>
                  <a:pt x="980" y="154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72960" y="4100400"/>
            <a:ext cx="3513240" cy="1614600"/>
          </a:xfrm>
          <a:custGeom>
            <a:avLst/>
            <a:gdLst/>
            <a:ahLst/>
            <a:rect l="l" t="t" r="r" b="b"/>
            <a:pathLst>
              <a:path w="3388" h="1023">
                <a:moveTo>
                  <a:pt x="0" y="0"/>
                </a:moveTo>
                <a:lnTo>
                  <a:pt x="0" y="1022"/>
                </a:lnTo>
                <a:lnTo>
                  <a:pt x="3387" y="102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52280" y="5486400"/>
            <a:ext cx="45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15880" y="4419720"/>
            <a:ext cx="3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80880" y="4343400"/>
            <a:ext cx="3429000" cy="1392120"/>
          </a:xfrm>
          <a:custGeom>
            <a:avLst/>
            <a:gdLst/>
            <a:ahLst/>
            <a:rect l="l" t="t" r="r" b="b"/>
            <a:pathLst>
              <a:path w="3492" h="1021">
                <a:moveTo>
                  <a:pt x="0" y="1011"/>
                </a:moveTo>
                <a:cubicBezTo>
                  <a:pt x="27" y="982"/>
                  <a:pt x="43" y="1005"/>
                  <a:pt x="162" y="837"/>
                </a:cubicBezTo>
                <a:cubicBezTo>
                  <a:pt x="281" y="669"/>
                  <a:pt x="453" y="0"/>
                  <a:pt x="714" y="3"/>
                </a:cubicBezTo>
                <a:cubicBezTo>
                  <a:pt x="975" y="6"/>
                  <a:pt x="1265" y="689"/>
                  <a:pt x="1728" y="855"/>
                </a:cubicBezTo>
                <a:cubicBezTo>
                  <a:pt x="2191" y="1021"/>
                  <a:pt x="3125" y="969"/>
                  <a:pt x="3492" y="999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057400" y="5486400"/>
            <a:ext cx="144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2361960" y="52578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905120" y="4952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600200" y="6095880"/>
            <a:ext cx="15238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.05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 5.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2057400" y="57150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456840" y="5943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2057400" y="5943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362320" y="5867280"/>
            <a:ext cx="990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62120" y="5867280"/>
            <a:ext cx="91440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"/>
              <p:cNvSpPr txBox="1"/>
              <p:nvPr/>
            </p:nvSpPr>
            <p:spPr>
              <a:xfrm>
                <a:off x="4759200" y="2209680"/>
                <a:ext cx="26132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6" name=""/>
          <p:cNvSpPr/>
          <p:nvPr/>
        </p:nvSpPr>
        <p:spPr>
          <a:xfrm>
            <a:off x="3429000" y="3886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3429000" y="2742840"/>
            <a:ext cx="121932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447920" y="3733920"/>
            <a:ext cx="13716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ritical Value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 5.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F-Test for Significanc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55316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809880" y="5638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rot="16200000">
            <a:off x="1562040" y="2400120"/>
            <a:ext cx="228600" cy="243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F5147-367C-45D8-AED7-45F2D7A3FB5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redic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914400" y="1855800"/>
            <a:ext cx="77198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gression equation can be used to predict a value for y, given a particular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specified value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 the predicted valu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2852640" y="4307040"/>
                <a:ext cx="33480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49545-313A-41F8-BF69-468E33AC5F5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7848720" y="5715000"/>
            <a:ext cx="1143000" cy="752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1143000" y="2895480"/>
                <a:ext cx="6324480" cy="23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ouse price </m:t>
                        </m:r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98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98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3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8" name=""/>
          <p:cNvSpPr/>
          <p:nvPr/>
        </p:nvSpPr>
        <p:spPr>
          <a:xfrm>
            <a:off x="1905120" y="2895480"/>
            <a:ext cx="62856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209680" y="1600200"/>
            <a:ext cx="4876920" cy="97236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edict the price for a house with 2000 square feet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33520" y="5257800"/>
            <a:ext cx="7315200" cy="97236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predicted price for a house with 2000 square feet is 317.85($1,000s) = $317,85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599840" y="24732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redictions Using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Regression Analysi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1D803-5B79-4B57-8F0B-31C14618ED8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2" name=""/>
          <p:cNvGraphicFramePr/>
          <p:nvPr/>
        </p:nvGraphicFramePr>
        <p:xfrm>
          <a:off x="152280" y="3543480"/>
          <a:ext cx="4876920" cy="331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543480"/>
                    <a:ext cx="487692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Relevant Data Rang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076960" cy="1027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using a regression model for prediction, only predict within the relevant range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762120" y="4915080"/>
            <a:ext cx="1676160" cy="7617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3962520" y="3467160"/>
            <a:ext cx="1676160" cy="7621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286000" y="3581280"/>
            <a:ext cx="0" cy="2438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114800" y="3581280"/>
            <a:ext cx="0" cy="2438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rot="5400000">
            <a:off x="3047760" y="2743200"/>
            <a:ext cx="304920" cy="1676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974960" y="2990880"/>
            <a:ext cx="2560680" cy="39888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vant data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105520" y="5105520"/>
            <a:ext cx="2286000" cy="131364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y to try to extrapolate far beyond the range of observed X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H="1" flipV="1">
            <a:off x="4571640" y="3962160"/>
            <a:ext cx="609480" cy="1143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H="1" flipV="1">
            <a:off x="1599840" y="5333760"/>
            <a:ext cx="3505320" cy="533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6A7A6-40A8-4628-BAA5-53E6C5212D1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150560" y="320400"/>
            <a:ext cx="70786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stimating Mean Values and Predicting Individual Valu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971800" y="2938320"/>
            <a:ext cx="0" cy="327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971800" y="6215040"/>
            <a:ext cx="5214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3200400" y="3395160"/>
            <a:ext cx="5334120" cy="2057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590920" y="2633760"/>
            <a:ext cx="639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8077320" y="6215040"/>
            <a:ext cx="923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172200" y="255744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705640" y="6197760"/>
            <a:ext cx="847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438280" y="3319560"/>
            <a:ext cx="212760" cy="1752480"/>
          </a:xfrm>
          <a:custGeom>
            <a:avLst/>
            <a:gdLst/>
            <a:ahLst/>
            <a:rect l="l" t="t" r="r" b="b"/>
            <a:pathLst>
              <a:path w="194" h="1057">
                <a:moveTo>
                  <a:pt x="193" y="0"/>
                </a:moveTo>
                <a:lnTo>
                  <a:pt x="158" y="4"/>
                </a:lnTo>
                <a:lnTo>
                  <a:pt x="123" y="23"/>
                </a:lnTo>
                <a:lnTo>
                  <a:pt x="106" y="50"/>
                </a:lnTo>
                <a:lnTo>
                  <a:pt x="96" y="86"/>
                </a:lnTo>
                <a:lnTo>
                  <a:pt x="96" y="440"/>
                </a:lnTo>
                <a:lnTo>
                  <a:pt x="88" y="476"/>
                </a:lnTo>
                <a:lnTo>
                  <a:pt x="71" y="503"/>
                </a:lnTo>
                <a:lnTo>
                  <a:pt x="35" y="521"/>
                </a:lnTo>
                <a:lnTo>
                  <a:pt x="0" y="526"/>
                </a:lnTo>
                <a:lnTo>
                  <a:pt x="35" y="535"/>
                </a:lnTo>
                <a:lnTo>
                  <a:pt x="71" y="553"/>
                </a:lnTo>
                <a:lnTo>
                  <a:pt x="88" y="580"/>
                </a:lnTo>
                <a:lnTo>
                  <a:pt x="96" y="616"/>
                </a:lnTo>
                <a:lnTo>
                  <a:pt x="96" y="965"/>
                </a:lnTo>
                <a:lnTo>
                  <a:pt x="106" y="1002"/>
                </a:lnTo>
                <a:lnTo>
                  <a:pt x="123" y="1029"/>
                </a:lnTo>
                <a:lnTo>
                  <a:pt x="158" y="1047"/>
                </a:lnTo>
                <a:lnTo>
                  <a:pt x="193" y="1056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1828800" y="4919400"/>
            <a:ext cx="609480" cy="533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2666160" y="3852720"/>
            <a:ext cx="228600" cy="762120"/>
          </a:xfrm>
          <a:custGeom>
            <a:avLst/>
            <a:gdLst/>
            <a:ahLst/>
            <a:rect l="l" t="t" r="r" b="b"/>
            <a:pathLst>
              <a:path w="194" h="724">
                <a:moveTo>
                  <a:pt x="0" y="0"/>
                </a:moveTo>
                <a:lnTo>
                  <a:pt x="41" y="5"/>
                </a:lnTo>
                <a:lnTo>
                  <a:pt x="70" y="22"/>
                </a:lnTo>
                <a:lnTo>
                  <a:pt x="97" y="38"/>
                </a:lnTo>
                <a:lnTo>
                  <a:pt x="97" y="64"/>
                </a:lnTo>
                <a:lnTo>
                  <a:pt x="97" y="313"/>
                </a:lnTo>
                <a:lnTo>
                  <a:pt x="110" y="338"/>
                </a:lnTo>
                <a:lnTo>
                  <a:pt x="124" y="355"/>
                </a:lnTo>
                <a:lnTo>
                  <a:pt x="153" y="368"/>
                </a:lnTo>
                <a:lnTo>
                  <a:pt x="193" y="372"/>
                </a:lnTo>
                <a:lnTo>
                  <a:pt x="153" y="377"/>
                </a:lnTo>
                <a:lnTo>
                  <a:pt x="124" y="389"/>
                </a:lnTo>
                <a:lnTo>
                  <a:pt x="110" y="410"/>
                </a:lnTo>
                <a:lnTo>
                  <a:pt x="97" y="431"/>
                </a:lnTo>
                <a:lnTo>
                  <a:pt x="97" y="664"/>
                </a:lnTo>
                <a:lnTo>
                  <a:pt x="97" y="685"/>
                </a:lnTo>
                <a:lnTo>
                  <a:pt x="70" y="706"/>
                </a:lnTo>
                <a:lnTo>
                  <a:pt x="41" y="719"/>
                </a:lnTo>
                <a:lnTo>
                  <a:pt x="0" y="723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057400" y="3395520"/>
            <a:ext cx="609480" cy="60984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19240" y="4270320"/>
            <a:ext cx="16030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16000" y="4095720"/>
            <a:ext cx="10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065480" y="4462560"/>
            <a:ext cx="4011840" cy="1617480"/>
          </a:xfrm>
          <a:custGeom>
            <a:avLst/>
            <a:gdLst/>
            <a:ahLst/>
            <a:rect l="l" t="t" r="r" b="b"/>
            <a:pathLst>
              <a:path w="3654" h="1019">
                <a:moveTo>
                  <a:pt x="0" y="1019"/>
                </a:moveTo>
                <a:cubicBezTo>
                  <a:pt x="162" y="926"/>
                  <a:pt x="578" y="619"/>
                  <a:pt x="972" y="460"/>
                </a:cubicBezTo>
                <a:cubicBezTo>
                  <a:pt x="1366" y="301"/>
                  <a:pt x="1917" y="130"/>
                  <a:pt x="2364" y="65"/>
                </a:cubicBezTo>
                <a:cubicBezTo>
                  <a:pt x="2811" y="0"/>
                  <a:pt x="3385" y="70"/>
                  <a:pt x="3654" y="71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695840" y="5092560"/>
            <a:ext cx="3143160" cy="989280"/>
          </a:xfrm>
          <a:custGeom>
            <a:avLst/>
            <a:gdLst/>
            <a:ahLst/>
            <a:rect l="l" t="t" r="r" b="b"/>
            <a:pathLst>
              <a:path w="1980" h="623">
                <a:moveTo>
                  <a:pt x="0" y="623"/>
                </a:moveTo>
                <a:cubicBezTo>
                  <a:pt x="53" y="572"/>
                  <a:pt x="191" y="408"/>
                  <a:pt x="315" y="317"/>
                </a:cubicBezTo>
                <a:cubicBezTo>
                  <a:pt x="439" y="226"/>
                  <a:pt x="582" y="129"/>
                  <a:pt x="742" y="77"/>
                </a:cubicBezTo>
                <a:cubicBezTo>
                  <a:pt x="902" y="25"/>
                  <a:pt x="1067" y="10"/>
                  <a:pt x="1273" y="5"/>
                </a:cubicBezTo>
                <a:cubicBezTo>
                  <a:pt x="1479" y="0"/>
                  <a:pt x="1833" y="38"/>
                  <a:pt x="1980" y="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838680" y="2457360"/>
            <a:ext cx="3247920" cy="1548000"/>
          </a:xfrm>
          <a:custGeom>
            <a:avLst/>
            <a:gdLst/>
            <a:ahLst/>
            <a:rect l="l" t="t" r="r" b="b"/>
            <a:pathLst>
              <a:path w="2958" h="975">
                <a:moveTo>
                  <a:pt x="0" y="912"/>
                </a:moveTo>
                <a:cubicBezTo>
                  <a:pt x="145" y="919"/>
                  <a:pt x="591" y="975"/>
                  <a:pt x="869" y="953"/>
                </a:cubicBezTo>
                <a:cubicBezTo>
                  <a:pt x="1147" y="931"/>
                  <a:pt x="1426" y="861"/>
                  <a:pt x="1667" y="779"/>
                </a:cubicBezTo>
                <a:cubicBezTo>
                  <a:pt x="1908" y="697"/>
                  <a:pt x="2100" y="591"/>
                  <a:pt x="2315" y="461"/>
                </a:cubicBezTo>
                <a:cubicBezTo>
                  <a:pt x="2530" y="331"/>
                  <a:pt x="2824" y="96"/>
                  <a:pt x="2958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429000" y="2695680"/>
            <a:ext cx="3930480" cy="1938240"/>
          </a:xfrm>
          <a:custGeom>
            <a:avLst/>
            <a:gdLst/>
            <a:ahLst/>
            <a:rect l="l" t="t" r="r" b="b"/>
            <a:pathLst>
              <a:path w="3580" h="1221">
                <a:moveTo>
                  <a:pt x="0" y="1221"/>
                </a:moveTo>
                <a:cubicBezTo>
                  <a:pt x="194" y="1207"/>
                  <a:pt x="744" y="1217"/>
                  <a:pt x="1166" y="1133"/>
                </a:cubicBezTo>
                <a:cubicBezTo>
                  <a:pt x="1588" y="1049"/>
                  <a:pt x="2132" y="903"/>
                  <a:pt x="2534" y="714"/>
                </a:cubicBezTo>
                <a:cubicBezTo>
                  <a:pt x="2936" y="526"/>
                  <a:pt x="3362" y="149"/>
                  <a:pt x="3580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91960" y="2295360"/>
            <a:ext cx="1765440" cy="172476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ce Interval for th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pected 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y, given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H="1" flipV="1">
            <a:off x="3009960" y="4309560"/>
            <a:ext cx="3162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095880" y="4233960"/>
            <a:ext cx="152640" cy="15228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52280" y="5452920"/>
            <a:ext cx="2441520" cy="1114920"/>
          </a:xfrm>
          <a:prstGeom prst="rect">
            <a:avLst/>
          </a:prstGeom>
          <a:solidFill>
            <a:srgbClr val="fedad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Interval for a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ingle observ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n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3009960" y="3317760"/>
            <a:ext cx="3162240" cy="18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3009960" y="5097600"/>
            <a:ext cx="3162240" cy="14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3009960" y="4689360"/>
            <a:ext cx="3162240" cy="1800"/>
          </a:xfrm>
          <a:prstGeom prst="line">
            <a:avLst/>
          </a:prstGeom>
          <a:ln w="1908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3009960" y="3851280"/>
            <a:ext cx="3162240" cy="1440"/>
          </a:xfrm>
          <a:prstGeom prst="line">
            <a:avLst/>
          </a:prstGeom>
          <a:ln w="1908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676520" y="430992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19240" y="4087800"/>
            <a:ext cx="144756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828800" y="1523880"/>
            <a:ext cx="6477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 Form intervals around y to express uncertainty about the value of y for a given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454960" y="2984400"/>
            <a:ext cx="270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458200" y="2743200"/>
            <a:ext cx="380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087C7-C806-469D-B348-BBAA3A5EF98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990720" y="32040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nfidence Interval for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Average Y, Given X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38200" y="1600200"/>
            <a:ext cx="7924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914400" y="1676520"/>
            <a:ext cx="7391520" cy="88308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 estimate for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xpected value of 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given a particular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719360" y="5148360"/>
            <a:ext cx="5778360" cy="126756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at the formula involves the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size of interval varies according to the distance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from the mean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1409760" y="2770200"/>
                <a:ext cx="6405480" cy="20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nfidence interval for E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: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,α/2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den>
                            </m:f>
                          </m:e>
                        </m:d>
                      </m:e>
                    </m:ra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1" name=""/>
          <p:cNvSpPr/>
          <p:nvPr/>
        </p:nvSpPr>
        <p:spPr>
          <a:xfrm>
            <a:off x="4054320" y="6062760"/>
            <a:ext cx="11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5997600" y="5111640"/>
                <a:ext cx="11350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F5BEB-B3C8-4F43-BDB2-AEE8030AE79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990720" y="32040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rediction Interval for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n Individual Y, Given X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38200" y="1600200"/>
            <a:ext cx="7924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914400" y="1676520"/>
            <a:ext cx="7391520" cy="90972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 estimate for an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ctual observed value of 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given a particular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743200" y="5548320"/>
            <a:ext cx="525780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xtra term adds to the interval width to reflect the added uncertainty for an individual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410080" y="3657600"/>
            <a:ext cx="3812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1206360" y="2952720"/>
                <a:ext cx="6828120" cy="20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nfidence interval for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          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,α/2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den>
                            </m:f>
                          </m:e>
                        </m:d>
                      </m:e>
                    </m:ra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9" name=""/>
          <p:cNvSpPr/>
          <p:nvPr/>
        </p:nvSpPr>
        <p:spPr>
          <a:xfrm flipV="1">
            <a:off x="4718160" y="4672080"/>
            <a:ext cx="0" cy="869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80A6C-E759-401D-BF35-71D69F8515F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90360" y="24732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stimation of Mean Values: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09480" y="2362320"/>
            <a:ext cx="8001000" cy="88092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 the 95% confidence interval for the mean price of 2,000 square-foot ho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57200" y="3505320"/>
            <a:ext cx="8074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ed Price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17.85 ($1,00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597040" y="3303720"/>
            <a:ext cx="466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4513320" y="3308400"/>
                <a:ext cx="1634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4513320" y="3308400"/>
                <a:ext cx="1634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06" name=""/>
          <p:cNvSpPr/>
          <p:nvPr/>
        </p:nvSpPr>
        <p:spPr>
          <a:xfrm>
            <a:off x="950760" y="1563840"/>
            <a:ext cx="7388280" cy="60948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 Estimate for E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1386000" y="4124160"/>
                <a:ext cx="61135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-2,α/2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8" name=""/>
          <p:cNvSpPr/>
          <p:nvPr/>
        </p:nvSpPr>
        <p:spPr>
          <a:xfrm>
            <a:off x="593640" y="5486400"/>
            <a:ext cx="8001000" cy="82044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fidence interval endpoints are 280.66 and 354.90, or from $280,660 to $354,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BFD20-0449-4DDA-9024-20EE2551879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990360" y="24732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stimation of Individual Values: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09480" y="2362320"/>
            <a:ext cx="8001000" cy="88092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 the 95% confidence interval for an individual house with 2,000 square f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57200" y="3505320"/>
            <a:ext cx="8074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ed Price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17.85 ($1,00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590920" y="330372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4513320" y="3308400"/>
                <a:ext cx="1634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4513320" y="3308400"/>
                <a:ext cx="1634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15" name=""/>
          <p:cNvSpPr/>
          <p:nvPr/>
        </p:nvSpPr>
        <p:spPr>
          <a:xfrm>
            <a:off x="1600200" y="1600200"/>
            <a:ext cx="6176880" cy="63972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 Estimate for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846000" y="4114800"/>
                <a:ext cx="742644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-1,α/2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7" name=""/>
          <p:cNvSpPr/>
          <p:nvPr/>
        </p:nvSpPr>
        <p:spPr>
          <a:xfrm>
            <a:off x="685800" y="5486400"/>
            <a:ext cx="7924680" cy="82044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fidence interval endpoints are 215.50 and 420.07, or from $215,500 to $420,0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765840" y="1417680"/>
            <a:ext cx="466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41B33-1958-48A8-8477-96AB7D4CF18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761760" y="3204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Finding Confidence and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rediction Intervals in Exce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Excel, us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40000"/>
              </a:lnSpc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HStat | regression | simple linear regression 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eck th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confidence and prediction interval for x=”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ox and enter the x-value and confidence level desir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C3D21-1C6A-4AF8-979C-48821849A73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est the null hypothesis of no linear associ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112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17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st statistic follows the Student’s  t distribution with (n – 2 ) degrees of freed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333440" y="228600"/>
            <a:ext cx="72612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ypothesis Test for Correl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511440" y="2697120"/>
                <a:ext cx="15400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:ρ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054240" y="4489560"/>
                <a:ext cx="266076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380880" y="35053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4FCE7-8356-4762-9CF6-B94DE7286D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/>
          </p:nvPr>
        </p:nvSpPr>
        <p:spPr>
          <a:xfrm>
            <a:off x="4114800" y="2438280"/>
            <a:ext cx="2666880" cy="503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title"/>
          </p:nvPr>
        </p:nvSpPr>
        <p:spPr>
          <a:xfrm>
            <a:off x="761760" y="3204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Finding Confidence and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rediction Intervals in Exce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747684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164040" cy="4572000"/>
          </a:xfrm>
          <a:prstGeom prst="rect">
            <a:avLst/>
          </a:prstGeom>
          <a:ln w="0">
            <a:noFill/>
          </a:ln>
        </p:spPr>
      </p:pic>
      <p:sp>
        <p:nvSpPr>
          <p:cNvPr id="825" name=""/>
          <p:cNvSpPr/>
          <p:nvPr/>
        </p:nvSpPr>
        <p:spPr>
          <a:xfrm>
            <a:off x="3048120" y="2286000"/>
            <a:ext cx="106668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971800" y="4876920"/>
            <a:ext cx="1066680" cy="761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971800" y="5715000"/>
            <a:ext cx="106668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148280" y="4929120"/>
            <a:ext cx="3531960" cy="74052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ce Interval Estimate for E(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148280" y="5789520"/>
            <a:ext cx="3531960" cy="74052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ce Interval Estimate for individual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191120" y="4341960"/>
            <a:ext cx="460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170240" y="4132440"/>
            <a:ext cx="106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3809880" y="45720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048120" y="4419720"/>
            <a:ext cx="761760" cy="304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668920" y="6016680"/>
            <a:ext cx="330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9B438-58A0-422B-8D8D-1EB1E75A4127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Graphical Analysi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6022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near regression model is based on minimizing the sum of square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utliers exist, their potentially large squared errors may have a strong influence on the fitted regression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sure to examine your data graphically for outliers and extreme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, based on your model and logic, whether the extreme points should remain or be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6ED6E-7698-4066-9308-998A95298DC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pter Summar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837720" y="1636560"/>
            <a:ext cx="8077320" cy="47642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the linear regres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correlation and the assumptions of linear reg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estimating the simple linear regression coeffic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measures of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inference about the s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ed estimation of mean values and prediction of individu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84E26-3A85-4A8F-B8AC-1013F55C5E0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38240" y="5695920"/>
            <a:ext cx="4243320" cy="9144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648240"/>
            <a:ext cx="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3648240"/>
            <a:ext cx="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43800" y="3648240"/>
            <a:ext cx="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2100240"/>
            <a:ext cx="2514600" cy="140184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2100240"/>
            <a:ext cx="2514600" cy="140184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2076480"/>
            <a:ext cx="2743200" cy="14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-tail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2076480"/>
            <a:ext cx="2743200" cy="14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per-tail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2100240"/>
            <a:ext cx="2514600" cy="140184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5880" y="2076480"/>
            <a:ext cx="2743200" cy="14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tail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≠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57480" y="1454040"/>
            <a:ext cx="4645080" cy="459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ypothesis Test for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576000"/>
            <a:ext cx="734832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ecision Rul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8152560" y="4257720"/>
            <a:ext cx="685800" cy="37944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4257720"/>
            <a:ext cx="682560" cy="37944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3648240"/>
            <a:ext cx="1219320" cy="91440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3648240"/>
            <a:ext cx="121932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4638600"/>
            <a:ext cx="2590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181400"/>
            <a:ext cx="1526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257080" y="4257720"/>
            <a:ext cx="685800" cy="37944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3648240"/>
            <a:ext cx="1219320" cy="91440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3648240"/>
            <a:ext cx="121896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463860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3724200"/>
            <a:ext cx="385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4257720"/>
            <a:ext cx="682560" cy="37944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3648240"/>
            <a:ext cx="1219320" cy="91440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43800" y="3648240"/>
            <a:ext cx="121932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638600"/>
            <a:ext cx="2590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48520" y="3724200"/>
            <a:ext cx="838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4181400"/>
            <a:ext cx="1526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53280" y="3724200"/>
            <a:ext cx="838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8305560" y="418140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410080" y="4181400"/>
            <a:ext cx="1526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3724200"/>
            <a:ext cx="385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4635360"/>
            <a:ext cx="630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4635360"/>
            <a:ext cx="99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4635360"/>
            <a:ext cx="99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24680" y="4635360"/>
            <a:ext cx="99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987120" y="4334040"/>
            <a:ext cx="3240" cy="3013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67160" y="4307040"/>
            <a:ext cx="0" cy="3650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13440" y="4343400"/>
            <a:ext cx="0" cy="328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153280" y="4334040"/>
            <a:ext cx="3240" cy="3013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1960" y="5148360"/>
            <a:ext cx="2597400" cy="435600"/>
          </a:xfrm>
          <a:prstGeom prst="rect">
            <a:avLst/>
          </a:prstGeom>
          <a:solidFill>
            <a:srgbClr val="d5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t &lt; -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-2,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5148360"/>
            <a:ext cx="2533680" cy="505080"/>
          </a:xfrm>
          <a:prstGeom prst="rect">
            <a:avLst/>
          </a:prstGeom>
          <a:solidFill>
            <a:srgbClr val="d5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t &gt;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-2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229440" y="5148360"/>
            <a:ext cx="2695320" cy="802080"/>
          </a:xfrm>
          <a:prstGeom prst="rect">
            <a:avLst/>
          </a:prstGeom>
          <a:solidFill>
            <a:srgbClr val="d5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t &lt; -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-2,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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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t &gt;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-2,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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55720" y="5952960"/>
            <a:ext cx="14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95880" y="5897520"/>
            <a:ext cx="19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 n - 2  d.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962440" y="5734080"/>
                <a:ext cx="14443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105AE-658C-4348-8834-8127C09818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07868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troduction to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Regression Analysi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gression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us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 the value of a dependent variable based on the value of at least one independ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act of changes in an independent variable on the depend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50000"/>
              </a:lnSpc>
              <a:spcBef>
                <a:spcPts val="11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pendent variab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he variable we wish to expl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lso called th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ndogenous var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11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dependent variab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he variable used to expla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pend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lso called th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ogenous var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FA82D-56C3-4EC9-BEAA-5521CDCBB6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0952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Linear Regression Mode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90320" y="1782720"/>
            <a:ext cx="6954840" cy="4608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onship between  X  and  Y  is described by a line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in  Y  are assumed to b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aus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changes in 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regression population equ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13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d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re the population model coefficients and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a random error te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62440" y="4307040"/>
                <a:ext cx="30780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C40E2-B573-4C33-9B9F-B4DCD774D7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21:09:31Z</dcterms:created>
  <dc:creator>Dirk Yandell</dc:creator>
  <dc:description/>
  <dc:language>en-US</dc:language>
  <cp:lastModifiedBy>D Yandell</cp:lastModifiedBy>
  <cp:lastPrinted>1998-11-22T23:37:53Z</cp:lastPrinted>
  <dcterms:modified xsi:type="dcterms:W3CDTF">2006-03-24T18:25:18Z</dcterms:modified>
  <cp:revision>75</cp:revision>
  <dc:subject>Chapter 12</dc:subject>
  <dc:title>Statistics for Business and Economics, 6/e</dc:title>
</cp:coreProperties>
</file>