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2A8-09D5-4DFD-838E-8DA688D9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D69-24FB-4923-B8F2-95321F95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AE8-3A0A-4F5B-B1A7-9A8E3811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F24-CC96-4EAA-8CEC-8D1754CB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FEA-A2D6-456B-8427-D927A195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D1D-804B-4697-A6C7-E3D0CC7C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3B1-B958-4009-B252-A8C72367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66D-2804-4FD6-ABEB-701EA7B8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5EB-E930-4525-B54E-6FA69B4A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C4F-5213-4A74-8254-AABF0D5B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D53-2687-4764-9C9F-995F4B46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C20-115D-4015-8EE3-D36800F5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F8E70-4DA1-4632-829B-90A3E7E635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B2F6A-FCF9-4508-AAA9-ACB4B8D5F97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14" descr=""/>
          <p:cNvPicPr/>
          <p:nvPr/>
        </p:nvPicPr>
        <p:blipFill>
          <a:blip r:embed="rId10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41:51Z</dcterms:created>
  <dc:creator>최봉수</dc:creator>
  <dc:description/>
  <dc:language>en-US</dc:language>
  <cp:lastModifiedBy>맛있다 군만두</cp:lastModifiedBy>
  <dcterms:modified xsi:type="dcterms:W3CDTF">2024-09-24T08:13:26Z</dcterms:modified>
  <cp:revision>4</cp:revision>
  <dc:subject/>
  <dc:title>슬라이드 1</dc:title>
</cp:coreProperties>
</file>