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9AC-3027-4AA5-A112-9C57F6EC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0CB-1608-4E5C-9BA6-2CD69146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DC1-4A69-45DC-82E1-A899EB25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47C-F0C3-4064-94B6-FE1372FA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C9D-6C0A-49A2-9E62-C6356F7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16F-1634-4F30-8D84-54A0B2BF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D70-0A42-4987-9885-2F04F4DB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7FC-12B4-4FDC-BF7C-B1BCD520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A60-B221-4BA0-906B-5AE4869B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D04-A7CC-47A5-8423-AFBD355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DA7-9D86-453B-BB2F-EE273548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4DB-A843-416B-B5DC-82D14DB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687C3-C06A-4004-A2AA-FCD92FD666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F375E-2A2C-483B-BB7E-5B8DA7D9337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14" descr=""/>
          <p:cNvPicPr/>
          <p:nvPr/>
        </p:nvPicPr>
        <p:blipFill>
          <a:blip r:embed="rId10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41:51Z</dcterms:created>
  <dc:creator>최봉수</dc:creator>
  <dc:description/>
  <dc:language>en-US</dc:language>
  <cp:lastModifiedBy>맛있다 군만두</cp:lastModifiedBy>
  <dcterms:modified xsi:type="dcterms:W3CDTF">2024-09-24T08:13:26Z</dcterms:modified>
  <cp:revision>4</cp:revision>
  <dc:subject/>
  <dc:title>슬라이드 1</dc:title>
</cp:coreProperties>
</file>