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617-4528-40A5-9D29-6B66551B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418-38B0-469D-860E-CEC653DD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BBC-A6C3-4056-B55E-03670F9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B8C-2D3D-4424-B4F0-2D34A664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59F-E13B-42B9-824D-4E5F017D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51B-CC88-4366-A041-C0D55775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A09-DDFC-474C-BE11-C078600F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94A3-DA88-4C1B-97AF-46B8564C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57C-B358-4AEF-ACB0-FD7565B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8E9-8F13-469A-A3E3-AC5E6F6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65D-5A02-40E6-ACE8-58EF990F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1E2-49F1-4CC6-9E56-AF6E8451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62B6E-2197-474E-9403-BB5B8AE5813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02895-0200-4B54-842E-DB12A6811DF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7:20:52Z</dcterms:created>
  <dc:creator>최봉수</dc:creator>
  <dc:description/>
  <dc:language>en-US</dc:language>
  <cp:lastModifiedBy>맛있다 군만두</cp:lastModifiedBy>
  <dcterms:modified xsi:type="dcterms:W3CDTF">2024-09-24T08:24:00Z</dcterms:modified>
  <cp:revision>4</cp:revision>
  <dc:subject/>
  <dc:title>슬라이드 1</dc:title>
</cp:coreProperties>
</file>