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330-6FB4-485C-8679-3A6BF492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BA2-91DA-4542-A04C-784F80CB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66C-8D94-418C-9E90-F5741BB2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842-9881-469D-84AA-C525710E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475-A943-42BA-B62C-EF349D85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D0C-160F-4AFD-836C-E56C376E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2F7-B2C7-40FE-9541-B3D9C3FB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A29-4AE5-40B6-8FEE-A2CF3C4F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87A-A219-418B-B2EC-771CBF1C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786-3D4D-40B4-88D2-ABDE92D7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3A2-D2B1-4F7E-896F-30D739B8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C2A-7FB6-4D13-A5B0-A478798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3C84D-6CA0-415B-8BE3-63774D7DAC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D72D7-5270-463D-97DD-BE634DCAAD5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7:20:52Z</dcterms:created>
  <dc:creator>최봉수</dc:creator>
  <dc:description/>
  <dc:language>en-US</dc:language>
  <cp:lastModifiedBy>맛있다 군만두</cp:lastModifiedBy>
  <dcterms:modified xsi:type="dcterms:W3CDTF">2024-09-24T08:24:00Z</dcterms:modified>
  <cp:revision>4</cp:revision>
  <dc:subject/>
  <dc:title>슬라이드 1</dc:title>
</cp:coreProperties>
</file>