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4.jpeg" ContentType="image/jpeg"/>
  <Override PartName="/ppt/media/Trompetensolo.wav" ContentType="audio/x-wav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18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5F1-58E6-4E6B-BD6D-BA1C9E41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D43-2B28-4CA6-8D7F-B296BFD1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9D829-06E4-4CF9-8CBA-1B13DD2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2C667-0947-4223-B0A4-4AB1D58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8E2A-C21B-4964-9FBD-8B25066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33C3-B7B0-4094-ABEB-CF329B5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B897D-2941-4D07-B61D-C80741A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43D4-2C86-428A-9F32-BDECD56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C3161-F0AB-4F4C-8461-7BDA2C86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CDEF-5713-470D-83D0-D632B042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9D9A7-C058-49BC-9837-916C98BE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101C0-B9C2-4511-8C44-B244004D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433-CBE5-4EB4-A4FD-68E13619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71E22-115A-4252-A1F4-A68A6766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22D9D-CED5-408F-9578-0EBCFB2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1077-7BD7-49D8-BD86-803029C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61E53-52FC-4D45-81CF-09153F0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FA994-846D-427B-9442-5C30B7E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2275D-8E5A-4C25-8C6C-E3E67B9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AF49-2970-427D-B73E-F6933D5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E7AFF-B430-45FC-8A83-33A03AD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45314-6440-499A-B0A7-1CF97D6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6A45B-FF88-4E53-8593-35F3E48F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19E-89DB-4245-9422-EC5FE96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7712F-DBBD-4606-B7FE-A6564214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5AE5-3D44-4EB5-AAA4-AB1213AF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B03B-77A2-4ABD-8A2A-0D61E22E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8D9C-D6B3-45E3-A2DC-308521E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1D19-7AD7-44C8-90A1-37A09D6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AE3E1-3A12-4AA3-8574-D215CC02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50A4-B0F4-44BD-B706-D5DD086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E536-A229-4D72-B4D6-04548CD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EE4A5-5857-41BB-AEDE-A67383C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769A-642E-46F2-B7E3-65188EA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D53-17ED-4D50-9985-CD243E35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68AF5-DB61-4FA6-AC7E-AAE4F2D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3B93-B908-4C91-A3E9-3473EA9E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87C9F-ABEA-4478-A2C8-D3A3761A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B71A-D385-4891-A005-16685FD9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06B03-F092-4152-A1D5-D7867396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1761B-2051-48CB-ACAC-D09AAED7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46E0E-0576-4EDE-B01B-EBF06702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723E9-7D29-44F2-803B-2EDF6B5D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6EBBE-513B-48C4-B51E-88E4CAEE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7B68F-F700-4165-A2C6-49D6C25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A63-8D96-4DC3-B167-7649F7E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1860B-ACB7-44D4-A9EA-5C370FC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A9A0E-190F-44F1-AD89-68CA84B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FD035-0C5B-4C67-BC59-F862CE8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CCC7E-7BFE-46B0-B077-65C0F9EE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B5409-0D85-477A-B766-C6FCC0D1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481D2-4C22-4B7A-8EE9-216DF7B8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D42A8-4579-4620-9AB1-A9F83A2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1CFB1-155E-4D0C-9CD3-292767B8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9A221-0D68-4729-BAFA-A4AA47B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01FF6-681B-40E8-ABD0-56B7FC33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8D8-9104-487E-AD05-347AD0F2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AC51F-895E-472F-8DD1-C8E8D518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8D86D-74F2-44B5-8D8C-19A8EE3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BD39F-96E5-44C1-8A2C-F7952A9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3BDDA-1C3F-41D0-849C-0E02F3B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6E140-B6C6-43DE-90BA-3F2C814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F55CE-FF63-4C26-8A80-BDB8F213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119C6-B640-4CB5-9D83-2E977852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E6F47-8911-4FAD-A048-CBDF30F2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FE319-E1FD-4C23-999F-F8863A2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A67CE-88C4-42DC-8D2C-163396F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59A-73B6-4AAA-94D7-2AC3A80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25D49-88DF-4787-80D1-C766446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DDA92-93EF-45AC-AE4E-E785EF45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24BBF-51AF-4150-AFD2-5595130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9EE38-1DAE-4DAF-8BF0-BDB2581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6B9A4-12A0-4A9E-8A77-94B9296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F6F26-D079-44A1-A76B-C3880A95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BC3D1-C4A4-4B84-8D47-86DB8280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BFD77-1511-4E6F-BA1E-FCEF9827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79404-E546-4E8C-A886-3CCA1102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774-30EC-476D-99C4-5D80029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EE62-A3B9-416A-9D25-6471734A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4C7-2EAB-4FD4-A403-AB84728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92C-963F-4A39-852E-E3EE98D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A1EB-E149-4A92-B0F9-CFB2B58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92A2-C3A7-49B0-A1FB-46FE791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BF1C-FC08-4E6B-95E5-37462761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646-4917-42D9-9C1E-F24C1E5A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945-F03E-4834-B696-5663C33A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2F70-9CDE-4D0F-8D4B-B7EED9BC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A90B-7BC4-455A-AC7E-4A36BA6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1CD3-CE33-4C7E-8480-52E69144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EB30-4136-4FA4-ADEE-C55315A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5ED7-3942-413A-93AB-BA7B2D6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198-9EA8-46F3-B7E1-63DDABE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88C7-62D5-4787-BEAD-253EA137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1D2A-38C3-443B-96A1-21B0826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8043-3B2F-40B1-8FC6-3C6D23B9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C1E6-14C0-4F2B-B08E-726EC4E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D335-CD29-4D41-AAF7-C4F0E56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36B6-09B2-44F7-87F4-BB9103AA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2A82-2489-46E9-A480-C1C6AC3A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761D-2F71-48E2-9DD8-BB4E0EC8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8584-55F0-4757-B634-8DE02D6B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4AB0-1D4A-4B13-AF74-E9B3D4A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35A-875B-4D1E-A368-925EE2E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71B6-F370-4EE3-B6C5-ABCD698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416E-DA38-4139-A3DB-F806915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6F51-F72D-4BB9-B3F5-7E8B444F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4276-E5BE-43A3-9690-72B0D3A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11BB-E07C-4336-83B7-1B88965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D5AE-8906-45C3-AED1-63B5493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A157-2C0C-421A-A335-6AB5720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7672-B3B2-437E-B1CA-07D5971B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663F-EF08-4292-BBA2-D6160E5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F9F6-9AE4-44E0-A858-F5C012C1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6B2-C6BE-43FD-90AC-39CF039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D8AB-30EE-4614-9025-FCE19BD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C7FF6-D554-4E43-9E9D-2D989E2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59E0-FACE-41D8-BD1A-C00B3BBA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E292-9E15-432B-8EC4-84AEA14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FF08-E3A4-4537-9CEB-8759EA7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6A6B-7E19-45C9-A9B0-96E2D1D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30EC-C8ED-4D94-8AF0-8C95E10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5C48-54B6-42F0-B9DF-6062846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7FE2-A283-4C78-A175-3A0974F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DAF7C-3DC2-4F61-A097-004A5E8B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BEB-AC7F-49A0-A10E-8E22EA0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7AC9B-7D86-405A-9A3D-34FC1842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9534-54C2-44B3-B75D-F11F3E11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324AC-5826-4E76-8671-5896B86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B3D7-34AE-4B00-A6F4-BC74876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5B2D-3F6D-4F9C-8732-3C910F3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CA5E-0209-4B7B-94D3-A1CF7A0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B339-3A31-4B5C-BCB3-7CBAD9E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BD62A-97C1-4397-9240-0F546AC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0DCA-D937-4C85-937E-086D82B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2105-ED83-46DE-90B2-FCBF4D0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3F0-699E-4C92-BB5F-2441324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221F-D3CD-4BDB-BE0A-A500840E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B0F4-C511-4D4C-A3AE-81507BF1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C1CD-D479-4B0B-9112-39947D61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1FE5-55ED-4C75-9DCF-40C46459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40A6-1A61-4311-9676-003337A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35E8-A969-44DD-8484-9491510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2011-2D01-4179-871F-4968F673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DC72-067A-4B02-8884-79F031D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70D6-28FB-46C0-B484-FA0BDA97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B38B-4A4F-4E14-B8FA-39E1381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EB7-8437-4AB9-A48D-23E98FC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E0FE-8104-42A2-9B9B-662D42A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93D77-8CA5-4FDA-A41A-C3D720E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E899-3B99-4BBC-AF05-7A5CA57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F64C5-7B49-44CE-9FC9-40747DA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C6A3-00EC-4CBD-9573-8025833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C4DB-86B4-4ED4-AA57-370BD178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2E63-4EBF-4A30-9DF0-69B2CEA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4748-E5EA-4051-A973-3612CEC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FABB-2697-4E66-8A4F-9C1BF1B5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A044-EFC1-4DFF-926C-E561046C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E0F-EA0A-42FB-90BB-8286AAE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5F9B-6F7F-4159-A1EC-21F6F03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F4BD1-BDB5-4041-84E1-5ADD87F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1A41-6FA1-4130-89F7-C05AE74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5CD30-7338-4F8B-BD16-2E1CA95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2FBF-1B63-4495-B7D1-EE67E8A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CCF55-ACE3-47F1-A5FA-F7B735B6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7B13-7C62-4393-8585-6D753D5B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0CBA-5453-4F83-977A-0B36948C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77796-9CA2-45E7-8F90-4DEB9132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4C85-0777-4ABC-9C1B-C824D5D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F4C-D06A-4CBF-AAA1-33FF4664B4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E16-A260-40B5-91D9-478D2ACA973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8B2B-5A69-4EE1-A14A-54743F08DE0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CBB-8158-440A-A34E-1B0D446295A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3A0-41C5-40FD-A370-869DF82D3E5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22EC-5291-40AB-B543-515D063D4B7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2F6-71AE-4C2B-B885-2F1D7D34371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D3C8-B6FD-45A8-82DF-43A19AC795A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FE5-0301-4BD9-8E61-DDF4E388D7C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E5D-B454-4ACB-AE27-95218A182C6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38E-AAA6-41B8-93E3-7F2C3C8E6D3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A1B2-94DB-483E-80BE-4A99AAAEAD3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EB6-90EC-485D-B6A0-413211DF441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3FA7-0110-451F-9ACF-F7959ABF89E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rompetensol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52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el 1" descr=""/>
          <p:cNvPicPr/>
          <p:nvPr/>
        </p:nvPicPr>
        <p:blipFill>
          <a:blip r:embed="rId2"/>
          <a:stretch/>
        </p:blipFill>
        <p:spPr>
          <a:xfrm>
            <a:off x="171360" y="749160"/>
            <a:ext cx="8801280" cy="2829240"/>
          </a:xfrm>
          <a:prstGeom prst="rect">
            <a:avLst/>
          </a:prstGeom>
          <a:ln w="0">
            <a:noFill/>
          </a:ln>
        </p:spPr>
      </p:pic>
      <p:pic>
        <p:nvPicPr>
          <p:cNvPr id="575" name="Ondertitel 2" descr=""/>
          <p:cNvPicPr/>
          <p:nvPr/>
        </p:nvPicPr>
        <p:blipFill>
          <a:blip r:embed="rId3"/>
          <a:stretch/>
        </p:blipFill>
        <p:spPr>
          <a:xfrm>
            <a:off x="1365120" y="5772240"/>
            <a:ext cx="6413760" cy="102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4" name="Trompetensol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Afbeelding 1" descr="Dagreis Groei en Bloei 1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Afbeelding 2" descr="Dagreis Groei en Bloei 122 - kopie1s1s.jpg"/>
          <p:cNvPicPr/>
          <p:nvPr/>
        </p:nvPicPr>
        <p:blipFill>
          <a:blip r:embed="rId2"/>
          <a:stretch/>
        </p:blipFill>
        <p:spPr>
          <a:xfrm>
            <a:off x="0" y="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07" name="Afbeelding 3" descr="Dagreis Groei en Bloei 122 - kopie1s2s.jpg"/>
          <p:cNvPicPr/>
          <p:nvPr/>
        </p:nvPicPr>
        <p:blipFill>
          <a:blip r:embed="rId3"/>
          <a:stretch/>
        </p:blipFill>
        <p:spPr>
          <a:xfrm>
            <a:off x="0" y="2303640"/>
            <a:ext cx="3071880" cy="2304720"/>
          </a:xfrm>
          <a:prstGeom prst="rect">
            <a:avLst/>
          </a:prstGeom>
          <a:ln w="0">
            <a:noFill/>
          </a:ln>
        </p:spPr>
      </p:pic>
      <p:pic>
        <p:nvPicPr>
          <p:cNvPr id="608" name="Afbeelding 4" descr="Dagreis Groei en Bloei 122 - kopie1s3s.jpg"/>
          <p:cNvPicPr/>
          <p:nvPr/>
        </p:nvPicPr>
        <p:blipFill>
          <a:blip r:embed="rId4"/>
          <a:stretch/>
        </p:blipFill>
        <p:spPr>
          <a:xfrm>
            <a:off x="0" y="4608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09" name="Afbeelding 5" descr="Dagreis Groei en Bloei 122 - kopie2s1s.jpg"/>
          <p:cNvPicPr/>
          <p:nvPr/>
        </p:nvPicPr>
        <p:blipFill>
          <a:blip r:embed="rId5"/>
          <a:stretch/>
        </p:blipFill>
        <p:spPr>
          <a:xfrm>
            <a:off x="3071880" y="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10" name="Afbeelding 6" descr="Dagreis Groei en Bloei 122 - kopie2s2s.jpg"/>
          <p:cNvPicPr/>
          <p:nvPr/>
        </p:nvPicPr>
        <p:blipFill>
          <a:blip r:embed="rId6"/>
          <a:stretch/>
        </p:blipFill>
        <p:spPr>
          <a:xfrm>
            <a:off x="3071880" y="2303640"/>
            <a:ext cx="3071880" cy="2304720"/>
          </a:xfrm>
          <a:prstGeom prst="rect">
            <a:avLst/>
          </a:prstGeom>
          <a:ln w="0">
            <a:noFill/>
          </a:ln>
        </p:spPr>
      </p:pic>
      <p:pic>
        <p:nvPicPr>
          <p:cNvPr id="611" name="Afbeelding 7" descr="Dagreis Groei en Bloei 122 - kopie2s3s.jpg"/>
          <p:cNvPicPr/>
          <p:nvPr/>
        </p:nvPicPr>
        <p:blipFill>
          <a:blip r:embed="rId7"/>
          <a:stretch/>
        </p:blipFill>
        <p:spPr>
          <a:xfrm>
            <a:off x="3071880" y="4608360"/>
            <a:ext cx="3087720" cy="2303640"/>
          </a:xfrm>
          <a:prstGeom prst="rect">
            <a:avLst/>
          </a:prstGeom>
          <a:ln w="0">
            <a:noFill/>
          </a:ln>
        </p:spPr>
      </p:pic>
      <p:pic>
        <p:nvPicPr>
          <p:cNvPr id="612" name="Afbeelding 8" descr="Dagreis Groei en Bloei 122 - kopie3s1s.jpg"/>
          <p:cNvPicPr/>
          <p:nvPr/>
        </p:nvPicPr>
        <p:blipFill>
          <a:blip r:embed="rId8"/>
          <a:stretch/>
        </p:blipFill>
        <p:spPr>
          <a:xfrm>
            <a:off x="6143760" y="0"/>
            <a:ext cx="3060720" cy="2303640"/>
          </a:xfrm>
          <a:prstGeom prst="rect">
            <a:avLst/>
          </a:prstGeom>
          <a:ln w="0">
            <a:noFill/>
          </a:ln>
        </p:spPr>
      </p:pic>
      <p:pic>
        <p:nvPicPr>
          <p:cNvPr id="613" name="Afbeelding 9" descr="Dagreis Groei en Bloei 122 - kopie3s2s.jpg"/>
          <p:cNvPicPr/>
          <p:nvPr/>
        </p:nvPicPr>
        <p:blipFill>
          <a:blip r:embed="rId9"/>
          <a:stretch/>
        </p:blipFill>
        <p:spPr>
          <a:xfrm>
            <a:off x="6143760" y="2303640"/>
            <a:ext cx="3060720" cy="2304720"/>
          </a:xfrm>
          <a:prstGeom prst="rect">
            <a:avLst/>
          </a:prstGeom>
          <a:ln w="0">
            <a:noFill/>
          </a:ln>
        </p:spPr>
      </p:pic>
      <p:pic>
        <p:nvPicPr>
          <p:cNvPr id="614" name="Afbeelding 10" descr="Dagreis Groei en Bloei 122 - kopie3s3s.jpg"/>
          <p:cNvPicPr/>
          <p:nvPr/>
        </p:nvPicPr>
        <p:blipFill>
          <a:blip r:embed="rId10"/>
          <a:stretch/>
        </p:blipFill>
        <p:spPr>
          <a:xfrm>
            <a:off x="6159600" y="4608360"/>
            <a:ext cx="304488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Afbeelding 1" descr="Dagreis Groei en Bloei 1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6" name="Afbeelding 2" descr="Dagreis Groei en Bloei 1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1" descr="Dagreis Groei en Bloei 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2" descr="Dagreis Groei en Bloei 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Afbeelding 1" descr="Dagreis Groei en Bloei 1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2" descr="Dagreis Groei en Bloei 1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Afbeelding 3" descr="Truus Blok 03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kstvak 2" descr=""/>
          <p:cNvPicPr/>
          <p:nvPr/>
        </p:nvPicPr>
        <p:blipFill>
          <a:blip r:embed="rId2"/>
          <a:stretch/>
        </p:blipFill>
        <p:spPr>
          <a:xfrm>
            <a:off x="1871640" y="682560"/>
            <a:ext cx="3638520" cy="1816200"/>
          </a:xfrm>
          <a:prstGeom prst="rect">
            <a:avLst/>
          </a:prstGeom>
          <a:ln w="0">
            <a:noFill/>
          </a:ln>
        </p:spPr>
      </p:pic>
      <p:pic>
        <p:nvPicPr>
          <p:cNvPr id="623" name="Afbeelding 3" descr="lidi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445000"/>
            <a:ext cx="2519640" cy="901800"/>
          </a:xfrm>
          <a:prstGeom prst="rect">
            <a:avLst/>
          </a:prstGeom>
          <a:ln w="0">
            <a:noFill/>
          </a:ln>
        </p:spPr>
      </p:pic>
      <p:pic>
        <p:nvPicPr>
          <p:cNvPr id="624" name="Afbeelding 4" descr="24y8zkj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51640" y="5742000"/>
            <a:ext cx="1055880" cy="46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4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4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Afbeelding 2" descr="Dagreis Groei en Bloei 0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Afbeelding 2" descr="Dagreis Groei en Bloei 07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Afbeelding 1" descr="Dagreis Groei en Bloei 1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79" name="Afbeelding 2" descr="Dagreis Groei en Bloei 086 - kopie1s1s.jpg"/>
          <p:cNvPicPr/>
          <p:nvPr/>
        </p:nvPicPr>
        <p:blipFill>
          <a:blip r:embed="rId2"/>
          <a:stretch/>
        </p:blipFill>
        <p:spPr>
          <a:xfrm>
            <a:off x="0" y="0"/>
            <a:ext cx="3044880" cy="3419640"/>
          </a:xfrm>
          <a:prstGeom prst="rect">
            <a:avLst/>
          </a:prstGeom>
          <a:ln w="0">
            <a:noFill/>
          </a:ln>
        </p:spPr>
      </p:pic>
      <p:pic>
        <p:nvPicPr>
          <p:cNvPr id="580" name="Afbeelding 3" descr="Dagreis Groei en Bloei 086 - kopie1s2s.jpg"/>
          <p:cNvPicPr/>
          <p:nvPr/>
        </p:nvPicPr>
        <p:blipFill>
          <a:blip r:embed="rId3"/>
          <a:stretch/>
        </p:blipFill>
        <p:spPr>
          <a:xfrm>
            <a:off x="0" y="3419640"/>
            <a:ext cx="3044880" cy="3438360"/>
          </a:xfrm>
          <a:prstGeom prst="rect">
            <a:avLst/>
          </a:prstGeom>
          <a:ln w="0">
            <a:noFill/>
          </a:ln>
        </p:spPr>
      </p:pic>
      <p:pic>
        <p:nvPicPr>
          <p:cNvPr id="581" name="Afbeelding 4" descr="Dagreis Groei en Bloei 086 - kopie2s1s.jpg"/>
          <p:cNvPicPr/>
          <p:nvPr/>
        </p:nvPicPr>
        <p:blipFill>
          <a:blip r:embed="rId4"/>
          <a:stretch/>
        </p:blipFill>
        <p:spPr>
          <a:xfrm>
            <a:off x="3044880" y="0"/>
            <a:ext cx="3044880" cy="3419640"/>
          </a:xfrm>
          <a:prstGeom prst="rect">
            <a:avLst/>
          </a:prstGeom>
          <a:ln w="0">
            <a:noFill/>
          </a:ln>
        </p:spPr>
      </p:pic>
      <p:pic>
        <p:nvPicPr>
          <p:cNvPr id="582" name="Afbeelding 5" descr="Dagreis Groei en Bloei 086 - kopie2s2s.jpg"/>
          <p:cNvPicPr/>
          <p:nvPr/>
        </p:nvPicPr>
        <p:blipFill>
          <a:blip r:embed="rId5"/>
          <a:stretch/>
        </p:blipFill>
        <p:spPr>
          <a:xfrm>
            <a:off x="3044880" y="3419640"/>
            <a:ext cx="3044880" cy="3438360"/>
          </a:xfrm>
          <a:prstGeom prst="rect">
            <a:avLst/>
          </a:prstGeom>
          <a:ln w="0">
            <a:noFill/>
          </a:ln>
        </p:spPr>
      </p:pic>
      <p:pic>
        <p:nvPicPr>
          <p:cNvPr id="583" name="Afbeelding 6" descr="Dagreis Groei en Bloei 086 - kopie3s1s.jpg"/>
          <p:cNvPicPr/>
          <p:nvPr/>
        </p:nvPicPr>
        <p:blipFill>
          <a:blip r:embed="rId6"/>
          <a:stretch/>
        </p:blipFill>
        <p:spPr>
          <a:xfrm>
            <a:off x="6089760" y="0"/>
            <a:ext cx="3054240" cy="3419640"/>
          </a:xfrm>
          <a:prstGeom prst="rect">
            <a:avLst/>
          </a:prstGeom>
          <a:ln w="0">
            <a:noFill/>
          </a:ln>
        </p:spPr>
      </p:pic>
      <p:pic>
        <p:nvPicPr>
          <p:cNvPr id="584" name="Afbeelding 7" descr="Dagreis Groei en Bloei 086 - kopie3s2s.jpg"/>
          <p:cNvPicPr/>
          <p:nvPr/>
        </p:nvPicPr>
        <p:blipFill>
          <a:blip r:embed="rId7"/>
          <a:stretch/>
        </p:blipFill>
        <p:spPr>
          <a:xfrm>
            <a:off x="6089760" y="3419640"/>
            <a:ext cx="3054240" cy="34383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1" descr="Dagreis Groei en Bloei 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86" name="Afbeelding 2" descr="Dagreis Groei en Bloei 08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Afbeelding 1" descr="Dagreis Groei en Bloei 0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2" descr="Dagreis Groei en Bloei 106 - kopie1s1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89" name="Afbeelding 3" descr="Dagreis Groei en Bloei 106 - kopie1s2s.jpg"/>
          <p:cNvPicPr/>
          <p:nvPr/>
        </p:nvPicPr>
        <p:blipFill>
          <a:blip r:embed="rId3"/>
          <a:stretch/>
        </p:blipFill>
        <p:spPr>
          <a:xfrm>
            <a:off x="0" y="136836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590" name="Afbeelding 4" descr="Dagreis Groei en Bloei 106 - kopie1s3s.jpg"/>
          <p:cNvPicPr/>
          <p:nvPr/>
        </p:nvPicPr>
        <p:blipFill>
          <a:blip r:embed="rId4"/>
          <a:stretch/>
        </p:blipFill>
        <p:spPr>
          <a:xfrm>
            <a:off x="0" y="273528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5" descr="Dagreis Groei en Bloei 106 - kopie1s4s.jpg"/>
          <p:cNvPicPr/>
          <p:nvPr/>
        </p:nvPicPr>
        <p:blipFill>
          <a:blip r:embed="rId5"/>
          <a:stretch/>
        </p:blipFill>
        <p:spPr>
          <a:xfrm>
            <a:off x="0" y="410364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92" name="Afbeelding 6" descr="Dagreis Groei en Bloei 106 - kopie1s5s.jpg"/>
          <p:cNvPicPr/>
          <p:nvPr/>
        </p:nvPicPr>
        <p:blipFill>
          <a:blip r:embed="rId6"/>
          <a:stretch/>
        </p:blipFill>
        <p:spPr>
          <a:xfrm>
            <a:off x="0" y="5472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5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fbeelding 1" descr="Dagreis Groei en Bloei 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4" name="Afbeelding 2" descr="Dagreis Groei en Bloei 09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Afbeelding 3" descr="Dagreis Groei en Bloei 09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Afbeelding 1" descr="Dagreis Groei en Bloei 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Afbeelding 2" descr="Dagreis Groei en Bloei 088 - kopie1s1s.jpg"/>
          <p:cNvPicPr/>
          <p:nvPr/>
        </p:nvPicPr>
        <p:blipFill>
          <a:blip r:embed="rId2"/>
          <a:stretch/>
        </p:blipFill>
        <p:spPr>
          <a:xfrm>
            <a:off x="0" y="0"/>
            <a:ext cx="4567320" cy="3419640"/>
          </a:xfrm>
          <a:prstGeom prst="rect">
            <a:avLst/>
          </a:prstGeom>
          <a:ln w="0">
            <a:noFill/>
          </a:ln>
        </p:spPr>
      </p:pic>
      <p:pic>
        <p:nvPicPr>
          <p:cNvPr id="598" name="Afbeelding 3" descr="Dagreis Groei en Bloei 088 - kopie1s2s.jpg"/>
          <p:cNvPicPr/>
          <p:nvPr/>
        </p:nvPicPr>
        <p:blipFill>
          <a:blip r:embed="rId3"/>
          <a:stretch/>
        </p:blipFill>
        <p:spPr>
          <a:xfrm>
            <a:off x="0" y="3419640"/>
            <a:ext cx="4567320" cy="3438360"/>
          </a:xfrm>
          <a:prstGeom prst="rect">
            <a:avLst/>
          </a:prstGeom>
          <a:ln w="0">
            <a:noFill/>
          </a:ln>
        </p:spPr>
      </p:pic>
      <p:pic>
        <p:nvPicPr>
          <p:cNvPr id="599" name="Afbeelding 4" descr="Dagreis Groei en Bloei 088 - kopie2s1s.jpg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3419640"/>
          </a:xfrm>
          <a:prstGeom prst="rect">
            <a:avLst/>
          </a:prstGeom>
          <a:ln w="0">
            <a:noFill/>
          </a:ln>
        </p:spPr>
      </p:pic>
      <p:pic>
        <p:nvPicPr>
          <p:cNvPr id="600" name="Afbeelding 5" descr="Dagreis Groei en Bloei 088 - kopie2s2s.jpg"/>
          <p:cNvPicPr/>
          <p:nvPr/>
        </p:nvPicPr>
        <p:blipFill>
          <a:blip r:embed="rId5"/>
          <a:stretch/>
        </p:blipFill>
        <p:spPr>
          <a:xfrm>
            <a:off x="4567320" y="3419640"/>
            <a:ext cx="4576680" cy="3438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3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Afbeelding 1" descr="Dagreis Groei en Bloei 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Afbeelding 2" descr="Dagreis Groei en Bloei 11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Afbeelding 1" descr="Dagreis Groei en Bloei 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Afbeelding 2" descr="Dagreis Groei en Bloei 125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20:54:15Z</dcterms:created>
  <dc:creator>vanzuuren</dc:creator>
  <dc:description/>
  <cp:keywords>Lidia</cp:keywords>
  <dc:language>en-US</dc:language>
  <cp:lastModifiedBy>vanzuuren</cp:lastModifiedBy>
  <dcterms:modified xsi:type="dcterms:W3CDTF">2010-07-28T21:11:58Z</dcterms:modified>
  <cp:revision>3</cp:revision>
  <dc:subject/>
  <dc:title>Hemerocallis</dc:title>
</cp:coreProperties>
</file>