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4.jpeg" ContentType="image/jpeg"/>
  <Override PartName="/ppt/media/Trompetensolo.wav" ContentType="audio/x-wav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18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51.png" ContentType="image/png"/>
  <Override PartName="/ppt/media/image48.jpeg" ContentType="image/jpeg"/>
  <Override PartName="/ppt/media/image5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391-C11B-446E-942D-4C7F92BB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874-C9A9-4E26-B53F-D7F1E5F7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7B614-0765-47B2-9122-A412DCE1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00AEC-EE1D-4BE3-8821-51CD1005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19E09-83A9-4B71-8B3F-76AA99AA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21195-7E01-4C70-A81F-A815436D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077C4-EDD0-41FC-85BA-70A53381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30B2F-B55A-4685-B314-1AD280EA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2A831-A856-44B1-A8D3-53B4257E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DA4F8-E62C-49A3-A872-BA104E8D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006A2-502B-499D-AE67-E1AA11C9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5E92B-426B-43FD-9420-DBB180D6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1F7-796C-4BD7-B513-759F22EE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82E47-8E13-42DC-8AB6-7BAFE632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3E9D0-FE2D-4F4B-8B76-C56B2E03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23636-F1B7-4517-90E3-1645CB17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EA30B-FDF4-4C02-8BFE-AB6452B6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DF847-BBD8-4538-8EF3-60AE93E4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3D076-0537-4AB9-BCDC-D1B00CE0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95082-138A-4FF4-A4D3-E7A54912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9DC05-5030-444C-9136-889CA81F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9B240-6B75-4DE8-A63E-41BC0501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1FDEB-7773-44E4-B609-9A7EA628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C1B-6A2C-438E-A7F3-F1B752DA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B5BC8-CC76-4D51-A958-3B7E9927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83379-9FDD-4308-A881-35026CF5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1DD8A-3F73-4BF4-9B11-E01D0E11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C2827-A104-4432-9725-88FBD0B3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048FE-BE45-412D-8F91-0D733160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C973A-D687-4487-B51A-5F09ACC2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44E00-3211-4156-833D-5AFBDC5C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A053E-C528-40C1-A1BA-623A0A32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62939-5676-4BB0-9EBC-D9087EBC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3821C-1A7D-4C1F-A608-6BAB529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90D6-77A4-4BCA-BDB8-68E3ACC5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C5BAC-762F-4A38-9E9C-BD8CB94D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D137D-9315-44E0-929E-892DC200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A7C44-20FA-4C78-9CE2-737EBD92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324C6-0BE2-42CE-BC12-C9793944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E7C3D-A4DC-4BCA-9052-185374E4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601E2-8E64-4CB6-8368-859368B0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52B3B-5730-4B30-94C0-6B328834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F6699-78EB-4155-9332-773DFF95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06A17-2272-4F82-B8B7-1A33462A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AEEFB-17C7-4721-A4ED-FA7DD0E9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71F8-6467-4995-A8B3-E691FA07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C0878-7F13-43B4-8BFE-AEA9BC0A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89E2C-D072-4347-A177-56EC3CFD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D14C0-D3A1-4759-816A-42AF0698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6C0BB-A96C-4F49-8E91-2848076A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7CCEB-B149-4257-9118-5F897A3D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6093E-8839-4137-BAE2-BC2EA82F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2A482-3672-41C4-BE3C-6B9D2EEC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7119B-5E9A-4FCF-A650-0A4258C8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7A250-CB56-4822-A979-CC038A85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BB686-717D-498E-B8AF-07EA2711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E4AF-4AAB-4423-9922-39B2BFE4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8BE78-F72D-4E78-ADE8-448D4948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AD65F-ECAB-4AE3-8FA5-20DD5EE9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C74E5-2FF8-4FEA-BB9A-53F2ECAE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454E8-FBE0-4D57-AE3A-6362DC10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89256-2739-4558-A557-25ED664B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C0E12-3BCE-49A6-97EE-64CB326F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2A324-644F-43BE-A7F7-9CCBCC02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4E0BF-D537-4328-94F3-8BB3BE4A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C6FB4-CEE3-4ED4-83D1-0851860F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E75FF-AFF1-4C90-82FB-53593AA0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C4C7-30C9-4D83-9B16-EFB3CB4D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D3955-9FCB-4116-94F1-3A4D48D8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1CA50-8DF4-48B7-8523-431C227F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A4170-DABC-46D3-ACDA-4F3805F9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A1149-EBBE-4E2B-834C-15445008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7926C-868F-4372-B955-545D0599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60822-D7F5-4875-87DC-8DE19A8D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0AE62-FC2A-428B-B53E-836983C8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A8A80-6D23-4EBB-A7F0-44FE1977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AA048-9359-401C-95BE-BCE982A2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12F8-468F-4399-8A57-096D8B7A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B8EE-E747-44EC-9583-2A83677F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4886-ED8F-4698-9976-EE3B06B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40E-118D-42D0-A058-3BA842E4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F208-AD05-4020-911C-50A62C0F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E3D3-6D69-469E-95D8-DF1964D2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2D63-D2AB-44C4-9ECA-E3614035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8992-0AED-4C1F-9EBA-DEC60B96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6D46-0DCC-474B-B1E5-DD53D0F7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B2BD-1A36-46BF-80BB-80F8B6A8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19BF2-D900-46B2-8859-DB381B57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9143-0C11-4FF4-9D8F-1F8AE542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352B-4675-473B-A49A-B3C8C8B4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FBCE-17AB-4298-95EA-74CB4015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593-4337-40F2-BE6D-1AB6F897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3A8F-7979-4AC0-9037-C49CFB83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2E50-66A7-4A30-B420-24D593EC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CCB11-4187-4842-96AF-44F91DCC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FB9F-E4EB-49B2-8424-87C84C08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E3BD8-ED07-42B5-A7BB-5E8FEB5E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8FF6-D461-4B09-916C-7B2FE2A4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163D-8157-4036-AAC8-3B34E1F1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7C7EE-2B26-4BA6-B092-F0C3EBAC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3702F-1020-43EC-8AE5-233E5EE5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35F2F-648F-4E05-B445-D9AAB78B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A79-CE14-4AD7-87FD-DC71406B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8FA0-74B9-4FC4-9344-D96F4F60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8B29-0A2F-4800-B620-58580FB0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44D14-CF76-409A-B035-A314894D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1C47F-480F-4799-95D1-B2422D0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2388C-5B79-473A-BFD6-212F2398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609B8-8648-4F8F-960F-D84EEC66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4D125-8B20-4DA4-ABDB-3493ACB9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6E132-95A0-4803-B29B-254E5C5F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C5DE-977A-443E-864F-46C45C80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D5DD-59C9-446D-BEC5-D9904EC9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9BF-E2C1-47F1-9C42-D374C202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2B0B2-4995-4CD3-AABC-8E549C59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D89EF-B29E-42D3-9DC4-1A5741A0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D69B4-9647-4C25-9218-A1A43DD4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BA733-B079-46A2-95B0-002B16DE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3DB9-4C68-4734-93FE-2F78C8EF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E433F-8F05-4E7C-8715-B2B95D7B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01E39-096F-48B4-9BF1-8F511453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5AA4A-7E49-4318-B12C-7AEAA6C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D6BDB-A7DA-4CB1-ADC0-C73DE7ED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10848-8D8F-4D57-9278-F1057A28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0B7-F375-41A9-BA02-707F0D71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CD6E6-3CEA-4DD4-B591-C845ACD3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6E9A3-B83D-4838-84EC-F1440D38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41707-53E2-4F59-A309-9AAFF191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640BC-ECFD-449C-A9E9-21C51714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AD6FC-A393-4C8E-AA1D-97A06304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C6842-854E-43E8-8161-383508B4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78706-9E05-4AB0-BBA1-9D559C70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E0679-5DA0-4A7C-921C-4B00AA83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728C9-CC7A-4F96-A8EC-16D18192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51B0D-F7B4-4D66-B749-B7F186D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5FC-B03B-44BB-995C-4E2303BC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5C4D7-8FA7-4E8D-A9EC-55F0781A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2A384-45D7-4F8C-9067-B205193A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B292D-41A1-4D2F-B417-9E658397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3B8A9-F206-43BD-AC2E-B775BD59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0BBC4-00AE-4003-9B80-60B056EF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67B17-A979-4ED3-9F0E-F8DCF9EC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1BEBF-958D-4283-8FF9-C3A3C007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15131-3EE8-4B03-AE9B-8AC6FD03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6CB26-CBB1-43CC-A906-22B0161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34719-56B0-46CB-8BC1-1CF07766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393-B14F-43BB-8E44-D3C3663E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A6964-D263-497B-996E-B94A1D8A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D0C47-AA07-4944-ADCD-CA006251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CACDC-81C9-4F89-A2F2-F3BBD913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1AEAB-634C-4797-9013-CFF59184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98B1C-2D0A-4797-B127-2A2537E3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8DDA8-3D67-40C4-A8BF-34E8BC27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FAC1B-2CD0-44DF-86D8-1F7B49F2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C0B59-DF30-47C6-8C22-B7405AEF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B4005-9C3C-480F-AE6B-A608A406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C3E32-44BE-435C-BA46-77575ADC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363-616F-4FE8-A53F-E8358A77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D70B5-AFEE-43C1-BE64-5DA52065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176AF-8C27-46FF-BBD9-799F855B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3120C-3FEC-45B7-B91C-6D8FFE2E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8AFF9-D9E6-432C-ADD6-9C6DC98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64DEA-1566-4C64-89C5-A320074B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F2485-73C4-46E9-A6B2-E2FFD241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FB304-1385-47B4-90DD-CF77D2DA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D6656-78C7-4D4B-80CC-8F1B3686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AD337-FCBD-4BC2-99E8-B58EE14C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263D3-44FA-4957-870A-2A1A52D8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0A30-05C3-453E-99BF-0529FE2BECF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AFCE-23C8-4336-8F60-8206A07E4F8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D70C-882B-435F-847D-C666851A9AE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2ED3-2EA7-4448-9108-88C4F19F664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11AC-FC32-4B3C-B129-AD0EF411CE7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BD40-F710-4023-AFCD-04EB7D5F5E0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DE5C-1DFB-4F71-B6A1-0B035940794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9703-80C2-470A-A5E7-6734998CCB2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5C8F-6C09-4E22-AB40-01FC2EC5654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1CE9-A65A-4C67-8C6E-9B6BFA494DD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C712-EEA8-48EA-A570-47D1B79BBA9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17B2-9D25-4DF5-91CE-137BA8F3F32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BA0-8A7C-4691-9949-ACAD2E1B8E8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E434-4B9E-46A3-B1F9-A58D425DBA5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Trompetensolo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hyperlink" Target="http://blog.seniorennet.be/lidia_powerpointblog/" TargetMode="External"/><Relationship Id="rId4" Type="http://schemas.openxmlformats.org/officeDocument/2006/relationships/image" Target="../media/image52.png"/><Relationship Id="rId5" Type="http://schemas.openxmlformats.org/officeDocument/2006/relationships/hyperlink" Target="mailto:lidiav9@gmail.com" TargetMode="External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el 1" descr=""/>
          <p:cNvPicPr/>
          <p:nvPr/>
        </p:nvPicPr>
        <p:blipFill>
          <a:blip r:embed="rId2"/>
          <a:stretch/>
        </p:blipFill>
        <p:spPr>
          <a:xfrm>
            <a:off x="171360" y="749160"/>
            <a:ext cx="8801280" cy="2829240"/>
          </a:xfrm>
          <a:prstGeom prst="rect">
            <a:avLst/>
          </a:prstGeom>
          <a:ln w="0">
            <a:noFill/>
          </a:ln>
        </p:spPr>
      </p:pic>
      <p:pic>
        <p:nvPicPr>
          <p:cNvPr id="575" name="Ondertitel 2" descr=""/>
          <p:cNvPicPr/>
          <p:nvPr/>
        </p:nvPicPr>
        <p:blipFill>
          <a:blip r:embed="rId3"/>
          <a:stretch/>
        </p:blipFill>
        <p:spPr>
          <a:xfrm>
            <a:off x="1365120" y="5772240"/>
            <a:ext cx="6413760" cy="1025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  <p:sndAc>
      <p:stSnd>
        <p:snd r:embed="rId4" name="Trompetensol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Afbeelding 1" descr="Dagreis Groei en Bloei 1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6" name="Afbeelding 2" descr="Dagreis Groei en Bloei 122 - kopie1s1s.jpg"/>
          <p:cNvPicPr/>
          <p:nvPr/>
        </p:nvPicPr>
        <p:blipFill>
          <a:blip r:embed="rId2"/>
          <a:stretch/>
        </p:blipFill>
        <p:spPr>
          <a:xfrm>
            <a:off x="0" y="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607" name="Afbeelding 3" descr="Dagreis Groei en Bloei 122 - kopie1s2s.jpg"/>
          <p:cNvPicPr/>
          <p:nvPr/>
        </p:nvPicPr>
        <p:blipFill>
          <a:blip r:embed="rId3"/>
          <a:stretch/>
        </p:blipFill>
        <p:spPr>
          <a:xfrm>
            <a:off x="0" y="2303640"/>
            <a:ext cx="3071880" cy="2304720"/>
          </a:xfrm>
          <a:prstGeom prst="rect">
            <a:avLst/>
          </a:prstGeom>
          <a:ln w="0">
            <a:noFill/>
          </a:ln>
        </p:spPr>
      </p:pic>
      <p:pic>
        <p:nvPicPr>
          <p:cNvPr id="608" name="Afbeelding 4" descr="Dagreis Groei en Bloei 122 - kopie1s3s.jpg"/>
          <p:cNvPicPr/>
          <p:nvPr/>
        </p:nvPicPr>
        <p:blipFill>
          <a:blip r:embed="rId4"/>
          <a:stretch/>
        </p:blipFill>
        <p:spPr>
          <a:xfrm>
            <a:off x="0" y="460836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609" name="Afbeelding 5" descr="Dagreis Groei en Bloei 122 - kopie2s1s.jpg"/>
          <p:cNvPicPr/>
          <p:nvPr/>
        </p:nvPicPr>
        <p:blipFill>
          <a:blip r:embed="rId5"/>
          <a:stretch/>
        </p:blipFill>
        <p:spPr>
          <a:xfrm>
            <a:off x="3071880" y="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610" name="Afbeelding 6" descr="Dagreis Groei en Bloei 122 - kopie2s2s.jpg"/>
          <p:cNvPicPr/>
          <p:nvPr/>
        </p:nvPicPr>
        <p:blipFill>
          <a:blip r:embed="rId6"/>
          <a:stretch/>
        </p:blipFill>
        <p:spPr>
          <a:xfrm>
            <a:off x="3071880" y="2303640"/>
            <a:ext cx="3071880" cy="2304720"/>
          </a:xfrm>
          <a:prstGeom prst="rect">
            <a:avLst/>
          </a:prstGeom>
          <a:ln w="0">
            <a:noFill/>
          </a:ln>
        </p:spPr>
      </p:pic>
      <p:pic>
        <p:nvPicPr>
          <p:cNvPr id="611" name="Afbeelding 7" descr="Dagreis Groei en Bloei 122 - kopie2s3s.jpg"/>
          <p:cNvPicPr/>
          <p:nvPr/>
        </p:nvPicPr>
        <p:blipFill>
          <a:blip r:embed="rId7"/>
          <a:stretch/>
        </p:blipFill>
        <p:spPr>
          <a:xfrm>
            <a:off x="3071880" y="4608360"/>
            <a:ext cx="3087720" cy="2303640"/>
          </a:xfrm>
          <a:prstGeom prst="rect">
            <a:avLst/>
          </a:prstGeom>
          <a:ln w="0">
            <a:noFill/>
          </a:ln>
        </p:spPr>
      </p:pic>
      <p:pic>
        <p:nvPicPr>
          <p:cNvPr id="612" name="Afbeelding 8" descr="Dagreis Groei en Bloei 122 - kopie3s1s.jpg"/>
          <p:cNvPicPr/>
          <p:nvPr/>
        </p:nvPicPr>
        <p:blipFill>
          <a:blip r:embed="rId8"/>
          <a:stretch/>
        </p:blipFill>
        <p:spPr>
          <a:xfrm>
            <a:off x="6143760" y="0"/>
            <a:ext cx="3060720" cy="2303640"/>
          </a:xfrm>
          <a:prstGeom prst="rect">
            <a:avLst/>
          </a:prstGeom>
          <a:ln w="0">
            <a:noFill/>
          </a:ln>
        </p:spPr>
      </p:pic>
      <p:pic>
        <p:nvPicPr>
          <p:cNvPr id="613" name="Afbeelding 9" descr="Dagreis Groei en Bloei 122 - kopie3s2s.jpg"/>
          <p:cNvPicPr/>
          <p:nvPr/>
        </p:nvPicPr>
        <p:blipFill>
          <a:blip r:embed="rId9"/>
          <a:stretch/>
        </p:blipFill>
        <p:spPr>
          <a:xfrm>
            <a:off x="6143760" y="2303640"/>
            <a:ext cx="3060720" cy="2304720"/>
          </a:xfrm>
          <a:prstGeom prst="rect">
            <a:avLst/>
          </a:prstGeom>
          <a:ln w="0">
            <a:noFill/>
          </a:ln>
        </p:spPr>
      </p:pic>
      <p:pic>
        <p:nvPicPr>
          <p:cNvPr id="614" name="Afbeelding 10" descr="Dagreis Groei en Bloei 122 - kopie3s3s.jpg"/>
          <p:cNvPicPr/>
          <p:nvPr/>
        </p:nvPicPr>
        <p:blipFill>
          <a:blip r:embed="rId10"/>
          <a:stretch/>
        </p:blipFill>
        <p:spPr>
          <a:xfrm>
            <a:off x="6159600" y="4608360"/>
            <a:ext cx="3044880" cy="23036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3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3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3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Afbeelding 1" descr="Dagreis Groei en Bloei 1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6" name="Afbeelding 2" descr="Dagreis Groei en Bloei 12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in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1" descr="Dagreis Groei en Bloei 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2" descr="Dagreis Groei en Bloei 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plus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Afbeelding 1" descr="Dagreis Groei en Bloei 1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2" descr="Dagreis Groei en Bloei 13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Afbeelding 3" descr="Truus Blok 03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3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Tekstvak 2" descr=""/>
          <p:cNvPicPr/>
          <p:nvPr/>
        </p:nvPicPr>
        <p:blipFill>
          <a:blip r:embed="rId2"/>
          <a:stretch/>
        </p:blipFill>
        <p:spPr>
          <a:xfrm>
            <a:off x="1871640" y="682560"/>
            <a:ext cx="3638520" cy="1816200"/>
          </a:xfrm>
          <a:prstGeom prst="rect">
            <a:avLst/>
          </a:prstGeom>
          <a:ln w="0">
            <a:noFill/>
          </a:ln>
        </p:spPr>
      </p:pic>
      <p:pic>
        <p:nvPicPr>
          <p:cNvPr id="623" name="Afbeelding 3" descr="lidi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5445000"/>
            <a:ext cx="2519640" cy="901800"/>
          </a:xfrm>
          <a:prstGeom prst="rect">
            <a:avLst/>
          </a:prstGeom>
          <a:ln w="0">
            <a:noFill/>
          </a:ln>
        </p:spPr>
      </p:pic>
      <p:pic>
        <p:nvPicPr>
          <p:cNvPr id="624" name="Afbeelding 4" descr="24y8zkj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51640" y="5742000"/>
            <a:ext cx="1055880" cy="468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4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4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Afbeelding 2" descr="Dagreis Groei en Bloei 0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Afbeelding 2" descr="Dagreis Groei en Bloei 07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Afbeelding 1" descr="Dagreis Groei en Bloei 1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579" name="Afbeelding 2" descr="Dagreis Groei en Bloei 086 - kopie1s1s.jpg"/>
          <p:cNvPicPr/>
          <p:nvPr/>
        </p:nvPicPr>
        <p:blipFill>
          <a:blip r:embed="rId2"/>
          <a:stretch/>
        </p:blipFill>
        <p:spPr>
          <a:xfrm>
            <a:off x="0" y="0"/>
            <a:ext cx="3044880" cy="3419640"/>
          </a:xfrm>
          <a:prstGeom prst="rect">
            <a:avLst/>
          </a:prstGeom>
          <a:ln w="0">
            <a:noFill/>
          </a:ln>
        </p:spPr>
      </p:pic>
      <p:pic>
        <p:nvPicPr>
          <p:cNvPr id="580" name="Afbeelding 3" descr="Dagreis Groei en Bloei 086 - kopie1s2s.jpg"/>
          <p:cNvPicPr/>
          <p:nvPr/>
        </p:nvPicPr>
        <p:blipFill>
          <a:blip r:embed="rId3"/>
          <a:stretch/>
        </p:blipFill>
        <p:spPr>
          <a:xfrm>
            <a:off x="0" y="3419640"/>
            <a:ext cx="3044880" cy="3438360"/>
          </a:xfrm>
          <a:prstGeom prst="rect">
            <a:avLst/>
          </a:prstGeom>
          <a:ln w="0">
            <a:noFill/>
          </a:ln>
        </p:spPr>
      </p:pic>
      <p:pic>
        <p:nvPicPr>
          <p:cNvPr id="581" name="Afbeelding 4" descr="Dagreis Groei en Bloei 086 - kopie2s1s.jpg"/>
          <p:cNvPicPr/>
          <p:nvPr/>
        </p:nvPicPr>
        <p:blipFill>
          <a:blip r:embed="rId4"/>
          <a:stretch/>
        </p:blipFill>
        <p:spPr>
          <a:xfrm>
            <a:off x="3044880" y="0"/>
            <a:ext cx="3044880" cy="3419640"/>
          </a:xfrm>
          <a:prstGeom prst="rect">
            <a:avLst/>
          </a:prstGeom>
          <a:ln w="0">
            <a:noFill/>
          </a:ln>
        </p:spPr>
      </p:pic>
      <p:pic>
        <p:nvPicPr>
          <p:cNvPr id="582" name="Afbeelding 5" descr="Dagreis Groei en Bloei 086 - kopie2s2s.jpg"/>
          <p:cNvPicPr/>
          <p:nvPr/>
        </p:nvPicPr>
        <p:blipFill>
          <a:blip r:embed="rId5"/>
          <a:stretch/>
        </p:blipFill>
        <p:spPr>
          <a:xfrm>
            <a:off x="3044880" y="3419640"/>
            <a:ext cx="3044880" cy="3438360"/>
          </a:xfrm>
          <a:prstGeom prst="rect">
            <a:avLst/>
          </a:prstGeom>
          <a:ln w="0">
            <a:noFill/>
          </a:ln>
        </p:spPr>
      </p:pic>
      <p:pic>
        <p:nvPicPr>
          <p:cNvPr id="583" name="Afbeelding 6" descr="Dagreis Groei en Bloei 086 - kopie3s1s.jpg"/>
          <p:cNvPicPr/>
          <p:nvPr/>
        </p:nvPicPr>
        <p:blipFill>
          <a:blip r:embed="rId6"/>
          <a:stretch/>
        </p:blipFill>
        <p:spPr>
          <a:xfrm>
            <a:off x="6089760" y="0"/>
            <a:ext cx="3054240" cy="3419640"/>
          </a:xfrm>
          <a:prstGeom prst="rect">
            <a:avLst/>
          </a:prstGeom>
          <a:ln w="0">
            <a:noFill/>
          </a:ln>
        </p:spPr>
      </p:pic>
      <p:pic>
        <p:nvPicPr>
          <p:cNvPr id="584" name="Afbeelding 7" descr="Dagreis Groei en Bloei 086 - kopie3s2s.jpg"/>
          <p:cNvPicPr/>
          <p:nvPr/>
        </p:nvPicPr>
        <p:blipFill>
          <a:blip r:embed="rId7"/>
          <a:stretch/>
        </p:blipFill>
        <p:spPr>
          <a:xfrm>
            <a:off x="6089760" y="3419640"/>
            <a:ext cx="3054240" cy="34383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2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5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Afbeelding 1" descr="Dagreis Groei en Bloei 0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586" name="Afbeelding 2" descr="Dagreis Groei en Bloei 08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Afbeelding 1" descr="Dagreis Groei en Bloei 0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8" name="Afbeelding 2" descr="Dagreis Groei en Bloei 106 - kopie1s1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589" name="Afbeelding 3" descr="Dagreis Groei en Bloei 106 - kopie1s2s.jpg"/>
          <p:cNvPicPr/>
          <p:nvPr/>
        </p:nvPicPr>
        <p:blipFill>
          <a:blip r:embed="rId3"/>
          <a:stretch/>
        </p:blipFill>
        <p:spPr>
          <a:xfrm>
            <a:off x="0" y="1368360"/>
            <a:ext cx="9144000" cy="1366920"/>
          </a:xfrm>
          <a:prstGeom prst="rect">
            <a:avLst/>
          </a:prstGeom>
          <a:ln w="0">
            <a:noFill/>
          </a:ln>
        </p:spPr>
      </p:pic>
      <p:pic>
        <p:nvPicPr>
          <p:cNvPr id="590" name="Afbeelding 4" descr="Dagreis Groei en Bloei 106 - kopie1s3s.jpg"/>
          <p:cNvPicPr/>
          <p:nvPr/>
        </p:nvPicPr>
        <p:blipFill>
          <a:blip r:embed="rId4"/>
          <a:stretch/>
        </p:blipFill>
        <p:spPr>
          <a:xfrm>
            <a:off x="0" y="273528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591" name="Afbeelding 5" descr="Dagreis Groei en Bloei 106 - kopie1s4s.jpg"/>
          <p:cNvPicPr/>
          <p:nvPr/>
        </p:nvPicPr>
        <p:blipFill>
          <a:blip r:embed="rId5"/>
          <a:stretch/>
        </p:blipFill>
        <p:spPr>
          <a:xfrm>
            <a:off x="0" y="410364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592" name="Afbeelding 6" descr="Dagreis Groei en Bloei 106 - kopie1s5s.jpg"/>
          <p:cNvPicPr/>
          <p:nvPr/>
        </p:nvPicPr>
        <p:blipFill>
          <a:blip r:embed="rId6"/>
          <a:stretch/>
        </p:blipFill>
        <p:spPr>
          <a:xfrm>
            <a:off x="0" y="5472000"/>
            <a:ext cx="9144000" cy="1386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5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5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3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5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fbeelding 1" descr="Dagreis Groei en Bloei 0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4" name="Afbeelding 2" descr="Dagreis Groei en Bloei 09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Afbeelding 3" descr="Dagreis Groei en Bloei 097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Afbeelding 1" descr="Dagreis Groei en Bloei 1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Afbeelding 2" descr="Dagreis Groei en Bloei 088 - kopie1s1s.jpg"/>
          <p:cNvPicPr/>
          <p:nvPr/>
        </p:nvPicPr>
        <p:blipFill>
          <a:blip r:embed="rId2"/>
          <a:stretch/>
        </p:blipFill>
        <p:spPr>
          <a:xfrm>
            <a:off x="0" y="0"/>
            <a:ext cx="4567320" cy="3419640"/>
          </a:xfrm>
          <a:prstGeom prst="rect">
            <a:avLst/>
          </a:prstGeom>
          <a:ln w="0">
            <a:noFill/>
          </a:ln>
        </p:spPr>
      </p:pic>
      <p:pic>
        <p:nvPicPr>
          <p:cNvPr id="598" name="Afbeelding 3" descr="Dagreis Groei en Bloei 088 - kopie1s2s.jpg"/>
          <p:cNvPicPr/>
          <p:nvPr/>
        </p:nvPicPr>
        <p:blipFill>
          <a:blip r:embed="rId3"/>
          <a:stretch/>
        </p:blipFill>
        <p:spPr>
          <a:xfrm>
            <a:off x="0" y="3419640"/>
            <a:ext cx="4567320" cy="3438360"/>
          </a:xfrm>
          <a:prstGeom prst="rect">
            <a:avLst/>
          </a:prstGeom>
          <a:ln w="0">
            <a:noFill/>
          </a:ln>
        </p:spPr>
      </p:pic>
      <p:pic>
        <p:nvPicPr>
          <p:cNvPr id="599" name="Afbeelding 4" descr="Dagreis Groei en Bloei 088 - kopie2s1s.jpg"/>
          <p:cNvPicPr/>
          <p:nvPr/>
        </p:nvPicPr>
        <p:blipFill>
          <a:blip r:embed="rId4"/>
          <a:stretch/>
        </p:blipFill>
        <p:spPr>
          <a:xfrm>
            <a:off x="4567320" y="0"/>
            <a:ext cx="4576680" cy="3419640"/>
          </a:xfrm>
          <a:prstGeom prst="rect">
            <a:avLst/>
          </a:prstGeom>
          <a:ln w="0">
            <a:noFill/>
          </a:ln>
        </p:spPr>
      </p:pic>
      <p:pic>
        <p:nvPicPr>
          <p:cNvPr id="600" name="Afbeelding 5" descr="Dagreis Groei en Bloei 088 - kopie2s2s.jpg"/>
          <p:cNvPicPr/>
          <p:nvPr/>
        </p:nvPicPr>
        <p:blipFill>
          <a:blip r:embed="rId5"/>
          <a:stretch/>
        </p:blipFill>
        <p:spPr>
          <a:xfrm>
            <a:off x="4567320" y="3419640"/>
            <a:ext cx="4576680" cy="3438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3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3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Afbeelding 1" descr="Dagreis Groei en Bloei 1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Afbeelding 2" descr="Dagreis Groei en Bloei 119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Afbeelding 1" descr="Dagreis Groei en Bloei 1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Afbeelding 2" descr="Dagreis Groei en Bloei 125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1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20:54:15Z</dcterms:created>
  <dc:creator>vanzuuren</dc:creator>
  <dc:description/>
  <cp:keywords>Lidia</cp:keywords>
  <dc:language>en-US</dc:language>
  <cp:lastModifiedBy>vanzuuren</cp:lastModifiedBy>
  <dcterms:modified xsi:type="dcterms:W3CDTF">2010-07-28T21:11:58Z</dcterms:modified>
  <cp:revision>3</cp:revision>
  <dc:subject/>
  <dc:title>Hemerocallis</dc:title>
</cp:coreProperties>
</file>