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764-22E7-40E7-9EE7-AD147C2D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04B-23C5-470E-9E96-179156CD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68B-5799-4773-BCE1-5FD0E894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EE0-A19D-4F9D-B805-A94E25CF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734-2336-474E-8322-78A7BFA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327-D61D-4853-A5F0-2D200433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DCF-AFEF-4754-84AA-3B77AB14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0A7-3273-4413-A826-228BBC1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961-EE11-49C8-BA12-8A3D3B43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59A-60AB-413D-9AD2-B469AD8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720-FC6E-4EDE-BD53-3CA16854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0D1-DBC6-411C-BAD1-7E702169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D0D4-EFB6-4084-99F2-CEFC4F4A2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86200" y="1066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hiller"/>
              </a:rPr>
              <a:t>PERTEMUAN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80880" y="1752480"/>
            <a:ext cx="81536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6000" spc="-1" strike="noStrike">
                <a:solidFill>
                  <a:srgbClr val="ff3300"/>
                </a:solidFill>
                <a:latin typeface="Bernard MT Condensed"/>
              </a:rPr>
              <a:t>MODEL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3"/>
          <p:cNvSpPr txBox="1"/>
          <p:nvPr/>
        </p:nvSpPr>
        <p:spPr>
          <a:xfrm>
            <a:off x="1523880" y="3543480"/>
            <a:ext cx="594360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B APLICA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80880" y="1523880"/>
            <a:ext cx="8229600" cy="403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1847880" y="2090880"/>
            <a:ext cx="547380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al Lati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4920" y="1357200"/>
            <a:ext cx="769608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lah satu Spesifikasi Model Web Application adalah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WebRati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Custo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Hyperlin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 Utilities 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untuk menghasilkan presentasi halaman, yang akan mengubah notasi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halaman ke stylesheet XSL secara otomatis tanp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kegiatan pemrograma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tambaha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yait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P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EasySty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762120"/>
            <a:ext cx="85345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Jenis infrastruktur memungkinkan untuk mengakses remote objek secara transpara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dala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D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M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V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istem menawarkan fungsionalitas untuk asynchronous transmisi pesa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an dapat dipastikan  jika pesan tersebut tetap adala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D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M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V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09480" y="83808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. Berikut adalah </a:t>
            </a:r>
            <a:r>
              <a:rPr b="0" lang="id-ID" sz="2400" spc="-1" strike="noStrike">
                <a:solidFill>
                  <a:srgbClr val="000000"/>
                </a:solidFill>
                <a:latin typeface="Arial Narrow"/>
              </a:rPr>
              <a:t>Teknologi Dokumen yang Spesifi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. PH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. 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. AS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.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8:54:57Z</dcterms:created>
  <dc:creator>Konsorsium MI/BBB_FSD</dc:creator>
  <dc:description/>
  <dc:language>en-US</dc:language>
  <cp:lastModifiedBy>G-Zone</cp:lastModifiedBy>
  <dcterms:modified xsi:type="dcterms:W3CDTF">2013-03-22T14:23:01Z</dcterms:modified>
  <cp:revision>190</cp:revision>
  <dc:subject>KBK_KA_MI</dc:subject>
  <dc:title>Modeling Web Alication</dc:title>
</cp:coreProperties>
</file>