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CF2-D989-4CC8-BE0D-8AC86880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43E-F5C3-491A-B292-BF8202E1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733-5211-4265-B81D-690B754E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D79-A085-4130-BD3A-12F79109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89F-2914-4538-9C90-F04D8CD6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562-7863-4EC0-892D-E787ECAD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DC4-5A3A-49F5-8849-CE57F495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D57-9DC4-4E41-911A-33F63067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1CE-8BE8-4E00-AF38-BC1EBCB9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D0D-8296-46CC-B30E-8270304F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2C74-AE09-48F3-BB01-436F361F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22A-FD77-47CB-999E-81455878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8F3E-0FDD-4BC7-8CDE-B2A2D9207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886200" y="1066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hiller"/>
              </a:rPr>
              <a:t>PERTEMUAN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80880" y="1752480"/>
            <a:ext cx="815364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6000" spc="-1" strike="noStrike">
                <a:solidFill>
                  <a:srgbClr val="ff3300"/>
                </a:solidFill>
                <a:latin typeface="Bernard MT Condensed"/>
              </a:rPr>
              <a:t>MODEL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3"/>
          <p:cNvSpPr txBox="1"/>
          <p:nvPr/>
        </p:nvSpPr>
        <p:spPr>
          <a:xfrm>
            <a:off x="1523880" y="3543480"/>
            <a:ext cx="5943600" cy="11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EB APLICATION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80880" y="1523880"/>
            <a:ext cx="8229600" cy="403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2" descr=""/>
          <p:cNvPicPr/>
          <p:nvPr/>
        </p:nvPicPr>
        <p:blipFill>
          <a:blip r:embed="rId1"/>
          <a:stretch/>
        </p:blipFill>
        <p:spPr>
          <a:xfrm>
            <a:off x="1847880" y="2090880"/>
            <a:ext cx="5473800" cy="2798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al Latih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4920" y="1357200"/>
            <a:ext cx="769608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lah satu Spesifikasi Model Web Application adalah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. WebRati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. Custo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. Hyperlink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. U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. 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  Utilities </a:t>
            </a:r>
            <a:r>
              <a:rPr b="0" lang="id-ID" sz="2400" spc="-1" strike="noStrike">
                <a:solidFill>
                  <a:srgbClr val="000000"/>
                </a:solidFill>
                <a:latin typeface="Arial Narrow"/>
              </a:rPr>
              <a:t>untuk menghasilkan presentasi halaman, yang akan mengubah notasi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 Narrow"/>
              </a:rPr>
              <a:t>halaman ke stylesheet XSL secara otomatis tanp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Arial Narrow"/>
              </a:rPr>
              <a:t>kegiatan pemrograma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 Narrow"/>
              </a:rPr>
              <a:t>tambaha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yaitu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. PH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. 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. </a:t>
            </a:r>
            <a:r>
              <a:rPr b="0" lang="id-ID" sz="2400" spc="-1" strike="noStrike">
                <a:solidFill>
                  <a:srgbClr val="000000"/>
                </a:solidFill>
                <a:latin typeface="Arial Narrow"/>
              </a:rPr>
              <a:t>EasySty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.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.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762120"/>
            <a:ext cx="85345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 Narrow"/>
              </a:rPr>
              <a:t>Jenis infrastruktur memungkinkan untuk mengakses remote objek secara transpara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dala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. D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.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. M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.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. V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id-ID" sz="2400" spc="-1" strike="noStrike">
                <a:solidFill>
                  <a:srgbClr val="000000"/>
                </a:solidFill>
                <a:latin typeface="Arial Narrow"/>
              </a:rPr>
              <a:t>istem menawarkan fungsionalitas untuk asynchronous transmisi pesa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an dapat dipastikan  jika pesan tersebut tetap adalah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. D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.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. M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.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. V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609480" y="838080"/>
            <a:ext cx="7772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5. Berikut adalah </a:t>
            </a:r>
            <a:r>
              <a:rPr b="0" lang="id-ID" sz="2400" spc="-1" strike="noStrike">
                <a:solidFill>
                  <a:srgbClr val="000000"/>
                </a:solidFill>
                <a:latin typeface="Arial Narrow"/>
              </a:rPr>
              <a:t>Teknologi Dokumen yang Spesifik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. PHP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. 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. ASP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.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.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8:54:57Z</dcterms:created>
  <dc:creator>Konsorsium MI/BBB_FSD</dc:creator>
  <dc:description/>
  <dc:language>en-US</dc:language>
  <cp:lastModifiedBy>G-Zone</cp:lastModifiedBy>
  <dcterms:modified xsi:type="dcterms:W3CDTF">2013-03-22T14:23:01Z</dcterms:modified>
  <cp:revision>190</cp:revision>
  <dc:subject>KBK_KA_MI</dc:subject>
  <dc:title>Modeling Web Alication</dc:title>
</cp:coreProperties>
</file>