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38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10.wmf" ContentType="image/x-wmf"/>
  <Override PartName="/ppt/media/image30.wmf" ContentType="image/x-wmf"/>
  <Override PartName="/ppt/media/image28.wmf" ContentType="image/x-wmf"/>
  <Override PartName="/ppt/media/image3.png" ContentType="image/png"/>
  <Override PartName="/ppt/media/image31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5.wmf" ContentType="image/x-wmf"/>
  <Override PartName="/ppt/media/image15.png" ContentType="image/png"/>
  <Override PartName="/ppt/media/image12.wmf" ContentType="image/x-wmf"/>
  <Override PartName="/ppt/media/image36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wmf" ContentType="image/x-wmf"/>
  <Override PartName="/ppt/media/image1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000" y="-36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38360"/>
            <a:ext cx="4930920" cy="369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681080"/>
            <a:ext cx="542628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288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000" y="9362880"/>
            <a:ext cx="2940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EBDDF3-3B08-4680-AA1E-4CAE606CE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95560" y="987480"/>
            <a:ext cx="4394160" cy="33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78960" y="4681440"/>
            <a:ext cx="542628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95560" y="987480"/>
            <a:ext cx="4394160" cy="33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78960" y="4681440"/>
            <a:ext cx="542628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95560" y="987480"/>
            <a:ext cx="4394160" cy="33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78960" y="4681440"/>
            <a:ext cx="542628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43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800" bIns="46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1120"/>
                <a:tab algn="l" pos="3668760"/>
                <a:tab algn="l" pos="4586400"/>
                <a:tab algn="l" pos="5504040"/>
                <a:tab algn="l" pos="6421320"/>
                <a:tab algn="l" pos="7338960"/>
                <a:tab algn="l" pos="8255160"/>
                <a:tab algn="l" pos="9172440"/>
                <a:tab algn="l" pos="10090080"/>
                <a:tab algn="l" pos="10333080"/>
                <a:tab algn="l" pos="10782360"/>
              </a:tabLst>
            </a:pPr>
            <a:fld id="{3A860C08-CA6F-484C-9546-F3D5079000CE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43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800" bIns="46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1120"/>
                <a:tab algn="l" pos="3668760"/>
                <a:tab algn="l" pos="4586400"/>
                <a:tab algn="l" pos="5504040"/>
                <a:tab algn="l" pos="6421320"/>
                <a:tab algn="l" pos="7338960"/>
                <a:tab algn="l" pos="8255160"/>
                <a:tab algn="l" pos="9172440"/>
                <a:tab algn="l" pos="10090080"/>
                <a:tab algn="l" pos="10333080"/>
                <a:tab algn="l" pos="10782360"/>
              </a:tabLst>
            </a:pPr>
            <a:fld id="{9FE6791E-8F2C-4B0D-85CC-BBCBED153711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88920" y="738360"/>
            <a:ext cx="481032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78960" y="4681440"/>
            <a:ext cx="542628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46600" y="9364680"/>
            <a:ext cx="2938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35FD22-8171-431F-84D8-9AFB814340A1}" type="slidenum">
              <a:rPr b="0" lang="sv-S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29120" cy="3697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976-44CC-4F6C-BB55-166DDDF9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CF5-062B-4F7F-8AD8-679D3B7E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AC6-267A-4506-8E55-8257C387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404-98EE-4A6D-A0C7-C462505C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04BC-22F8-4906-A419-09FB270C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8F1-F691-4205-8D8F-4FA54741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830-2778-4D26-9290-DF87C9D5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0318-44CB-4A9D-A0BF-5EE40DD0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D20-8B72-452E-80A4-286D7A36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98B-8225-4BA5-A3E6-449ABF32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88A-319F-4BF3-A045-0C323BE3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88B-EB40-44E1-A002-452CBF06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920E-FC67-463A-96A0-4B6B1D35B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981000"/>
            <a:ext cx="9067680" cy="60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Sistema 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de Justiça na exigibilidade do direito à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3333ff"/>
                </a:solidFill>
                <a:latin typeface="Arial"/>
              </a:rPr>
              <a:t>Convivência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Familiar e Comunitári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moraes@mp.rs.gov.b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quivos: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odrigoschoeller.blogspot.com</a:t>
            </a:r>
            <a:br>
              <a:rPr sz="2400"/>
            </a:b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Z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9280" y="5876640"/>
            <a:ext cx="72327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nte: Zero Hora  - 31 de maio de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to da Capa: Daniel Mare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064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500 mil brasileir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que participaram da pesquisa Brasil Ponto a Ponto, realizada pelo Programa das Nações Unidas para o Desenvolvimento (PNUD)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sponderam a pergunta: “O que deve mudar no Brasil para sua vida melhorar de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da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5229000"/>
            <a:ext cx="8001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maior parte deles apontou o tema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3333ff"/>
                </a:solidFill>
                <a:latin typeface="Arial"/>
              </a:rPr>
              <a:t>valores de vid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q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ão valores de vi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666880"/>
            <a:ext cx="752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ão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cc00"/>
                </a:solidFill>
                <a:uFillTx/>
                <a:latin typeface="Arial"/>
              </a:rPr>
              <a:t>Form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erce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mun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d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gi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partir di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3640" y="304560"/>
            <a:ext cx="8667720" cy="15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ff"/>
                </a:solidFill>
                <a:latin typeface="Arial"/>
              </a:rPr>
              <a:t>Percepçã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avés dos cinco </a:t>
            </a: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sentid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* Visão       * Audição       * Olfato         * Tato         * Pal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5616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05000"/>
            <a:ext cx="818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Gosto   -    Não g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“Ser”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ica condicionado a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ro  -    Não quer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terior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- sen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14800"/>
            <a:ext cx="54864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usca</a:t>
            </a: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   Poder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oximar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osto/qu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fastar        - Não gosto/ Não qu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501984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Times New Roman"/>
              </a:rPr>
              <a:t>Tenho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- Não te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Economia – veíc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Visão Cartesiana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socia/Se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* Espírito - Ciênci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nt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-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rp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*Sujeito - 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Meu - T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5616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19880" y="2862360"/>
            <a:ext cx="4840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= Ciclo dos </a:t>
            </a: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Ext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timizar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u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Pensamento Linea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 Direi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4735440"/>
            <a:ext cx="875808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Individualismo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ndiciona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dig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Ofuscam a percepção de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7854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alterar a visão cartesiana e o pensamento linea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Para romper condicionamento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e como deve ser feit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8200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 - condi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Des - envolv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50920" y="4005360"/>
            <a:ext cx="8278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Desenvolv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 Pensamento </a:t>
            </a: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Sistêmico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Perceb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 sistema como um tod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rela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/// as interconex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227640" y="1779480"/>
            <a:ext cx="291636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amíli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 Acolh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pt-BR" sz="1600" spc="-1" strike="noStrike">
                <a:solidFill>
                  <a:srgbClr val="ff3300"/>
                </a:solidFill>
                <a:latin typeface="Verdana"/>
              </a:rPr>
              <a:t>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3"/>
          <p:cNvSpPr/>
          <p:nvPr/>
        </p:nvSpPr>
        <p:spPr>
          <a:xfrm>
            <a:off x="2124000" y="2565360"/>
            <a:ext cx="3527640" cy="208764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"/>
          <p:cNvSpPr/>
          <p:nvPr/>
        </p:nvSpPr>
        <p:spPr>
          <a:xfrm>
            <a:off x="826920" y="1657440"/>
            <a:ext cx="5761080" cy="4608360"/>
          </a:xfrm>
          <a:prstGeom prst="ellipse">
            <a:avLst/>
          </a:prstGeom>
          <a:noFill/>
          <a:ln w="284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"/>
          <p:cNvSpPr/>
          <p:nvPr/>
        </p:nvSpPr>
        <p:spPr>
          <a:xfrm>
            <a:off x="179280" y="1368360"/>
            <a:ext cx="6769080" cy="540072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0" y="442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Verdana"/>
              </a:rPr>
              <a:t>Planejamento e Gestão Sistêmicos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(P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5508720" y="1236600"/>
            <a:ext cx="2154240" cy="536760"/>
          </a:xfrm>
          <a:custGeom>
            <a:avLst/>
            <a:gdLst>
              <a:gd name="textAreaLeft" fmla="*/ 376920 w 2154240"/>
              <a:gd name="textAreaRight" fmla="*/ 1562040 w 2154240"/>
              <a:gd name="textAreaTop" fmla="*/ 71640 h 536760"/>
              <a:gd name="textAreaBottom" fmla="*/ 465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 rot="19463400">
            <a:off x="7164000" y="2655360"/>
            <a:ext cx="1955880" cy="595440"/>
          </a:xfrm>
          <a:custGeom>
            <a:avLst/>
            <a:gdLst>
              <a:gd name="textAreaLeft" fmla="*/ 342000 w 1955880"/>
              <a:gd name="textAreaRight" fmla="*/ 1418040 w 1955880"/>
              <a:gd name="textAreaTop" fmla="*/ 79560 h 595440"/>
              <a:gd name="textAreaBottom" fmla="*/ 51588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9"/>
          <p:cNvSpPr/>
          <p:nvPr/>
        </p:nvSpPr>
        <p:spPr>
          <a:xfrm>
            <a:off x="3132000" y="4797360"/>
            <a:ext cx="2303640" cy="2060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395280" y="3573360"/>
            <a:ext cx="1800360" cy="1800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apear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nteg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1"/>
          <p:cNvSpPr/>
          <p:nvPr/>
        </p:nvSpPr>
        <p:spPr>
          <a:xfrm>
            <a:off x="1403280" y="1125360"/>
            <a:ext cx="1513080" cy="1611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2"/>
          <p:cNvSpPr/>
          <p:nvPr/>
        </p:nvSpPr>
        <p:spPr>
          <a:xfrm>
            <a:off x="4429080" y="105264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eces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3"/>
          <p:cNvSpPr/>
          <p:nvPr/>
        </p:nvSpPr>
        <p:spPr>
          <a:xfrm>
            <a:off x="5867280" y="3166920"/>
            <a:ext cx="216072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4211640" y="981000"/>
            <a:ext cx="2016000" cy="18288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ecessidade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Fisiológicas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sicológicas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utorrealizaç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5"/>
          <p:cNvSpPr/>
          <p:nvPr/>
        </p:nvSpPr>
        <p:spPr>
          <a:xfrm>
            <a:off x="5867280" y="3166920"/>
            <a:ext cx="223380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Econômico; Social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mbient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6"/>
          <p:cNvSpPr/>
          <p:nvPr/>
        </p:nvSpPr>
        <p:spPr>
          <a:xfrm>
            <a:off x="3124080" y="4800600"/>
            <a:ext cx="2362320" cy="20574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úblico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rivado e Socieda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Civil Organiz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7"/>
          <p:cNvGrpSpPr/>
          <p:nvPr/>
        </p:nvGrpSpPr>
        <p:grpSpPr>
          <a:xfrm>
            <a:off x="2627280" y="2927520"/>
            <a:ext cx="3060720" cy="1017000"/>
            <a:chOff x="2627280" y="2927520"/>
            <a:chExt cx="3060720" cy="1017000"/>
          </a:xfrm>
        </p:grpSpPr>
        <p:sp>
          <p:nvSpPr>
            <p:cNvPr id="103" name="Text Box 18"/>
            <p:cNvSpPr/>
            <p:nvPr/>
          </p:nvSpPr>
          <p:spPr>
            <a:xfrm flipH="1">
              <a:off x="2627280" y="2927520"/>
              <a:ext cx="3060720" cy="10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Efeitos Públic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Redes de </a:t>
              </a:r>
              <a:r>
                <a:rPr b="1" lang="pt-BR" sz="1500" spc="-1" strike="noStrike">
                  <a:solidFill>
                    <a:srgbClr val="3333ff"/>
                  </a:solidFill>
                  <a:latin typeface="Verdana"/>
                </a:rPr>
                <a:t>Cooperaçã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9"/>
            <p:cNvSpPr/>
            <p:nvPr/>
          </p:nvSpPr>
          <p:spPr>
            <a:xfrm>
              <a:off x="4211640" y="3216240"/>
              <a:ext cx="3240" cy="41400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934320" y="5530680"/>
            <a:ext cx="163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D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Times New Roman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80880"/>
            <a:ext cx="2666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EFE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SUSTENT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Arial"/>
              </a:rPr>
              <a:t>P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Externa e Int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a Prática - </a:t>
            </a:r>
            <a:r>
              <a:rPr b="1" lang="pt-BR" sz="3200" spc="-1" strike="noStrike">
                <a:solidFill>
                  <a:srgbClr val="ff3300"/>
                </a:solidFill>
                <a:latin typeface="Arial"/>
              </a:rPr>
              <a:t>Atividade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3300"/>
                </a:solidFill>
                <a:latin typeface="Arial"/>
              </a:rPr>
              <a:t>Gerais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 partir 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foco priorit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Integ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2514600"/>
            <a:ext cx="27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a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896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De forma sistê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04920" y="414000"/>
            <a:ext cx="812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pear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- Necess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fisiológicas, psicológicas e que permitam a autorrealização);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2-Possibilidades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- Atividades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s três setores e dos indivíduos da comunidade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Banco de Dado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28600" y="911880"/>
            <a:ext cx="86868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grar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) Reuni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) Modelos – Projetos e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) Repl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fóruns, seminários, jornadas, internet, workshop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914040"/>
            <a:ext cx="829152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abilidades e Intersetorialidade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que é garantir a proteção integral?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3357720"/>
            <a:ext cx="8043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Uma abordagem  sob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à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luz dos fluxos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sistêmico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e as Políticas Públic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Arial"/>
              </a:rPr>
              <a:t>Em Rio Grande</a:t>
            </a:r>
            <a:r>
              <a:rPr b="1" lang="pt-BR" sz="3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3100" spc="-1" strike="noStrike">
                <a:solidFill>
                  <a:srgbClr val="3333ff"/>
                </a:solidFill>
                <a:latin typeface="Arial"/>
              </a:rPr>
              <a:t>Programa Rede Família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Arial"/>
              </a:rPr>
              <a:t> Foco: crianças e adolescentes </a:t>
            </a:r>
            <a:r>
              <a:rPr b="1" lang="pt-BR" sz="3100" spc="-1" strike="noStrike">
                <a:solidFill>
                  <a:srgbClr val="ff3300"/>
                </a:solidFill>
                <a:latin typeface="Arial"/>
              </a:rPr>
              <a:t>institucionalizados e suas famíli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Mape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Via processos judiciais - Rede de Abrig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18000"/>
          </a:blip>
          <a:srcRect l="0" t="0" r="0" b="19124"/>
          <a:stretch/>
        </p:blipFill>
        <p:spPr>
          <a:xfrm>
            <a:off x="762120" y="3452760"/>
            <a:ext cx="8229600" cy="2719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12520" y="606096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A rede local e ampliada - mapa do capital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Integra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Acompanhamento, orientação, educação e apoio sócio-familia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 contexto loc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s famílias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s agentes comunitários por parte do Rede Família e o CEP-RUA - estabelecidas parcerias com os Conselheiros Tutelares;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Re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Acolhimento Institucional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Resultado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ficácia =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minuição do tempo de permanênc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crianças e adolescentes em acolhimento institucional (apesar da expansão portuá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Eficiência =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tim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s recursos (menos papel - mais rel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fetividade =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ltu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tuar e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des de coop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3333ff"/>
                </a:solidFill>
                <a:uFillTx/>
                <a:latin typeface="Arial"/>
              </a:rPr>
              <a:t>Em Rio Gran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prevenção, reinserção social e redução da oferta/repressão às </a:t>
            </a:r>
            <a:br>
              <a:rPr sz="3200"/>
            </a:b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Drogas </a:t>
            </a:r>
            <a:r>
              <a:rPr b="0" lang="pt-BR" sz="3200" spc="-1" strike="noStrike">
                <a:solidFill>
                  <a:srgbClr val="ff3300"/>
                </a:solidFill>
                <a:latin typeface="Hoefler Text Ornaments"/>
                <a:ea typeface="Hoefler Text Ornaments"/>
              </a:rPr>
              <a:t>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i="1" lang="pt-BR" sz="3200" spc="-1" strike="noStrike">
                <a:solidFill>
                  <a:srgbClr val="ff3300"/>
                </a:solidFill>
                <a:latin typeface="Arial"/>
              </a:rPr>
              <a:t> crack</a:t>
            </a:r>
            <a:br>
              <a:rPr sz="3200"/>
            </a:b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i="1" lang="pt-BR" sz="2800" spc="-1" strike="noStrike">
                <a:solidFill>
                  <a:srgbClr val="ff3300"/>
                </a:solidFill>
                <a:latin typeface="Arial"/>
              </a:rPr>
              <a:t>crack</a:t>
            </a: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 destrói a convivência familiar e comunitá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Ma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formações colhidas em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uniões e dad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fornecidos pelos parceir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 Elaboração d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enári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 foco nos Bairros Castelo Branco I e II;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 Análise do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latóri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o Sistema de Informação da Atenção Básica (SIA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Em Rio Gran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revenção, reinserção social e redução da oferta/repressão às Drogas </a:t>
            </a:r>
            <a:r>
              <a:rPr b="0" lang="pt-BR" sz="2400" spc="-1" strike="noStrike">
                <a:solidFill>
                  <a:srgbClr val="000000"/>
                </a:solidFill>
                <a:latin typeface="Hoefler Text Ornaments"/>
                <a:ea typeface="Hoefler Text Ornament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c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280" y="129492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Integrar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Internet -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rupo Virtu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Fazendo Frente ao Cra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PV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- Programa de Prevenção à Viol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Grupo de Trabalho Drogadição -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mitê de Gestão Soci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C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Sistema de referência e contrar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ndara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733920"/>
            <a:ext cx="8866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Times New Roman"/>
              </a:rPr>
              <a:t>Resultados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eminário - Política Municipal sobre Drogas do Rio G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umento do atendimen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 usuários de crack através do ambulatório de saúde mental, do CENPRE e das comunidades terapêutic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mento da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isõ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or tráf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Apresentação de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proje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ndara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838080" y="685800"/>
          <a:ext cx="7162920" cy="57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716292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04920" y="117360"/>
            <a:ext cx="85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dital da Secretaria de Justiça e Desenvolviment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04920" y="762120"/>
          <a:ext cx="85341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534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52280" y="414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dital da Secretaria de Justiça e Desenvolviment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Arial"/>
              </a:rPr>
              <a:t>Em Rio Gran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PG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 foco na </a:t>
            </a: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Saúd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- Otimização da Rede de Fornecimento de </a:t>
            </a: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Medicamento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1-Mape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1 Instituições Participa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2 Materiais sobre o t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2- </a:t>
            </a:r>
            <a:r>
              <a:rPr b="1" lang="pt-BR" sz="2800" spc="-1" strike="noStrike">
                <a:solidFill>
                  <a:srgbClr val="3333ff"/>
                </a:solidFill>
                <a:latin typeface="Arial"/>
              </a:rPr>
              <a:t>Integr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exemp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1 – Critérios para o atendimento inici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2 – Critérios para judicial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57200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PG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 foco na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Saúd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- Otimização da Rede de Fornecimento de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Medic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3 – RESULTADOS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(EXEMPLO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3.1 –</a:t>
            </a:r>
            <a:r>
              <a:rPr b="0" lang="pt-BR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3333ff"/>
                </a:solidFill>
                <a:uFillTx/>
                <a:latin typeface="Arial"/>
              </a:rPr>
              <a:t>Em Rio Grande</a:t>
            </a: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organização da rede de atenção à saúde, com foco nos medicame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ução das a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seriam ajuizadas pelo Ministério Público e pela Defensoria Pública se não fosse implementada a metodologia;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ndara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895480"/>
            <a:ext cx="89424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3.2 -</a:t>
            </a:r>
            <a:r>
              <a:rPr b="0" lang="pt-BR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3333ff"/>
                </a:solidFill>
                <a:uFillTx/>
                <a:latin typeface="Arial"/>
              </a:rPr>
              <a:t>No Estado do RGS</a:t>
            </a: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realizaçã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uni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ensais do Grupo de Planejamento e de Gestão Sistêmicos e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ent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 todas as instituições para discutir a questão dos medicame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organização e elaboraçã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teri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subsidiar os envolvidos no tema (formulário unificado de justificativa médica, portarias, pesquisa junto aos municípios, fluxograma de fornecimento de medicamentos, sugestões, artigos para revistas, livro, DVD´s, cartilhas, educação à distância,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assinatura de </a:t>
            </a:r>
            <a:r>
              <a:rPr b="1" lang="pt-BR" sz="2000" spc="-1" strike="noStrike">
                <a:solidFill>
                  <a:srgbClr val="3333ff"/>
                </a:solidFill>
                <a:latin typeface="Arial"/>
              </a:rPr>
              <a:t>termo de cooper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 o Ministério Público, o Tribunal de Justiça, a Defensoria Pública, a Secretaria de Estado da Saúde, a Procuradoria Regional da União, a Procuradoria-Geral do Estado, a Federação das Associações de Municípios e o Conselho Regional de Medicin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a repli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a metodologia de Planejamento e de Gestão Sistêmic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unicí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ndara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324480" y="1779480"/>
            <a:ext cx="2286000" cy="14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ff"/>
                </a:solidFill>
                <a:latin typeface="Verdana"/>
              </a:rPr>
              <a:t>FAMÍLIA</a:t>
            </a:r>
            <a:r>
              <a:rPr b="1" lang="pt-BR" sz="1600" spc="-1" strike="noStrike">
                <a:solidFill>
                  <a:srgbClr val="000099"/>
                </a:solidFill>
                <a:latin typeface="Carta"/>
                <a:ea typeface="Carta"/>
              </a:rPr>
              <a:t></a:t>
            </a:r>
            <a:r>
              <a:rPr b="1" lang="pt-BR" sz="1600" spc="-1" strike="noStrike">
                <a:solidFill>
                  <a:srgbClr val="000099"/>
                </a:solidFill>
                <a:latin typeface="Verdana"/>
              </a:rPr>
              <a:t> Foco(s) Priorit</a:t>
            </a: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ário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Ex. 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Crack</a:t>
            </a: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dicamentos</a:t>
            </a: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Água;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"/>
          <p:cNvSpPr/>
          <p:nvPr/>
        </p:nvSpPr>
        <p:spPr>
          <a:xfrm>
            <a:off x="2124000" y="2565360"/>
            <a:ext cx="3527640" cy="208764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826920" y="1657440"/>
            <a:ext cx="5761080" cy="4608360"/>
          </a:xfrm>
          <a:prstGeom prst="ellipse">
            <a:avLst/>
          </a:prstGeom>
          <a:noFill/>
          <a:ln w="284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179280" y="1368360"/>
            <a:ext cx="6769080" cy="540072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0" y="442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Verdana"/>
              </a:rPr>
              <a:t>Planejamento e Gestão Sistêmicos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(P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5508720" y="1236600"/>
            <a:ext cx="2154240" cy="536760"/>
          </a:xfrm>
          <a:custGeom>
            <a:avLst/>
            <a:gdLst>
              <a:gd name="textAreaLeft" fmla="*/ 376920 w 2154240"/>
              <a:gd name="textAreaRight" fmla="*/ 1562040 w 2154240"/>
              <a:gd name="textAreaTop" fmla="*/ 71640 h 536760"/>
              <a:gd name="textAreaBottom" fmla="*/ 465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 rot="19463400">
            <a:off x="7092720" y="2567160"/>
            <a:ext cx="1955520" cy="574560"/>
          </a:xfrm>
          <a:custGeom>
            <a:avLst/>
            <a:gdLst>
              <a:gd name="textAreaLeft" fmla="*/ 342000 w 1955520"/>
              <a:gd name="textAreaRight" fmla="*/ 1417680 w 19555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9"/>
          <p:cNvSpPr/>
          <p:nvPr/>
        </p:nvSpPr>
        <p:spPr>
          <a:xfrm>
            <a:off x="3132000" y="4797360"/>
            <a:ext cx="2303640" cy="2060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0"/>
          <p:cNvSpPr/>
          <p:nvPr/>
        </p:nvSpPr>
        <p:spPr>
          <a:xfrm>
            <a:off x="395280" y="3573360"/>
            <a:ext cx="1800360" cy="1800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apear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nteg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"/>
          <p:cNvSpPr/>
          <p:nvPr/>
        </p:nvSpPr>
        <p:spPr>
          <a:xfrm>
            <a:off x="1403280" y="1125360"/>
            <a:ext cx="1513080" cy="1611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2"/>
          <p:cNvSpPr/>
          <p:nvPr/>
        </p:nvSpPr>
        <p:spPr>
          <a:xfrm>
            <a:off x="4429080" y="105264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eces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5867280" y="3166920"/>
            <a:ext cx="216072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4"/>
          <p:cNvSpPr/>
          <p:nvPr/>
        </p:nvSpPr>
        <p:spPr>
          <a:xfrm>
            <a:off x="4211640" y="981000"/>
            <a:ext cx="2016000" cy="18288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ecessidade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Fisiológicas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sicológicas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utorrealizaç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5"/>
          <p:cNvSpPr/>
          <p:nvPr/>
        </p:nvSpPr>
        <p:spPr>
          <a:xfrm>
            <a:off x="5867280" y="3166920"/>
            <a:ext cx="223380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Econômico; Social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mbient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6"/>
          <p:cNvSpPr/>
          <p:nvPr/>
        </p:nvSpPr>
        <p:spPr>
          <a:xfrm>
            <a:off x="3124080" y="4800600"/>
            <a:ext cx="2362320" cy="20574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úblico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rivado e Socieda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Civil Organiz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7"/>
          <p:cNvGrpSpPr/>
          <p:nvPr/>
        </p:nvGrpSpPr>
        <p:grpSpPr>
          <a:xfrm>
            <a:off x="2627280" y="2927520"/>
            <a:ext cx="3060720" cy="1017000"/>
            <a:chOff x="2627280" y="2927520"/>
            <a:chExt cx="3060720" cy="1017000"/>
          </a:xfrm>
        </p:grpSpPr>
        <p:sp>
          <p:nvSpPr>
            <p:cNvPr id="153" name="Text Box 18"/>
            <p:cNvSpPr/>
            <p:nvPr/>
          </p:nvSpPr>
          <p:spPr>
            <a:xfrm flipH="1">
              <a:off x="2627280" y="2927520"/>
              <a:ext cx="3060720" cy="10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Efeitos Públic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Redes de </a:t>
              </a:r>
              <a:r>
                <a:rPr b="1" lang="pt-BR" sz="1500" spc="-1" strike="noStrike">
                  <a:solidFill>
                    <a:srgbClr val="3333ff"/>
                  </a:solidFill>
                  <a:latin typeface="Verdana"/>
                </a:rPr>
                <a:t>Cooperaçã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4211640" y="3216240"/>
              <a:ext cx="3240" cy="41400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934320" y="5530680"/>
            <a:ext cx="163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D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Times New Roman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80880"/>
            <a:ext cx="2666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ff"/>
                </a:solidFill>
                <a:latin typeface="Arial"/>
              </a:rPr>
              <a:t>EFETIV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ff"/>
                </a:solidFill>
                <a:latin typeface="Arial"/>
              </a:rPr>
              <a:t>SUSTENT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P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xterna e In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rt. 127 da Constituição Fed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3200" spc="-1" strike="noStrike">
                <a:solidFill>
                  <a:srgbClr val="3333ff"/>
                </a:solidFill>
                <a:latin typeface="Arial"/>
              </a:rPr>
              <a:t>Ministério Públic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é instituição permanente, essencial à função jurisdicional do Est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cumbindo-lhe a defesa da ordem jurídica, do regime democrát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 dos interesses sociais e individuais indisponíveis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O que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é um 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sistem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22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33520" y="5486400"/>
            <a:ext cx="8229240" cy="1142280"/>
            <a:chOff x="533520" y="5486400"/>
            <a:chExt cx="8229240" cy="1142280"/>
          </a:xfrm>
        </p:grpSpPr>
        <p:sp>
          <p:nvSpPr>
            <p:cNvPr id="160" name=""/>
            <p:cNvSpPr/>
            <p:nvPr/>
          </p:nvSpPr>
          <p:spPr>
            <a:xfrm>
              <a:off x="6674760" y="5486400"/>
              <a:ext cx="2087640" cy="11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1" lang="pt-BR" sz="28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Pa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na e exte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23680" y="5486400"/>
              <a:ext cx="4051080" cy="11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Efetividade dos </a:t>
              </a:r>
              <a:r>
                <a:rPr b="1" lang="pt-BR" sz="2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Direitos Humanos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 do Sistema como um </a:t>
              </a:r>
              <a:r>
                <a:rPr b="1" lang="pt-BR" sz="18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todo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implementação da </a:t>
              </a:r>
              <a:r>
                <a:rPr b="1" lang="pt-BR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Agenda </a:t>
              </a:r>
              <a:r>
                <a:rPr b="1" i="1" lang="pt-BR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Habitat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520" y="5486400"/>
              <a:ext cx="2090160" cy="11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ã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+2+3+4 = </a:t>
              </a:r>
              <a:r>
                <a:rPr b="1" lang="pt-BR" sz="18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D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            </a:t>
              </a:r>
              <a:r>
                <a:rPr b="1" lang="pt-BR" sz="24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Val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520" y="5486400"/>
              <a:ext cx="82292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3520" y="6628680"/>
              <a:ext cx="82292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520" y="5486400"/>
              <a:ext cx="0" cy="114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62760" y="5486400"/>
              <a:ext cx="0" cy="114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23680" y="5486400"/>
              <a:ext cx="0" cy="114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74760" y="5486400"/>
              <a:ext cx="0" cy="114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228600" y="228600"/>
          <a:ext cx="876312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6324480" y="1779480"/>
            <a:ext cx="2286000" cy="14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ff"/>
                </a:solidFill>
                <a:latin typeface="Verdana"/>
              </a:rPr>
              <a:t>FAMÍLIA</a:t>
            </a:r>
            <a:r>
              <a:rPr b="1" lang="pt-BR" sz="1600" spc="-1" strike="noStrike">
                <a:solidFill>
                  <a:srgbClr val="000099"/>
                </a:solidFill>
                <a:latin typeface="Carta"/>
                <a:ea typeface="Carta"/>
              </a:rPr>
              <a:t></a:t>
            </a:r>
            <a:r>
              <a:rPr b="1" lang="pt-BR" sz="1600" spc="-1" strike="noStrike">
                <a:solidFill>
                  <a:srgbClr val="000099"/>
                </a:solidFill>
                <a:latin typeface="Verdana"/>
              </a:rPr>
              <a:t> Foco(s) Priorit</a:t>
            </a: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ário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Ex. </a:t>
            </a:r>
            <a:r>
              <a:rPr b="1" lang="en-US" sz="1400" spc="-1" strike="noStrike">
                <a:solidFill>
                  <a:srgbClr val="3333ff"/>
                </a:solidFill>
                <a:latin typeface="Verdana"/>
              </a:rPr>
              <a:t>Crack</a:t>
            </a: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dicamentos</a:t>
            </a: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Água;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"/>
          <p:cNvSpPr/>
          <p:nvPr/>
        </p:nvSpPr>
        <p:spPr>
          <a:xfrm>
            <a:off x="2124000" y="2565360"/>
            <a:ext cx="3527640" cy="2087640"/>
          </a:xfrm>
          <a:prstGeom prst="ellipse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826920" y="1657440"/>
            <a:ext cx="5761080" cy="4608360"/>
          </a:xfrm>
          <a:prstGeom prst="ellipse">
            <a:avLst/>
          </a:prstGeom>
          <a:noFill/>
          <a:ln w="28440">
            <a:solidFill>
              <a:srgbClr val="00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179280" y="1368360"/>
            <a:ext cx="6769080" cy="540072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0" y="442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Verdana"/>
              </a:rPr>
              <a:t>Planejamento e Gestão Sistêmicos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(P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5508720" y="1236600"/>
            <a:ext cx="2154240" cy="536760"/>
          </a:xfrm>
          <a:custGeom>
            <a:avLst/>
            <a:gdLst>
              <a:gd name="textAreaLeft" fmla="*/ 376920 w 2154240"/>
              <a:gd name="textAreaRight" fmla="*/ 1562040 w 2154240"/>
              <a:gd name="textAreaTop" fmla="*/ 71640 h 536760"/>
              <a:gd name="textAreaBottom" fmla="*/ 465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 rot="19463400">
            <a:off x="7092720" y="2567160"/>
            <a:ext cx="1955520" cy="574560"/>
          </a:xfrm>
          <a:custGeom>
            <a:avLst/>
            <a:gdLst>
              <a:gd name="textAreaLeft" fmla="*/ 342000 w 1955520"/>
              <a:gd name="textAreaRight" fmla="*/ 1417680 w 19555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3132000" y="4797360"/>
            <a:ext cx="2303640" cy="206064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395280" y="3573360"/>
            <a:ext cx="1800360" cy="1800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apear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nteg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1403280" y="1125360"/>
            <a:ext cx="1513080" cy="1611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4429080" y="105264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eces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5867280" y="3166920"/>
            <a:ext cx="216072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4211640" y="981000"/>
            <a:ext cx="2016000" cy="18288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ecessidade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Fisiológicas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sicológicas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utorrealizaç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5867280" y="3166920"/>
            <a:ext cx="2233800" cy="2133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Nos 3 eixos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sustentabilidade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Econômico; Social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Ambient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6"/>
          <p:cNvSpPr/>
          <p:nvPr/>
        </p:nvSpPr>
        <p:spPr>
          <a:xfrm>
            <a:off x="3124080" y="4800600"/>
            <a:ext cx="2362320" cy="20574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Integração d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3 setores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úblico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Privado e Socieda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Verdana"/>
              </a:rPr>
              <a:t>Civil Organiz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 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Comunida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pt-BR" sz="1500" spc="-1" strike="noStrike">
                <a:solidFill>
                  <a:srgbClr val="ffffff"/>
                </a:solidFill>
                <a:latin typeface="Verdana"/>
              </a:rPr>
              <a:t>em g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7"/>
          <p:cNvGrpSpPr/>
          <p:nvPr/>
        </p:nvGrpSpPr>
        <p:grpSpPr>
          <a:xfrm>
            <a:off x="2627280" y="2927520"/>
            <a:ext cx="3060720" cy="1017000"/>
            <a:chOff x="2627280" y="2927520"/>
            <a:chExt cx="3060720" cy="1017000"/>
          </a:xfrm>
        </p:grpSpPr>
        <p:sp>
          <p:nvSpPr>
            <p:cNvPr id="187" name="Text Box 18"/>
            <p:cNvSpPr/>
            <p:nvPr/>
          </p:nvSpPr>
          <p:spPr>
            <a:xfrm flipH="1">
              <a:off x="2627280" y="2927520"/>
              <a:ext cx="3060720" cy="10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Efeitos Públic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  </a:t>
              </a:r>
              <a:r>
                <a:rPr b="1" lang="pt-BR" sz="1500" spc="-1" strike="noStrike">
                  <a:solidFill>
                    <a:srgbClr val="003366"/>
                  </a:solidFill>
                  <a:latin typeface="Verdana"/>
                </a:rPr>
                <a:t>Redes de </a:t>
              </a:r>
              <a:r>
                <a:rPr b="1" lang="pt-BR" sz="1500" spc="-1" strike="noStrike">
                  <a:solidFill>
                    <a:srgbClr val="3333ff"/>
                  </a:solidFill>
                  <a:latin typeface="Verdana"/>
                </a:rPr>
                <a:t>Cooperaçã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9"/>
            <p:cNvSpPr/>
            <p:nvPr/>
          </p:nvSpPr>
          <p:spPr>
            <a:xfrm>
              <a:off x="4211640" y="3216240"/>
              <a:ext cx="3240" cy="41400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934320" y="5530680"/>
            <a:ext cx="163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D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ff"/>
                </a:solidFill>
                <a:latin typeface="Times New Roman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808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ff"/>
                </a:solidFill>
                <a:latin typeface="Arial"/>
              </a:rPr>
              <a:t>EFETIV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ff"/>
                </a:solidFill>
                <a:latin typeface="Arial"/>
              </a:rPr>
              <a:t>SUSTENT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3300"/>
                </a:solidFill>
                <a:uFillTx/>
                <a:latin typeface="Arial"/>
              </a:rPr>
              <a:t>Educere-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Educ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3333ff"/>
                </a:solidFill>
                <a:latin typeface="Arial"/>
              </a:rPr>
              <a:t>P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xterna e In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al é o sentido da </a:t>
            </a:r>
            <a:r>
              <a:rPr b="0" i="1" lang="pt-BR" sz="2800" spc="-1" strike="noStrike">
                <a:solidFill>
                  <a:srgbClr val="0066ff"/>
                </a:solidFill>
                <a:latin typeface="Arial"/>
              </a:rPr>
              <a:t>vid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br>
              <a:rPr sz="2800"/>
            </a:b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   Qual é a nossa </a:t>
            </a:r>
            <a:r>
              <a:rPr b="0" i="1" lang="pt-BR" sz="2800" spc="-1" strike="noStrike">
                <a:solidFill>
                  <a:srgbClr val="3333ff"/>
                </a:solidFill>
                <a:latin typeface="Arial"/>
              </a:rPr>
              <a:t>missão comum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o mais importante na vida é a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Qualidade das Relaçõe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que estabelecemos com nossa consciência e com os seres vivos e objetos com os quais interagi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ma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para nós atingirmos a </a:t>
            </a:r>
            <a:r>
              <a:rPr b="1" i="1" lang="pt-BR" sz="2400" spc="-1" strike="noStrike">
                <a:solidFill>
                  <a:srgbClr val="3333ff"/>
                </a:solidFill>
                <a:latin typeface="Times New Roman"/>
              </a:rPr>
              <a:t>sustentabilidade, a efetividade e a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pt-BR" sz="2400" spc="-1" strike="noStrike">
                <a:solidFill>
                  <a:srgbClr val="0066ff"/>
                </a:solidFill>
                <a:latin typeface="Times New Roman"/>
              </a:rPr>
              <a:t>Paz, interna e externa,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é necessário que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percebamo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i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odrigo (rsmoraes@mp.rs.gov.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quivos: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rodrigoschoeller.blogsp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Você vai encontrar a versão estendida nos próximos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rofundando um pouco mais a reflexão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S: Os próximos gráficos explicitarão de uma forma mais detalhada a metodologia de Planejamento e de Gestão Sistêmicos através da Metodologi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BSC (usando, de forma circular, um mapa estratégic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emais, demonstrarão a sintonia do que foi antes articulado com os seguintes gráficos: ciclo dos extremos, ciclo do equilíbirio/harmonia e implicações biopsicossocia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es explicações e outros arquivos no endereço eletrônico www.fmp.com.br/2008/img/gestao_conteudos/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 Fundação Escola Superior do Ministério Público (F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44600" y="152280"/>
            <a:ext cx="8472240" cy="60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Objetivo do Gráfico Planejamento e Gestão Sistêmicos é fomentar a adoção de metodologia que possibilite serem alcançadas a efetividade, a sustentabilidade e a Paz, interna e externa. Levando em consideração que as causas do crescente desrespeito à natureza e à dignidade humana (própria e dos demais), são sistêmicas, ou seja, decorrem de relações interdependentes e interrelacionadas entre diversos componentes d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abita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reconiza-se a adoção da metodologia de Planejamento e de Gestão Sistêmicos,  que possibilita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a partir do(s) foco(s) prioritário(s) escolhido(s) (como, por exemplo, o planejamento familiar, 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crac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gripe H1N1, um alagamento, a construção de uma estrada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etc.) e relevando o contexto familiar, a visão e a integração d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ursos multidisciplinares, intersetoriais e transdisciplinares. Assim, pode-se estabelecer o que fazer, como, quem, onde e quando/porque, bem como de que forma mapear e integralizar todos esses componentes.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Para isso, é importante que seja percebida a missão comum, a ser concretizada com o atendimento integral das necessidade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siológicas, psicológicas - segurança, pertencimento e autoestima - e de autorrealizaçã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(diferentemente de desejos), gerando impactos proporcionais nos três eixos da sustentabilidade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conômico, social – saúde, educação, cidadania e segurança – e ambiental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바탕"/>
              </a:rPr>
              <a:t> e através da cooperação.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se modo, são produzidos efeitos públicos, agregando valor sustentável às atividades desenvolvi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20" y="228600"/>
            <a:ext cx="8611920" cy="60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sa missão comum, vislumbrada como efeitos públicos, exige e favorece a formação de redes de cooperação para a atuação sistêmica, priorizando a família e permitindo a integração dos três setores (público, privado e sociedade civil organizada) e dos indivíduos da comunidade em geral. Esse contexto, favorece a democracia, participativa e representativa, propiciando o Desenvolvimento Harmônico e Sustentável (DHS) e a sobrevivência de todos os seres vivos. Contudo, para que isso possa ser consolidado, o planejamento e a gestão deverão produzir o pensamento sistêmico, contemplando o mapeamento das necessidades, possibilidades e atividades relacionadas ao(s) foco(s) prioritário(s), com o que se poderá atuar de forma sistêmica. Desse modo, possibilita-se a inclusão  das pessoas principalmente naquelas ações nas quais se sentem entusiasmadas, fazem a diferença (‘slice of heart’) na sociedade, sendo, por isso, lembradas, reconhecidas e valorizadas. Assim, os membros da sociedade constatarão que são úteis no contexto maior, o que aumenta a motivação na busca de aperfeiçoamento, gerando sustentabilidade no ambiente interno e externo. Isso propicia a conscientização da corresponsabilidade e a compreensão do binômio dever-direito, despertando a noção de contexto e afastando práticas imediatistas baseadas exclusivamente na punição ou vitimização. Desenvolve, dessa maneira, o perceber e agir (valores) de forma sistê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533520"/>
            <a:ext cx="87631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termos mais amplos, esse contexto permite o acesso a recursos aptos a implementar ações (voluntariado, CAIXA, BNDES - Redes Sociais, etc.), bem como garante o cumprimento de diversos Tratados, Convenções, Pactos e Planos de Ações das várias Conferências das Nações Unidas (Agend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abita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Municípios, Convenção Sobre os Direitos da Criança, Plano de Ação da Conferência Mundial de População e Desenvolvimento, etc.). Ademais, como a metodologia de Planejamento e de Gestão Sistêmicos embasa-se em metodologias de gestão reconhecidas internacionalmente e utiliza ferramentas e sistemas de avaliação, pode-se elaborar indicadores de desenvolvimento sistêmico e, até mesmo,  um Índice de Desenvolvimento Harmônico e Sustentável (IDHS), transparentes e, portanto, confiáveis. Desse modo, diminui o risco dos investimentos efetivados, o que atrai novos recursos nacionais e internacion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sim, desenvolve-se um ciclo de efeitos públicos, ambiente no qual são alcançadas a efetividade e a sustentabilidade. Na verdade, a Paz, interna e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04920" y="304920"/>
          <a:ext cx="853416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tshållare för datum 3"/>
          <p:cNvSpPr/>
          <p:nvPr/>
        </p:nvSpPr>
        <p:spPr>
          <a:xfrm>
            <a:off x="4643280" y="88920"/>
            <a:ext cx="40770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: Regionplane-och trafikkontoret – Martin Ängeby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tshållare för bildnummer 5"/>
          <p:cNvSpPr/>
          <p:nvPr/>
        </p:nvSpPr>
        <p:spPr>
          <a:xfrm>
            <a:off x="6705720" y="303120"/>
            <a:ext cx="21589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hart001"/>
          <p:cNvPicPr/>
          <p:nvPr/>
        </p:nvPicPr>
        <p:blipFill>
          <a:blip r:embed="rId1"/>
          <a:stretch/>
        </p:blipFill>
        <p:spPr>
          <a:xfrm>
            <a:off x="5126040" y="3789360"/>
            <a:ext cx="2149560" cy="3068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400" spc="-1" strike="noStrike">
                <a:solidFill>
                  <a:srgbClr val="000000"/>
                </a:solidFill>
                <a:latin typeface="Arial"/>
              </a:rPr>
              <a:t>Från problem till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kretsloppet"/>
          <p:cNvPicPr/>
          <p:nvPr/>
        </p:nvPicPr>
        <p:blipFill>
          <a:blip r:embed="rId2"/>
          <a:stretch/>
        </p:blipFill>
        <p:spPr>
          <a:xfrm>
            <a:off x="179280" y="3936960"/>
            <a:ext cx="4321440" cy="292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kretslopp"/>
          <p:cNvPicPr/>
          <p:nvPr/>
        </p:nvPicPr>
        <p:blipFill>
          <a:blip r:embed="rId3"/>
          <a:stretch/>
        </p:blipFill>
        <p:spPr>
          <a:xfrm>
            <a:off x="0" y="1916280"/>
            <a:ext cx="2343240" cy="2162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MCj00831850000[1]"/>
          <p:cNvPicPr/>
          <p:nvPr/>
        </p:nvPicPr>
        <p:blipFill>
          <a:blip r:embed="rId4"/>
          <a:stretch/>
        </p:blipFill>
        <p:spPr>
          <a:xfrm>
            <a:off x="3708360" y="2205000"/>
            <a:ext cx="1819440" cy="180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MPj04009480000[1]"/>
          <p:cNvPicPr/>
          <p:nvPr/>
        </p:nvPicPr>
        <p:blipFill>
          <a:blip r:embed="rId5"/>
          <a:stretch/>
        </p:blipFill>
        <p:spPr>
          <a:xfrm>
            <a:off x="6659640" y="1413000"/>
            <a:ext cx="172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533520" y="380880"/>
          <a:ext cx="8143920" cy="56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14392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2"/>
          <p:cNvGraphicFramePr/>
          <p:nvPr/>
        </p:nvGraphicFramePr>
        <p:xfrm>
          <a:off x="295200" y="952560"/>
          <a:ext cx="8372520" cy="43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952560"/>
                    <a:ext cx="837252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Object 2"/>
          <p:cNvGraphicFramePr/>
          <p:nvPr/>
        </p:nvGraphicFramePr>
        <p:xfrm>
          <a:off x="152280" y="723960"/>
          <a:ext cx="899172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23960"/>
                    <a:ext cx="89917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80880" y="2362320"/>
          <a:ext cx="838368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3836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457200" y="457200"/>
          <a:ext cx="792468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7924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533520" y="380880"/>
          <a:ext cx="8143920" cy="56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14392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Rectangle 3"/>
          <p:cNvGraphicFramePr/>
          <p:nvPr/>
        </p:nvGraphicFramePr>
        <p:xfrm>
          <a:off x="458640" y="1454040"/>
          <a:ext cx="8110800" cy="80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454040"/>
                    <a:ext cx="8110800" cy="80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Rectangle 3"/>
          <p:cNvGraphicFramePr/>
          <p:nvPr/>
        </p:nvGraphicFramePr>
        <p:xfrm>
          <a:off x="458640" y="1447920"/>
          <a:ext cx="8196480" cy="80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447920"/>
                    <a:ext cx="8196480" cy="80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MO DOS GRÁFICOS QUE SERÃO APRES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Rectangle 3"/>
          <p:cNvGraphicFramePr/>
          <p:nvPr/>
        </p:nvGraphicFramePr>
        <p:xfrm>
          <a:off x="409680" y="1473120"/>
          <a:ext cx="8248680" cy="80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473120"/>
                    <a:ext cx="8248680" cy="80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MO GERAL DOS 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Rectangle 3"/>
          <p:cNvGraphicFramePr/>
          <p:nvPr/>
        </p:nvGraphicFramePr>
        <p:xfrm>
          <a:off x="485640" y="1824120"/>
          <a:ext cx="8077320" cy="83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824120"/>
                    <a:ext cx="8077320" cy="83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ic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rio Eletrônico Luf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eira definição de sis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1. Conjunto de elementos inter-relacionados em vista de uma </a:t>
            </a:r>
            <a:r>
              <a:rPr b="0" lang="pt-BR" sz="3600" spc="-1" strike="noStrike" u="sng">
                <a:solidFill>
                  <a:srgbClr val="3333ff"/>
                </a:solidFill>
                <a:uFillTx/>
                <a:latin typeface="Arial"/>
              </a:rPr>
              <a:t>finalida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0" y="0"/>
          <a:ext cx="913140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3140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04920" y="0"/>
          <a:ext cx="8191440" cy="65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191440" cy="65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0" y="228600"/>
          <a:ext cx="90043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0043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Object 0"/>
          <p:cNvGraphicFramePr/>
          <p:nvPr/>
        </p:nvGraphicFramePr>
        <p:xfrm>
          <a:off x="152280" y="152280"/>
          <a:ext cx="89917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9917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Object 2"/>
          <p:cNvGraphicFramePr/>
          <p:nvPr/>
        </p:nvGraphicFramePr>
        <p:xfrm>
          <a:off x="228600" y="152280"/>
          <a:ext cx="8763120" cy="647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87631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152280" y="257040"/>
          <a:ext cx="8667720" cy="646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7040"/>
                    <a:ext cx="8667720" cy="646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2297160" y="1727280"/>
          <a:ext cx="4549680" cy="3403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27280"/>
                    <a:ext cx="454968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3"/>
          <p:cNvGraphicFramePr/>
          <p:nvPr/>
        </p:nvGraphicFramePr>
        <p:xfrm>
          <a:off x="1219320" y="380880"/>
          <a:ext cx="6476760" cy="6172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80880"/>
                    <a:ext cx="6476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839880" y="150840"/>
          <a:ext cx="7556400" cy="64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50840"/>
                    <a:ext cx="7556400" cy="64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04920" y="0"/>
          <a:ext cx="8191440" cy="65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191440" cy="65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374760"/>
            <a:ext cx="777240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r que és o que és,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    sentes o que sentes,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    buscas o que buscas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2438280"/>
            <a:ext cx="8153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Qual a contribuição da família no      traçado deste s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drigo Schoeller de Mora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moraes@mp.rs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quivos: www.fmp.com.br/2008/img/gestao_conteudos/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914040"/>
            <a:ext cx="829152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uscamos a </a:t>
            </a: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convivência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miliar e comunitári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o </a:t>
            </a:r>
            <a:r>
              <a:rPr b="0" lang="pt-BR" sz="2800" spc="-1" strike="noStrike">
                <a:solidFill>
                  <a:srgbClr val="3333ff"/>
                </a:solidFill>
                <a:latin typeface="Arial"/>
              </a:rPr>
              <a:t>Sistem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Justiça pode contribuir para atingir isso?</a:t>
            </a: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860640"/>
            <a:ext cx="80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reditamos que o Sistema de Justiça pode fomentar a implementação do Planejamento e Gestão </a:t>
            </a:r>
            <a:r>
              <a:rPr b="0" lang="pt-BR" sz="3200" spc="-1" strike="noStrike">
                <a:solidFill>
                  <a:srgbClr val="3333ff"/>
                </a:solidFill>
                <a:latin typeface="Arial"/>
              </a:rPr>
              <a:t>Sistê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304920" y="514440"/>
          <a:ext cx="8524800" cy="57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14440"/>
                    <a:ext cx="85248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Object 0"/>
          <p:cNvGraphicFramePr/>
          <p:nvPr/>
        </p:nvGraphicFramePr>
        <p:xfrm>
          <a:off x="0" y="304920"/>
          <a:ext cx="8677440" cy="60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8677440" cy="60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0" y="668160"/>
          <a:ext cx="9144000" cy="552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8160"/>
                    <a:ext cx="9144000" cy="55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Object 2"/>
          <p:cNvGraphicFramePr/>
          <p:nvPr/>
        </p:nvGraphicFramePr>
        <p:xfrm>
          <a:off x="228600" y="685800"/>
          <a:ext cx="8572680" cy="50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57268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Object 0"/>
          <p:cNvGraphicFramePr/>
          <p:nvPr/>
        </p:nvGraphicFramePr>
        <p:xfrm>
          <a:off x="0" y="609480"/>
          <a:ext cx="8915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Object 0"/>
          <p:cNvGraphicFramePr/>
          <p:nvPr/>
        </p:nvGraphicFramePr>
        <p:xfrm>
          <a:off x="152280" y="622440"/>
          <a:ext cx="8750520" cy="55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22440"/>
                    <a:ext cx="87505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Object 0"/>
          <p:cNvGraphicFramePr/>
          <p:nvPr/>
        </p:nvGraphicFramePr>
        <p:xfrm>
          <a:off x="152280" y="495360"/>
          <a:ext cx="8686800" cy="57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95360"/>
                    <a:ext cx="86868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0"/>
          <p:cNvGraphicFramePr/>
          <p:nvPr/>
        </p:nvGraphicFramePr>
        <p:xfrm>
          <a:off x="152280" y="457200"/>
          <a:ext cx="8763120" cy="58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8763120" cy="58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52280" y="533520"/>
          <a:ext cx="86108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8610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al é o sentido da </a:t>
            </a:r>
            <a:r>
              <a:rPr b="0" i="1" lang="pt-BR" sz="2800" spc="-1" strike="noStrike">
                <a:solidFill>
                  <a:srgbClr val="0066ff"/>
                </a:solidFill>
                <a:latin typeface="Arial"/>
              </a:rPr>
              <a:t>vid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br>
              <a:rPr sz="2800"/>
            </a:b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   Qual é a nossa </a:t>
            </a:r>
            <a:r>
              <a:rPr b="0" i="1" lang="pt-BR" sz="2800" spc="-1" strike="noStrike">
                <a:solidFill>
                  <a:srgbClr val="3333ff"/>
                </a:solidFill>
                <a:latin typeface="Arial"/>
              </a:rPr>
              <a:t>missão comum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o mais importante na vida é a </a:t>
            </a:r>
            <a:r>
              <a:rPr b="1" i="1" lang="pt-BR" sz="2400" spc="-1" strike="noStrike" u="sng">
                <a:solidFill>
                  <a:srgbClr val="0066ff"/>
                </a:solidFill>
                <a:uFillTx/>
                <a:latin typeface="Times New Roman"/>
              </a:rPr>
              <a:t>Qualidade das Relaçõe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que estabelecemos com nossa consciência e com os seres vivos e objetos com os quais interagi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ma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ece que para nós atingirmos a </a:t>
            </a:r>
            <a:r>
              <a:rPr b="1" i="1" lang="pt-BR" sz="2400" spc="-1" strike="noStrike">
                <a:solidFill>
                  <a:srgbClr val="3333ff"/>
                </a:solidFill>
                <a:latin typeface="Times New Roman"/>
              </a:rPr>
              <a:t>sustentabilidade, a efetividade e a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pt-BR" sz="2400" spc="-1" strike="noStrike">
                <a:solidFill>
                  <a:srgbClr val="0066ff"/>
                </a:solidFill>
                <a:latin typeface="Times New Roman"/>
              </a:rPr>
              <a:t>Paz, interna e externa,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é necessário que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 percebamos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i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odrigo (rsmoraes@mp.rs.gov.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quivos: www.fmp.com.br/2008/img/gestao_conteudos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EJAMENTO E GESTÃO SISTÊMICOS</a:t>
            </a:r>
            <a:br>
              <a:rPr sz="4000"/>
            </a:br>
            <a:br>
              <a:rPr sz="40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s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Sustentabilidade/Efetividade</a:t>
            </a:r>
            <a:br>
              <a:rPr sz="2800"/>
            </a:b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Paz – interna e externa</a:t>
            </a:r>
            <a:br>
              <a:rPr sz="3200"/>
            </a:b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(que são necessários para convivên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tua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nas Causas e nas Conseqü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578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Mais especificame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Quais são os fatores que dificultam a </a:t>
            </a:r>
            <a:r>
              <a:rPr b="1" lang="pt-BR" sz="3600" spc="-1" strike="noStrike">
                <a:solidFill>
                  <a:srgbClr val="3333ff"/>
                </a:solidFill>
                <a:latin typeface="Arial"/>
              </a:rPr>
              <a:t>convivência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familiar e comunitár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De forma mais abrange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Quais s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as verdadeiras causas do crescente desrespei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à natureza e a dignidade human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rópria e dos demai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4:09:32Z</dcterms:created>
  <dc:creator>Rodrigo Schoeller de Moraes</dc:creator>
  <dc:description/>
  <dc:language>en-US</dc:language>
  <cp:lastModifiedBy>xpadmin</cp:lastModifiedBy>
  <cp:lastPrinted>2010-02-18T11:07:24Z</cp:lastPrinted>
  <dcterms:modified xsi:type="dcterms:W3CDTF">2011-06-24T14:45:59Z</dcterms:modified>
  <cp:revision>357</cp:revision>
  <dc:subject/>
  <dc:title>Slide 1</dc:title>
</cp:coreProperties>
</file>