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38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10.wmf" ContentType="image/x-wmf"/>
  <Override PartName="/ppt/media/image30.wmf" ContentType="image/x-wmf"/>
  <Override PartName="/ppt/media/image28.wmf" ContentType="image/x-wmf"/>
  <Override PartName="/ppt/media/image3.png" ContentType="image/png"/>
  <Override PartName="/ppt/media/image3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3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wmf" ContentType="image/x-wmf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00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0920" cy="36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1080"/>
            <a:ext cx="542628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00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C12B65-29B6-4888-A53A-AD5738680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43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800" bIns="46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5160"/>
                <a:tab algn="l" pos="9172440"/>
                <a:tab algn="l" pos="10090080"/>
                <a:tab algn="l" pos="10333080"/>
                <a:tab algn="l" pos="10782360"/>
              </a:tabLst>
            </a:pPr>
            <a:fld id="{BCB4D676-8505-4159-9AC5-0862C73165FA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800" bIns="46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5160"/>
                <a:tab algn="l" pos="9172440"/>
                <a:tab algn="l" pos="10090080"/>
                <a:tab algn="l" pos="10333080"/>
                <a:tab algn="l" pos="10782360"/>
              </a:tabLst>
            </a:pPr>
            <a:fld id="{2D82D87B-C232-4D84-B62F-C750E8E6D860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88920" y="738360"/>
            <a:ext cx="481032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6600" y="9364680"/>
            <a:ext cx="2938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6BC97-907F-4CC9-84CD-D4E7B0FB94F7}" type="slidenum">
              <a:rPr b="0" lang="sv-S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B4E-C0AA-4A66-BE69-B22F9271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B56-0D77-41D8-87EA-080E0096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439-E644-4418-AE8F-4C7A2D12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BAF-3681-4C56-A90D-48C587DC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8EE-5C30-41C6-9955-C3E7648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F85-36F7-4B4D-9222-6661947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EA5-E8C1-4D8B-872F-882C04A7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A3F-B617-4CDB-8143-F8B3B5C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3A8-7FF4-434B-BC3A-AB21FE6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92F-3891-456D-AF4B-705B28B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3C6-AF8D-4ADC-8FE9-E751FF9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DDB-4590-4D64-8D2B-FC8F56F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279-CF3A-4EB4-AD6D-1498F249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981000"/>
            <a:ext cx="90676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istema 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e Justiça na exigibilidade do direito à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Convivência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Familiar e Comunitá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vos: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odrigoschoeller.blogspot.com</a:t>
            </a:r>
            <a:br>
              <a:rPr sz="2400"/>
            </a:b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Z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5876640"/>
            <a:ext cx="72327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Zero Hora  - 31 de mai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to da Capa: Daniel Mare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500 mil brasilei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participaram da pesquisa Brasil Ponto a Ponto, realizada pelo Programa das Nações Unidas para o Desenvolvimento (PNUD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ponderam a pergunta: “O que deve mudar no Brasil para sua vida melhorar de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5229000"/>
            <a:ext cx="8001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aior parte deles apontou o tem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valores de vid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ão valores de v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2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For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erce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mun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artir d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3640" y="304560"/>
            <a:ext cx="866772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Percep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vés dos cinco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senti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* Visão       * Audição       * Olfato         * Tato         * Pal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05000"/>
            <a:ext cx="818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Gosto   -    Não g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“Ser”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ca condicionado a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ro  -    Não qu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- sen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14800"/>
            <a:ext cx="5486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   Pode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o/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fastar        - Não gosto/ Não 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50198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Tenh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- Não t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Economia – veíc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Visão Cartesian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socia/Se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 Espírito - Ciênc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rp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Sujeito - 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Meu - T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9880" y="2862360"/>
            <a:ext cx="4840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= Ciclo dos </a:t>
            </a: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Ext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timiza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ensamento Linea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Dire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735440"/>
            <a:ext cx="875808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Individualism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icion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Ofuscam a percepção de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lterar a visão cartesiana e o pensamento linea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Para romper condicionament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 como deve ser feit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820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 - condi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Des - envol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50920" y="40053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Desenvol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Pensamento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Sistêmic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Perceb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sistema como um tod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rel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/// as interconex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227640" y="1779480"/>
            <a:ext cx="291636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amíli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Acolh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 rot="19463400">
            <a:off x="7164000" y="2655360"/>
            <a:ext cx="1955880" cy="595440"/>
          </a:xfrm>
          <a:custGeom>
            <a:avLst/>
            <a:gdLst>
              <a:gd name="textAreaLeft" fmla="*/ 342000 w 1955880"/>
              <a:gd name="textAreaRight" fmla="*/ 1418040 w 19558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0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2666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a Prática -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Atividade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Gerais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partir 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foco priori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514600"/>
            <a:ext cx="27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96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e forma sistê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14000"/>
            <a:ext cx="812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Necess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fisiológicas, psicológicas e que permitam a autorrealização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Possibil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Ativ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s três setores e dos indivíduos da comunidade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nco de Dad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28600" y="911880"/>
            <a:ext cx="86868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)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) Modelos – Projetos 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) Repl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fóruns, seminários, jornadas, internet, workshop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914040"/>
            <a:ext cx="82915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abilidades e Intersetorialidad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que é garantir a proteção integral?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357720"/>
            <a:ext cx="804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ma abordagem  sob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à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uz dos fluxos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sistêmic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e as Políticas Públic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3100" spc="-1" strike="noStrike">
                <a:solidFill>
                  <a:srgbClr val="3333ff"/>
                </a:solidFill>
                <a:latin typeface="Arial"/>
              </a:rPr>
              <a:t>Programa Rede Família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 Foco: crianças e adolescentes </a:t>
            </a:r>
            <a:r>
              <a:rPr b="1" lang="pt-BR" sz="3100" spc="-1" strike="noStrike">
                <a:solidFill>
                  <a:srgbClr val="ff3300"/>
                </a:solidFill>
                <a:latin typeface="Arial"/>
              </a:rPr>
              <a:t>institucionalizados e suas famíli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Via processos judiciais - Rede de Abrig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8000"/>
          </a:blip>
          <a:srcRect l="0" t="0" r="0" b="19124"/>
          <a:stretch/>
        </p:blipFill>
        <p:spPr>
          <a:xfrm>
            <a:off x="762120" y="3452760"/>
            <a:ext cx="8229600" cy="271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2520" y="606096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A rede local e ampliada - mapa do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companhamento, orientação, educação e apoio sócio-famili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contexto loc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s famílias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agentes comunitários por parte do Rede Família e o CEP-RUA - estabelecidas parcerias com os Conselheiros Tutelares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Re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Acolhimento Institucional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ácia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minuição do tempo de perman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crianças e adolescentes em acolhimento institucional (apesar da expansão portuá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Eficiência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tim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s recursos (menos papel - mais rel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tividade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tuar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es de co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ff"/>
                </a:solidFill>
                <a:uFillTx/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prevenção, reinserção social e redução da oferta/repressão às </a:t>
            </a:r>
            <a:br>
              <a:rPr sz="3200"/>
            </a:b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Drogas </a:t>
            </a:r>
            <a:r>
              <a:rPr b="0" lang="pt-BR" sz="3200" spc="-1" strike="noStrike">
                <a:solidFill>
                  <a:srgbClr val="ff33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pt-BR" sz="3200" spc="-1" strike="noStrike">
                <a:solidFill>
                  <a:srgbClr val="ff3300"/>
                </a:solidFill>
                <a:latin typeface="Arial"/>
              </a:rPr>
              <a:t> crack</a:t>
            </a:r>
            <a:br>
              <a:rPr sz="3200"/>
            </a:b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crack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 destrói a convivência familiar e comunitá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M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formações colhidas em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uniões e da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fornecidos pelos parcei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Elaboração 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enári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foco nos Bairros Castelo Branco I e II;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Análise 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o Sistema de Informação da Atenção Básica (SIA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Em Rio Gran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evenção, reinserção social e redução da oferta/repressão às Drogas </a:t>
            </a:r>
            <a:r>
              <a:rPr b="0" lang="pt-BR" sz="2400" spc="-1" strike="noStrike">
                <a:solidFill>
                  <a:srgbClr val="0000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c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ternet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rupo Virtu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azendo Frente ao Cr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PV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Programa de Prevenção à Viol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Grupo de Trabalho Drogadição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itê de Gestão Soc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Sistema de referência e contrar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ndara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733920"/>
            <a:ext cx="8866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Resultado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minário - Política Municipal sobre Drogas do Rio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umento do atendi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usuários de crack através do ambulatório de saúde mental, do CENPRE e das comunidades terapêut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mento da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isõ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or tráf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Apresentação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roje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ndar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685800"/>
          <a:ext cx="7162920" cy="57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16292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04920" y="117360"/>
            <a:ext cx="85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2280" y="41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Saú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- Otimização da Rede de Fornecimento de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Medicamento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1 Instituições Particip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2 Materiais sobre o 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2 – Critérios para judici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foco na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Saú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Otimização da Rede de Fornecimento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edic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 – RESULTADO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(EXEMPL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.1 –</a:t>
            </a: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Arial"/>
              </a:rPr>
              <a:t>Em Rio Grande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rganização da rede de atenção à saúde, com foco nos medic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ção das 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seriam ajuizadas pelo Ministério Público e pela Defensoria Pública se não fosse implementada a metodologia;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ndara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895480"/>
            <a:ext cx="89424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.2 -</a:t>
            </a: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Arial"/>
              </a:rPr>
              <a:t>No Estado do RGS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aliz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uni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nsais do Grupo de Planejamento e de Gestão Sistêmicos e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todas as instituições para discutir a questão dos medic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rganização e elabor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subsidiar os envolvidos no tema (formulário unificado de justificativa médica, portarias, pesquisa junto aos municípios, fluxograma de fornecimento de medicamentos, sugestões, artigos para revistas, livro, DVD´s, cartilhas, educação à distância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assinatura de 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termo de coope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o Ministério Público, o Tribunal de Justiça, a Defensoria Pública, a Secretaria de Estado da Saúde, a Procuradoria Regional da União, a Procuradoria-Geral do Estado, a Federação das Associações de Municípios e o Conselho Regional de Medici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repl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todologia de Planejamento e de Gestão Sistêmic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ndar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324480" y="1779480"/>
            <a:ext cx="228600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6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6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.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ck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camentos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5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0880"/>
            <a:ext cx="266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rt. 127 da Constituição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Ministério Públic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é instituição permanente, essencial à função jurisdicional do Est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cumbindo-lhe a defesa da ordem jurídica, do regime democr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dos interesses sociais e individuais indisponíveis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 qu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sistem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22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5486400"/>
            <a:ext cx="8229240" cy="1142280"/>
            <a:chOff x="533520" y="5486400"/>
            <a:chExt cx="8229240" cy="1142280"/>
          </a:xfrm>
        </p:grpSpPr>
        <p:sp>
          <p:nvSpPr>
            <p:cNvPr id="160" name=""/>
            <p:cNvSpPr/>
            <p:nvPr/>
          </p:nvSpPr>
          <p:spPr>
            <a:xfrm>
              <a:off x="6674760" y="5486400"/>
              <a:ext cx="208764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pt-BR" sz="2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Pa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a e ex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3680" y="5486400"/>
              <a:ext cx="405108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fetividade dos </a:t>
              </a:r>
              <a:r>
                <a:rPr b="1" lang="pt-BR" sz="2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Direitos Humanos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 do Sistema como um </a:t>
              </a:r>
              <a:r>
                <a:rPr b="1" lang="pt-BR" sz="1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todo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implementação da </a:t>
              </a:r>
              <a:r>
                <a:rPr b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genda </a:t>
              </a:r>
              <a:r>
                <a:rPr b="1" i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Habitat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5486400"/>
              <a:ext cx="209016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ã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+2+3+4 = </a:t>
              </a: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D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            </a:t>
              </a:r>
              <a:r>
                <a:rPr b="1" lang="pt-BR" sz="2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520" y="548640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520" y="662868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62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368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4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228600" y="228600"/>
          <a:ext cx="87631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324480" y="1779480"/>
            <a:ext cx="228600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6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6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. </a:t>
            </a:r>
            <a:r>
              <a:rPr b="1" lang="en-US" sz="1400" spc="-1" strike="noStrike">
                <a:solidFill>
                  <a:srgbClr val="3333ff"/>
                </a:solidFill>
                <a:latin typeface="Verdana"/>
              </a:rPr>
              <a:t>Crack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camentos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87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08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"/>
              </a:rPr>
              <a:t>Educere-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du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Arial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rodrigoschoeller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ocê vai encontrar a versão estendida nos próximos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ofundando um pouco mais a reflexão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: Os próximos gráficos explicitarão de uma forma mais detalhada a metodologia de Planejamento e de Gestão Sistêmicos através da Metodologi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BSC (usando, de forma circular, um mapa estratégic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mais, demonstrarão a sintonia do que foi antes articulado com os seguintes gráficos: ciclo dos extremos, ciclo do equilíbirio/harmonia e implicações biopsicossoci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es explicações e outros arquivos no endereço eletrônico www.fmp.com.br/2008/img/gestao_conteudos/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 Fundação Escola Superior do Ministério Público (F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44600" y="152280"/>
            <a:ext cx="84722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 é fomentar a adoção de metodologia que possibilite serem alcançadas a efetividade, a sustentabilidade e a Paz, interna e externa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a adoção da metodologia de Planejamento e de Gestão Sistêmicos,  que possibilit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a partir do(s) foco(s) prioritário(s) escolhido(s) (como, por exemplo, o planejamento familiar,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crac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gripe H1N1, um alagamento, a construção de uma estrad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etc.) e relevando o contexto familiar, a visão e a integração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multidisciplinares, intersetoriais e transdisciplinares. Assim, pode-se estabelecer o que fazer, como, quem, onde e quando/porque, bem como de que forma mapear e integralizar todos esses component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Para isso, é importante que seja percebida a missão comum, a ser concretizada com o atendimento integral das necess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siológicas, psicológicas - segurança, pertencimento e autoestima - e de autorrealiz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(diferentemente de desejos), gerando impactos proporcionais nos três eixos da sustentabilidade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ômico, social – saúde, educação, cidadania e segurança – e ambiental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 e através da cooperação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se modo, são produzidos efeitos públicos, agregando valor sustentável às atividades desenvolv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228600"/>
            <a:ext cx="86119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missão comum, vislumbrada como efeitos públicos, exige e favorece a formação de redes de cooperação para a atuação sistêmica, priorizando a família e permitindo a integração dos três setores (público, privado e sociedade civil organizada) e dos indivíduos da comunidade em geral. Esse contexto, favorece a democracia, participativa e representativa, propiciando o Desenvolvimento Harmônico e Sustentável (DHS) e a sobrevivência de todos os seres vivos. Contudo, para que isso possa ser consolidado, o planejamento e a gestão deverão produzir o pensamento sistêmico, contemplando o mapeamento das necessidades, possibilidades e atividades relacionadas ao(s) foco(s) prioritário(s)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rresponsabilidade e a compreensão do binômio dever-direito, despertando a noção de contexto e afastando práticas imediatistas baseadas exclusivamente na punição ou vitimização. Desenvolve, dessa maneira, o perceber e agir (valores) de forma sistê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533520"/>
            <a:ext cx="8763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CAIXA, BNDES - Redes Sociais, etc.), bem como garante o cumprimento de diversos Tratados, Convenções, Pactos e Planos de Ações das várias Conferências das Nações Unidas (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Municípios, Convenção Sobre os Direitos da Criança, Plano de Ação da Conferência Mundial de População e Desenvolvimento, etc.). Ademais, como a metodologia de Planejamento e de Gestão Sistêmicos embasa-se em metodologias de gestão reconhecidas internacionalmente e utiliza ferramentas e sistemas de avaliação, pode-se elaborar indicadores de desenvolvimento sistêmico e, até mesmo,  um Índice de Desenvolvimento Harmônico e Sustentável (IDHS), transparentes e, portanto, confiáveis. Desse modo, diminui o risco dos investimentos efetivados, o que atrai novos recursos nacionais e intern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são alcançadas a efetividade e a sustentabilidade. Na verdade, a Paz, interna e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tshållare för datum 3"/>
          <p:cNvSpPr/>
          <p:nvPr/>
        </p:nvSpPr>
        <p:spPr>
          <a:xfrm>
            <a:off x="4643280" y="88920"/>
            <a:ext cx="4077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Regionplane-och trafikkontoret – Martin Ängeby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tshållare för bildnummer 5"/>
          <p:cNvSpPr/>
          <p:nvPr/>
        </p:nvSpPr>
        <p:spPr>
          <a:xfrm>
            <a:off x="6705720" y="303120"/>
            <a:ext cx="215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hart001"/>
          <p:cNvPicPr/>
          <p:nvPr/>
        </p:nvPicPr>
        <p:blipFill>
          <a:blip r:embed="rId1"/>
          <a:stretch/>
        </p:blipFill>
        <p:spPr>
          <a:xfrm>
            <a:off x="5126040" y="3789360"/>
            <a:ext cx="2149560" cy="3068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000000"/>
                </a:solidFill>
                <a:latin typeface="Arial"/>
              </a:rPr>
              <a:t>Från problem till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kretsloppet"/>
          <p:cNvPicPr/>
          <p:nvPr/>
        </p:nvPicPr>
        <p:blipFill>
          <a:blip r:embed="rId2"/>
          <a:stretch/>
        </p:blipFill>
        <p:spPr>
          <a:xfrm>
            <a:off x="179280" y="3936960"/>
            <a:ext cx="4321440" cy="29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kretslopp"/>
          <p:cNvPicPr/>
          <p:nvPr/>
        </p:nvPicPr>
        <p:blipFill>
          <a:blip r:embed="rId3"/>
          <a:stretch/>
        </p:blipFill>
        <p:spPr>
          <a:xfrm>
            <a:off x="0" y="1916280"/>
            <a:ext cx="2343240" cy="216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j00831850000[1]"/>
          <p:cNvPicPr/>
          <p:nvPr/>
        </p:nvPicPr>
        <p:blipFill>
          <a:blip r:embed="rId4"/>
          <a:stretch/>
        </p:blipFill>
        <p:spPr>
          <a:xfrm>
            <a:off x="3708360" y="2205000"/>
            <a:ext cx="1819440" cy="18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j04009480000[1]"/>
          <p:cNvPicPr/>
          <p:nvPr/>
        </p:nvPicPr>
        <p:blipFill>
          <a:blip r:embed="rId5"/>
          <a:stretch/>
        </p:blipFill>
        <p:spPr>
          <a:xfrm>
            <a:off x="6659640" y="1413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295200" y="952560"/>
          <a:ext cx="8372520" cy="43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952560"/>
                    <a:ext cx="83725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2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80880" y="2362320"/>
          <a:ext cx="83836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836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457200"/>
          <a:ext cx="7924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924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Rectangle 3"/>
          <p:cNvGraphicFramePr/>
          <p:nvPr/>
        </p:nvGraphicFramePr>
        <p:xfrm>
          <a:off x="458640" y="1454040"/>
          <a:ext cx="8110800" cy="80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54040"/>
                    <a:ext cx="8110800" cy="80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Rectangle 3"/>
          <p:cNvGraphicFramePr/>
          <p:nvPr/>
        </p:nvGraphicFramePr>
        <p:xfrm>
          <a:off x="458640" y="1447920"/>
          <a:ext cx="8196480" cy="80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47920"/>
                    <a:ext cx="8196480" cy="80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Rectangle 3"/>
          <p:cNvGraphicFramePr/>
          <p:nvPr/>
        </p:nvGraphicFramePr>
        <p:xfrm>
          <a:off x="409680" y="1473120"/>
          <a:ext cx="8248680" cy="80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73120"/>
                    <a:ext cx="8248680" cy="80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GERAL DOS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Rectangle 3"/>
          <p:cNvGraphicFramePr/>
          <p:nvPr/>
        </p:nvGraphicFramePr>
        <p:xfrm>
          <a:off x="485640" y="1824120"/>
          <a:ext cx="8077320" cy="83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824120"/>
                    <a:ext cx="8077320" cy="83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c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rio Eletrônico Luf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eira definição de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. Conjunto de elementos inter-relacionados em vista de uma </a:t>
            </a:r>
            <a:r>
              <a:rPr b="0" lang="pt-BR" sz="3600" spc="-1" strike="noStrike" u="sng">
                <a:solidFill>
                  <a:srgbClr val="3333ff"/>
                </a:solidFill>
                <a:uFillTx/>
                <a:latin typeface="Arial"/>
              </a:rPr>
              <a:t>finalida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0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52280" y="257040"/>
          <a:ext cx="8667720" cy="64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7040"/>
                    <a:ext cx="8667720" cy="64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374760"/>
            <a:ext cx="77724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 és o que és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sentes o que sente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buscas o que busca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2438280"/>
            <a:ext cx="8153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l a contribuição da família no      traçado deste 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rigo Schoeller de Mora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www.fmp.com.br/2008/img/gestao_conteudos/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914040"/>
            <a:ext cx="82915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mos a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convivênci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miliar e comunitári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Sis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Justiça pode contribuir para atingir isso?</a:t>
            </a: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860640"/>
            <a:ext cx="80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reditamos que o Sistema de Justiça pode fomentar a implementação do Planejamento e Gestão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Sistê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04920" y="514440"/>
          <a:ext cx="8524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4440"/>
                    <a:ext cx="8524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0"/>
          <p:cNvGraphicFramePr/>
          <p:nvPr/>
        </p:nvGraphicFramePr>
        <p:xfrm>
          <a:off x="0" y="304920"/>
          <a:ext cx="867744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67744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0" y="668160"/>
          <a:ext cx="9144000" cy="552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228600" y="685800"/>
          <a:ext cx="8572680" cy="50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726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0"/>
          <p:cNvGraphicFramePr/>
          <p:nvPr/>
        </p:nvGraphicFramePr>
        <p:xfrm>
          <a:off x="0" y="609480"/>
          <a:ext cx="8915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0"/>
          <p:cNvGraphicFramePr/>
          <p:nvPr/>
        </p:nvGraphicFramePr>
        <p:xfrm>
          <a:off x="152280" y="622440"/>
          <a:ext cx="875052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2440"/>
                    <a:ext cx="875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0"/>
          <p:cNvGraphicFramePr/>
          <p:nvPr/>
        </p:nvGraphicFramePr>
        <p:xfrm>
          <a:off x="152280" y="495360"/>
          <a:ext cx="8686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95360"/>
                    <a:ext cx="8686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0"/>
          <p:cNvGraphicFramePr/>
          <p:nvPr/>
        </p:nvGraphicFramePr>
        <p:xfrm>
          <a:off x="152280" y="457200"/>
          <a:ext cx="87631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7631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2280" y="533520"/>
          <a:ext cx="8610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610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Arial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www.fmp.com.br/2008/img/gestao_conteudos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EJAMENTO E GESTÃO SISTÊMICOS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s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ustentabilidade/Efetividade</a:t>
            </a:r>
            <a:br>
              <a:rPr sz="2800"/>
            </a:b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z – interna e externa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que são necessários para conviv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5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is especificam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o os fatores que dificultam a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convivênci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amiliar e comunitár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e forma mais abrang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as verdadeiras causas do crescente desrespei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à natureza e a dignidade human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ópria e dos dema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4:09:32Z</dcterms:created>
  <dc:creator>Rodrigo Schoeller de Moraes</dc:creator>
  <dc:description/>
  <dc:language>en-US</dc:language>
  <cp:lastModifiedBy>xpadmin</cp:lastModifiedBy>
  <cp:lastPrinted>2010-02-18T11:07:24Z</cp:lastPrinted>
  <dcterms:modified xsi:type="dcterms:W3CDTF">2011-06-24T14:45:59Z</dcterms:modified>
  <cp:revision>357</cp:revision>
  <dc:subject/>
  <dc:title>Slide 1</dc:title>
</cp:coreProperties>
</file>