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8BE4B-8137-413C-A3B1-8F605DCD0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1323-11EE-449D-9274-6B057AB37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0D847-2580-42CA-AEE3-4D11B9B2E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BDCB3-8CDD-49AF-9961-DBA4A0972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8D69F-F6B8-4E68-B8B0-02891EBB5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85E4E-3783-41A0-833B-3F2C1D3B2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D542E-C538-491C-A0E8-98C3F9898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94DBA-E3DA-4C21-BD23-893DB1AFB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DD352-B32B-4023-B170-F1F90DFF6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F423D-4502-4739-AAFB-A17DC4FFB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70CB0-D4C4-4F97-BD77-030218A3B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B8947-9698-484C-B40B-E49D7A652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169B9-325B-4130-99E2-7950D6951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266C4-93B6-4035-BB53-C650A0DD7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74F4D-F57D-488B-9606-9D29F1ABA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B5DF90-EA9F-4746-A4FD-B3138A604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20776-8467-44B0-9FDF-8F6EE2421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18D90-9E54-4442-9C83-8688D767B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93F01-9350-48D8-831D-484560DA4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F7459-A4EE-4D7C-AF9B-7D26F305F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0246F-AE1D-4276-9F89-834DA6E5C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BF09-A233-424C-83AC-C65F36651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F73D-2B94-49C0-AA1E-81DBE91F8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8026F-7B1A-4EB6-A36A-3D40C8142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B40E-A204-45B3-ADBA-0D6CD0FC5F4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6CD0-D1EE-4CDF-A883-5F9852C4CB4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alaysian vs. Israel </a:t>
            </a:r>
            <a:br>
              <a:rPr sz="4400"/>
            </a:br>
            <a:r>
              <a:rPr b="0" lang="en-US" sz="4400" spc="-1" strike="noStrike">
                <a:solidFill>
                  <a:srgbClr val="ff0000"/>
                </a:solidFill>
                <a:latin typeface="Comic Sans MS"/>
              </a:rPr>
              <a:t>EDUCATION SYSTEM</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y,</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ea typeface="ＭＳ Ｐゴシック"/>
              </a:rPr>
              <a:t>MOHD SIRHAJWAN BIN IDEK</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ＭＳ Ｐゴシック"/>
              </a:rPr>
              <a:t>AHMAD TAUFIK BIN MUHAMMAD TAHIR</a:t>
            </a:r>
            <a:endParaRPr b="0" lang="en-US" sz="1400" spc="-1" strike="noStrike">
              <a:solidFill>
                <a:srgbClr val="000000"/>
              </a:solidFill>
              <a:latin typeface="Comic Sans MS"/>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Comic Sans MS"/>
                <a:ea typeface="ＭＳ Ｐゴシック"/>
              </a:rPr>
              <a:t>IBRAHIM BIN ISMAIL</a:t>
            </a:r>
            <a:endParaRPr b="0" lang="en-US" sz="1400" spc="-1" strike="noStrike">
              <a:solidFill>
                <a:srgbClr val="000000"/>
              </a:solidFill>
              <a:latin typeface="Comic Sans MS"/>
            </a:endParaRPr>
          </a:p>
        </p:txBody>
      </p:sp>
      <p:pic>
        <p:nvPicPr>
          <p:cNvPr id="153" name="" descr=""/>
          <p:cNvPicPr/>
          <p:nvPr/>
        </p:nvPicPr>
        <p:blipFill>
          <a:blip r:embed="rId1"/>
          <a:stretch/>
        </p:blipFill>
        <p:spPr>
          <a:xfrm>
            <a:off x="1219320" y="685800"/>
            <a:ext cx="2666880" cy="1579680"/>
          </a:xfrm>
          <a:prstGeom prst="rect">
            <a:avLst/>
          </a:prstGeom>
          <a:ln w="0">
            <a:noFill/>
          </a:ln>
        </p:spPr>
      </p:pic>
      <p:pic>
        <p:nvPicPr>
          <p:cNvPr id="154" name="" descr=""/>
          <p:cNvPicPr/>
          <p:nvPr/>
        </p:nvPicPr>
        <p:blipFill>
          <a:blip r:embed="rId2"/>
          <a:stretch/>
        </p:blipFill>
        <p:spPr>
          <a:xfrm>
            <a:off x="5257800" y="533520"/>
            <a:ext cx="2666880" cy="1699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ubject   chief   inspectors   and   the   Curriculum   Division   suggest   particular   fundamental concepts, but the school can choose from among these proposed concepts or suggest other concerts itself.</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chool may decide on the time required for each pupil to learn the most important skills and concepts of each discipline   or   field (the   curricula   are   not formulated   in   terms   of   the   time   required   to   learn   a subject   or   a particular   chapter,   but   in   terms   of   the   expected   result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Ministry of Education through its central agency, namely the Curriculum Development Centre (CDC), is totally in charge of the development of the school curriculum.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us, the schools and teachers have little influence in selecting and shaping the curriculum.</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he implementation of the curriculum, however, various committees have been set up in the Ministry of Education, State Education Departments, Divisions/District Education Offices and school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TUDENT ASSESSMENT</a:t>
            </a:r>
            <a:endParaRPr b="0" lang="en-US" sz="4400" spc="-1" strike="noStrike">
              <a:solidFill>
                <a:srgbClr val="ff0000"/>
              </a:solidFill>
              <a:latin typeface="Comic Sans MS"/>
            </a:endParaRPr>
          </a:p>
        </p:txBody>
      </p:sp>
      <p:sp>
        <p:nvSpPr>
          <p:cNvPr id="17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ssessment emphasizes the contextual understanding (rather than limited knowledge).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concerned in assessing basic skills to high-order skills (e.g. reasoning and explanatory thought).</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National Assessment Test which is a test given to primary school and lower secondary school is only given to a representative sample of a pupil population in order to avoid it becomes the focus of interest and reduce anxiety among the students, teachers and school.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fact, the test is implemented every year with different subjects being evaluated in each year.</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ssessment methods are restricted mostly on written examination which focuses more on the memorization of factual information and conducted externally by the Ministry of Education.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each school level, the national exams such as Lower Certificate of Education (LCE) and Malaysian Certificate of Education examination (MCE) evaluate all the subjects being taught cumulatively in one final exam.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xam has become the main interest of the nation such as parents and schools that it imposes pressure on students to do well.</a:t>
            </a:r>
            <a:endParaRPr b="0" lang="en-US" sz="20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STUDY HOUR</a:t>
            </a:r>
            <a:endParaRPr b="0" lang="en-US" sz="4400" spc="-1" strike="noStrike">
              <a:solidFill>
                <a:srgbClr val="ff0000"/>
              </a:solidFill>
              <a:latin typeface="Comic Sans MS"/>
            </a:endParaRPr>
          </a:p>
        </p:txBody>
      </p:sp>
      <p:sp>
        <p:nvSpPr>
          <p:cNvPr id="18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students attend schools 6 days a week.</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x. 103 - 121 hour per week: varies according to the type and level of school.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lower secondary school in both Hebrew education and Arab and Druze education: maximum 111 hour (with possible additional 12 hour for Hebrew education).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per secondary school: 107 maximum hours and some take maximum 121 hours per week. </a:t>
            </a:r>
            <a:endParaRPr b="0" lang="en-US" sz="20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tend schools 5 days a week (excluding any necessary extra class or school activitie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x. 30 study hours a week (For certain schools which take additional subjects such as vernacular schools and religious schools require some hours).</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maximal hours for students to be in schools for curriculum and co-curriculum activities do not exceed 40 hours a week. However, there are many parents who send their children for tuition.</a:t>
            </a:r>
            <a:endParaRPr b="0" lang="en-US" sz="20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MPULSORY EDUCATION</a:t>
            </a:r>
            <a:endParaRPr b="0" lang="en-US" sz="4400" spc="-1" strike="noStrike">
              <a:solidFill>
                <a:srgbClr val="ff0000"/>
              </a:solidFill>
              <a:latin typeface="Comic Sans MS"/>
            </a:endParaRPr>
          </a:p>
        </p:txBody>
      </p:sp>
      <p:sp>
        <p:nvSpPr>
          <p:cNvPr id="188"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children between the ages of 5 - 16 (from compulsory kindergarten through tenth grade, secondary school).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is obliged by the Compulsory Education Law enacted in 1949.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education is not mandatory for the students as it is optional for them and it’s the autonomy of the authority to determine the students’ admission for universities or any other institutions of higher education.</a:t>
            </a:r>
            <a:endParaRPr b="0" lang="en-US" sz="2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SYSTEM</a:t>
            </a:r>
            <a:endParaRPr b="0" lang="en-US" sz="4400" spc="-1" strike="noStrike">
              <a:solidFill>
                <a:srgbClr val="ff0000"/>
              </a:solidFill>
              <a:latin typeface="Comic Sans MS"/>
            </a:endParaRPr>
          </a:p>
        </p:txBody>
      </p:sp>
      <p:sp>
        <p:nvSpPr>
          <p:cNvPr id="15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datory by law only in primary education (age of 7 - 12 years old) before they proceed to secondary school.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nce, it is not a criminal offence to neglect the educational needs of a child after six years of Primary Education.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ever, higher education is not compulsory as there are many criteria especially academic performance in secondary school need to be taken into consideration for students to be able to further their study.</a:t>
            </a:r>
            <a:endParaRPr b="0" lang="en-US" sz="20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REE EDUCATION</a:t>
            </a:r>
            <a:endParaRPr b="0" lang="en-US" sz="4400" spc="-1" strike="noStrike">
              <a:solidFill>
                <a:srgbClr val="ff0000"/>
              </a:solidFill>
              <a:latin typeface="Comic Sans MS"/>
            </a:endParaRPr>
          </a:p>
        </p:txBody>
      </p:sp>
      <p:sp>
        <p:nvSpPr>
          <p:cNvPr id="19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ducation is free, although not compulsory, for children above the age of sixteen, until the completion of high school. </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ddition, the education provides for free education for adolescents aged 16 and 17 as well as for 18 year olds who did not complete their schooling in grade 11 in accordance with the curriculum.</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ate is responsible for provision of free primary education. While there are no tuition fees for state schools, education in Israel does not cost money. </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ch year, parents will be expected to purchase textbooks and supplies, pay for field trips and other school-sponsored activities. </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richment classes, such as art or music, may also be charged to the parents. In short, free education in Israel costs money.</a:t>
            </a:r>
            <a:endParaRPr b="0" lang="en-US" sz="1600" spc="-1" strike="noStrike">
              <a:solidFill>
                <a:srgbClr val="000000"/>
              </a:solidFill>
              <a:latin typeface="Comic Sans MS"/>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policy of free education for the students is only implemented in schools specifically primary schools and secondary schools.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fee for examination, hostel and food for boarding school had been abolished and more financial supports allocated on education in order to fulfill the goal.</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owever, parents are still required to pay for certain school management.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policy does not apply in higher education as only loan and scholarship provided for students who are qualified to obtain them.</a:t>
            </a:r>
            <a:endParaRPr b="0" lang="en-US" sz="18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SSURANCE OF EMPLOYMENT</a:t>
            </a:r>
            <a:endParaRPr b="0" lang="en-US" sz="4400" spc="-1" strike="noStrike">
              <a:solidFill>
                <a:srgbClr val="ff0000"/>
              </a:solidFill>
              <a:latin typeface="Comic Sans MS"/>
            </a:endParaRPr>
          </a:p>
        </p:txBody>
      </p:sp>
      <p:sp>
        <p:nvSpPr>
          <p:cNvPr id="200"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arly exposu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ining cour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earch based.</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students study in specific schools. E.g. technological schools train technicians and practical engineers while military preparatory schools train future career personnel and technicians.</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me schools such as comprehensive schools offer studies in a variety of vocations, ranging from bookkeeping to mechanics, electronics, hotel trades, graphic design and more.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thers are required to study for a trade at an approved vocational school under apprenticeship programs range from hairstyling and cooking to mechanics and word processing.</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me universities have established organizations and cooperation with local industries for commercial utilization of their research which facilitate new research-based industries to break into the market.</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unemployed rate for graduates in the country is 3.5% which consist of thousands of high education graduates remain jobless.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raduates do not fulfill the requirements for certain occupations although they are certified by the university with Bachelors.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y do not have the skills, competence, and specific knowledge for specific field. Thus, they are not employed. </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t is claimed that local universities fail to prepare quality graduates as they provide redundant courses and take excessive students for certain fields such as business management and computer science.</a:t>
            </a:r>
            <a:endParaRPr b="0" lang="en-US" sz="1800" spc="-1" strike="noStrike">
              <a:solidFill>
                <a:srgbClr val="00000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NATIONALISM INSTILMENT</a:t>
            </a:r>
            <a:endParaRPr b="0" lang="en-US" sz="4400" spc="-1" strike="noStrike">
              <a:solidFill>
                <a:srgbClr val="ff0000"/>
              </a:solidFill>
              <a:latin typeface="Comic Sans MS"/>
            </a:endParaRPr>
          </a:p>
        </p:txBody>
      </p:sp>
      <p:sp>
        <p:nvSpPr>
          <p:cNvPr id="208"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mong the basis of state education are the values of Israel's culture, love of the homeland, loyalty to the State and people of Israel, remembrance of the Holocaust and heroism and on building a society on the foundations of freedom, equality, tolerance, mutual assistance and love of mankind.</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year a special topic of national importance is studied in depth as the aim is to enhance students' understanding and appreciation of democratic values, the Hebrew language, immigration, Jerusalem, peace and industry.</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n in Arab and Druze schools, the curriculum is introduced and obliged to be taken by the students.</a:t>
            </a:r>
            <a:endParaRPr b="0" lang="en-US" sz="18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ree tiers: </a:t>
            </a:r>
            <a:r>
              <a:rPr b="0" i="1" lang="en-GB" sz="2400" spc="-1" strike="noStrike">
                <a:solidFill>
                  <a:srgbClr val="000000"/>
                </a:solidFill>
                <a:latin typeface="Comic Sans MS"/>
              </a:rPr>
              <a:t>Primary education</a:t>
            </a:r>
            <a:r>
              <a:rPr b="0" lang="en-GB" sz="2400" spc="-1" strike="noStrike">
                <a:solidFill>
                  <a:srgbClr val="000000"/>
                </a:solidFill>
                <a:latin typeface="Comic Sans MS"/>
              </a:rPr>
              <a:t> (grade 1 – 6) </a:t>
            </a:r>
            <a:r>
              <a:rPr b="0" lang="en-GB" sz="2400" spc="-1" strike="noStrike">
                <a:solidFill>
                  <a:srgbClr val="000000"/>
                </a:solidFill>
                <a:latin typeface="Wingdings"/>
                <a:ea typeface="Wingdings"/>
              </a:rPr>
              <a:t></a:t>
            </a:r>
            <a:r>
              <a:rPr b="0" lang="en-GB" sz="2400" spc="-1" strike="noStrike">
                <a:solidFill>
                  <a:srgbClr val="000000"/>
                </a:solidFill>
                <a:latin typeface="Comic Sans MS"/>
              </a:rPr>
              <a:t> </a:t>
            </a:r>
            <a:r>
              <a:rPr b="0" i="1" lang="en-GB" sz="2400" spc="-1" strike="noStrike">
                <a:solidFill>
                  <a:srgbClr val="000000"/>
                </a:solidFill>
                <a:latin typeface="Comic Sans MS"/>
              </a:rPr>
              <a:t>Middle school</a:t>
            </a:r>
            <a:r>
              <a:rPr b="0" lang="en-GB" sz="2400" spc="-1" strike="noStrike">
                <a:solidFill>
                  <a:srgbClr val="000000"/>
                </a:solidFill>
                <a:latin typeface="Comic Sans MS"/>
              </a:rPr>
              <a:t> (grade 7 – 9), </a:t>
            </a:r>
            <a:r>
              <a:rPr b="0" lang="en-GB" sz="2400" spc="-1" strike="noStrike">
                <a:solidFill>
                  <a:srgbClr val="000000"/>
                </a:solidFill>
                <a:latin typeface="Wingdings"/>
                <a:ea typeface="Wingdings"/>
              </a:rPr>
              <a:t></a:t>
            </a:r>
            <a:r>
              <a:rPr b="0" lang="en-GB" sz="2400" spc="-1" strike="noStrike">
                <a:solidFill>
                  <a:srgbClr val="000000"/>
                </a:solidFill>
                <a:latin typeface="Comic Sans MS"/>
              </a:rPr>
              <a:t> </a:t>
            </a:r>
            <a:r>
              <a:rPr b="0" i="1" lang="en-GB" sz="2400" spc="-1" strike="noStrike">
                <a:solidFill>
                  <a:srgbClr val="000000"/>
                </a:solidFill>
                <a:latin typeface="Comic Sans MS"/>
              </a:rPr>
              <a:t>High school</a:t>
            </a:r>
            <a:r>
              <a:rPr b="0" lang="en-GB" sz="2400" spc="-1" strike="noStrike">
                <a:solidFill>
                  <a:srgbClr val="000000"/>
                </a:solidFill>
                <a:latin typeface="Comic Sans MS"/>
              </a:rPr>
              <a:t> (grade 10 – 12).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econdary education mostly consists of preparation for the Israeli matriculation exams.</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fter secondary education, students are generally conscripted into the Israel Defense Force (IDF), but may request an extension of the conscription date to study at a pre-service Mechina, or in a college or university. </a:t>
            </a:r>
            <a:endParaRPr b="0" lang="en-US" sz="24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mphasizes the cultivation of nationalism among students in order to achieve national unity and the patriotism of the nations.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ever, racial polarization is transparent in schools due to the existence of vernacular schools whereby students seem to be divided to their own races because most Chinese and Tamil students attend their respective national-type schools and Malay students dominate national schools.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though many measures have been taken to reduce this polarization, the students of different races barely interact to each other except when it comes to work but not for play.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teaching of second language; English and the use of Tamil and Chinese languages in vernacular schools hamper the development of Malay languages among the students. </a:t>
            </a:r>
            <a:endParaRPr b="0" lang="en-US" sz="1600" spc="-1" strike="noStrike">
              <a:solidFill>
                <a:srgbClr val="000000"/>
              </a:solidFill>
              <a:latin typeface="Comic Sans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RACIAL POLARIZATION</a:t>
            </a:r>
            <a:endParaRPr b="0" lang="en-US" sz="4400" spc="-1" strike="noStrike">
              <a:solidFill>
                <a:srgbClr val="ff0000"/>
              </a:solidFill>
              <a:latin typeface="Comic Sans MS"/>
            </a:endParaRPr>
          </a:p>
        </p:txBody>
      </p:sp>
      <p:sp>
        <p:nvSpPr>
          <p:cNvPr id="21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erfect exemplar comes from the National unity in Israel-Arab education in Israel itself whereas it follows the same pattern as Jewish education, with students learning about Jewish history, heroes and the like. (However, all of the education is in Arabic).</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other epitome of racial polarization in Israel can be seen through Arab education in East Jerusalem and the West Bank where it follows the Jordanian curriculum, and students sit for Jordanian examinations. The textbook, however, has to be approved by Israeli authorities.</a:t>
            </a:r>
            <a:endParaRPr b="0" lang="en-US" sz="2000" spc="-1" strike="noStrike">
              <a:solidFill>
                <a:srgbClr val="000000"/>
              </a:solidFill>
              <a:latin typeface="Comic Sans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grouping together in accordance to their race.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phenomenon is happening in a fast speed in Malaysia due to the existence of national-type schools, and that national schools had failed due to the prevalence of Muslim rites.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ries about students not interacting enough with those of other races are also becoming widespread, most probably because of the existence of vernacular schools. However, although many measures have been taken to reduce this polarization, the students of different races usually work together but play with their own kind.</a:t>
            </a:r>
            <a:endParaRPr b="0" lang="en-US" sz="2000" spc="-1" strike="noStrike">
              <a:solidFill>
                <a:srgbClr val="000000"/>
              </a:solidFill>
              <a:latin typeface="Comic Sans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ERNATIONAL EXCHANGE</a:t>
            </a:r>
            <a:endParaRPr b="0" lang="en-US" sz="4400" spc="-1" strike="noStrike">
              <a:solidFill>
                <a:srgbClr val="ff0000"/>
              </a:solidFill>
              <a:latin typeface="Comic Sans MS"/>
            </a:endParaRPr>
          </a:p>
        </p:txBody>
      </p:sp>
      <p:sp>
        <p:nvSpPr>
          <p:cNvPr id="220"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f Students and Lecturers</a:t>
            </a:r>
            <a:endParaRPr b="0" lang="en-US" sz="2800" spc="-1" strike="noStrike">
              <a:solidFill>
                <a:srgbClr val="0000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re are many foreign students that come to Israel to further their study and they are entitled to gain access in the education. They are given financial assistances, too.</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   exchange   of   educators   with   various   countries   takes   place   within   the   framework   of special    educational    agreements     between     Israel and   certain   countries.</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ervice courses for teachers from overseas are offered in Israel in different educational fields. </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2640" indent="-3326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srael's academic institutions conduct exchanges of lecturers and educational researchers. These   exchange   programs   are   designed   to   develop   close,   friendly   relations,   to   increase people's knowledge and broaden their horizons concerning Israeli society and culture, and to bring about mutual professional growth.</a:t>
            </a:r>
            <a:endParaRPr b="0" lang="en-US" sz="1600" spc="-1" strike="noStrike">
              <a:solidFill>
                <a:srgbClr val="000000"/>
              </a:solidFill>
              <a:latin typeface="Comic Sans MS"/>
            </a:endParaRPr>
          </a:p>
          <a:p>
            <a:pPr marL="3326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ttract foreign students and engage foreign lecturers to teach at public universiti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Students who achieve excellent results in national exams are mostly given the opportunity to study in overseas for higher education under private organizations like PETRONAS and MARA scholarship or under the Ministry of Higher Education. </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Some students enroll in local institutions before they further their study in foreign universities under programmes called twinning programmes. Eg. teacher-training course which involve the collaboration between local institutions and foreign institution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programme is also being implemented on universities in collaboration with European Higher education. The goal of this programme is to enhance the quality of the students and to strengthen the operations of Malaysian public universities such as USM, UPM, UKM and UM which have become the research universities.</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LACK OF TEACHERS</a:t>
            </a:r>
            <a:endParaRPr b="0" lang="en-US" sz="4400" spc="-1" strike="noStrike">
              <a:solidFill>
                <a:srgbClr val="ff0000"/>
              </a:solidFill>
              <a:latin typeface="Comic Sans MS"/>
            </a:endParaRPr>
          </a:p>
        </p:txBody>
      </p:sp>
      <p:sp>
        <p:nvSpPr>
          <p:cNvPr id="22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2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udents’ performance is diminishing because of the declining government funding as well as poor pay for teachers. This can be seen in one survey held in 2002 where Israel stood in the 33rd place out of 41 nations despite of the fact that Israel is amongst the top-ranked nations in international rankings for science and mathematics performance back in the 1960s.</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ording to a survey by the Organization for Economic Cooperation and Development, wages for teachers in Israel are the lowest in amongst industrialized nations.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low wages have engendered many teachers to leave the education field for better-paying jobs, causing a rising “Brain drain”. Such concerns led to the 2007 Israeli student strike, which has virtually stalled the high schools in the country for more than one month.</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prominent issues that is apparently overtaking the Malaysian education system is the language issue. This issue is derived from the government’s decision to implement the teaching of Science and Mathematics in English from 2003 onwards. </a:t>
            </a:r>
            <a:endParaRPr b="0" lang="en-US" sz="1800" spc="-1" strike="noStrike">
              <a:solidFill>
                <a:srgbClr val="000000"/>
              </a:solidFill>
              <a:latin typeface="Comic Sans MS"/>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idea devilishly aggravates the fact that there is already a little amount of teachers who can teach English, let alone teach Science and Mathematics in English language. </a:t>
            </a:r>
            <a:endParaRPr b="0" lang="en-US" sz="1800" spc="-1" strike="noStrike">
              <a:solidFill>
                <a:srgbClr val="000000"/>
              </a:solidFill>
              <a:latin typeface="Comic Sans MS"/>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3290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government also notices that a minimum number of Chinese students are attending government school and that most non-Chinese students are attending Chinese vernacular schools. Consequently, they come up with an alternative and announce that all national schools will begin teaching Chinese and Tamil as an elective course. This has result in a mixed-medium education.</a:t>
            </a:r>
            <a:endParaRPr b="0" lang="en-US" sz="1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rimary education (</a:t>
            </a:r>
            <a:r>
              <a:rPr b="0" i="1" lang="en-US" sz="2000" spc="-1" strike="noStrike">
                <a:solidFill>
                  <a:srgbClr val="000000"/>
                </a:solidFill>
                <a:latin typeface="Comic Sans MS"/>
              </a:rPr>
              <a:t>Year 1 to Year 6</a:t>
            </a:r>
            <a:r>
              <a:rPr b="0" lang="en-US" sz="2000" spc="-1" strike="noStrike">
                <a:solidFill>
                  <a:srgbClr val="000000"/>
                </a:solidFill>
                <a:latin typeface="Comic Sans MS"/>
              </a:rPr>
              <a:t>): sit for a standardized test which is known as Primary School Evaluation Test (UPSR).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secondary school (</a:t>
            </a:r>
            <a:r>
              <a:rPr b="0" i="1" lang="en-US" sz="2000" spc="-1" strike="noStrike">
                <a:solidFill>
                  <a:srgbClr val="000000"/>
                </a:solidFill>
                <a:latin typeface="Comic Sans MS"/>
              </a:rPr>
              <a:t>Form 1 to Form 5</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m 3: Undergo an examination of Lower Secondary Evaluation (PMR).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ir result with determine which stream they will take, either the Science stream or the Arts stream when they proceed to Form 4.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y reach the final year, Form 5, they are required to take the examination of Malaysian Certificate of Education (SPM), before graduating from secondary school.</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ce graduating from Form 5, students are left with two choices to pursue studies:</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dmission to matriculation (pre-university), a one or two-year programme run by the Ministry of Education and some private colleges.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Form 6 and once they are accepted, they are entitled to sit for Malaysian Higher School Certificate examination at the end of their studies in Form 6.</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rtiary education in the public universities is heavily subsidized by the government. Applicants to public universities must have completed the Malaysian matriculation programme or have an STPM grade.</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TYPES</a:t>
            </a:r>
            <a:endParaRPr b="0" lang="en-US" sz="4400" spc="-1" strike="noStrike">
              <a:solidFill>
                <a:srgbClr val="ff0000"/>
              </a:solidFill>
              <a:latin typeface="Comic Sans MS"/>
            </a:endParaRPr>
          </a:p>
        </p:txBody>
      </p:sp>
      <p:sp>
        <p:nvSpPr>
          <p:cNvPr id="16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srael</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ate school (</a:t>
            </a:r>
            <a:r>
              <a:rPr b="0" i="1" lang="en-US" sz="2400" spc="-1" strike="noStrike">
                <a:solidFill>
                  <a:srgbClr val="000000"/>
                </a:solidFill>
                <a:latin typeface="Comic Sans MS"/>
              </a:rPr>
              <a:t>attended by the majority of pupils: Focus on secular and scientific studie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State religious school (</a:t>
            </a:r>
            <a:r>
              <a:rPr b="0" i="1" lang="en-US" sz="2400" spc="-1" strike="noStrike">
                <a:solidFill>
                  <a:srgbClr val="000000"/>
                </a:solidFill>
                <a:latin typeface="Comic Sans MS"/>
              </a:rPr>
              <a:t>dominated by orthodox Jewish children: Jewish studies, tradition and observance</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rab and Druze school (</a:t>
            </a:r>
            <a:r>
              <a:rPr b="0" i="1" lang="en-US" sz="2400" spc="-1" strike="noStrike">
                <a:solidFill>
                  <a:srgbClr val="000000"/>
                </a:solidFill>
                <a:latin typeface="Comic Sans MS"/>
              </a:rPr>
              <a:t>the Arabs Muslim: Arab and Druze history, religion and culture</a:t>
            </a:r>
            <a:r>
              <a:rPr b="0" lang="en-US" sz="2400" spc="-1" strike="noStrike">
                <a:solidFill>
                  <a:srgbClr val="000000"/>
                </a:solidFill>
                <a:latin typeface="Comic Sans MS"/>
              </a:rPr>
              <a:t>) and private school (</a:t>
            </a:r>
            <a:r>
              <a:rPr b="0" i="1" lang="en-US" sz="2400" spc="-1" strike="noStrike">
                <a:solidFill>
                  <a:srgbClr val="000000"/>
                </a:solidFill>
                <a:latin typeface="Comic Sans MS"/>
              </a:rPr>
              <a:t>mostly are religious and, international auspices which focuses on different aspects of educa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laysia</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1- National School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Malay language as the medium of instruction.</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2- National-Type of school (Chinese and Tamil)</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Respective languages as the medium of instruction.</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3- Religious schools (state religious school, Hut school, Madrasah and national religious school)</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600" spc="-1" strike="noStrike">
                <a:solidFill>
                  <a:srgbClr val="000000"/>
                </a:solidFill>
                <a:latin typeface="Comic Sans MS"/>
              </a:rPr>
              <a:t>-For the Muslim only and emphasizes the teach of Islam. </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4- Some schools established for certain purpose such as Vision school, Smart school and International schools.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5- Private schools are also established mostly by the Chinese Public.</a:t>
            </a:r>
            <a:endParaRPr b="0" lang="en-US" sz="1600" spc="-1" strike="noStrike">
              <a:solidFill>
                <a:srgbClr val="00000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CHOOL AUTONOMY</a:t>
            </a:r>
            <a:endParaRPr b="0" lang="en-US" sz="4400" spc="-1" strike="noStrike">
              <a:solidFill>
                <a:srgbClr val="ff0000"/>
              </a:solidFill>
              <a:latin typeface="Comic Sans MS"/>
            </a:endParaRPr>
          </a:p>
        </p:txBody>
      </p:sp>
      <p:sp>
        <p:nvSpPr>
          <p:cNvPr id="170"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RAHIM</cp:lastModifiedBy>
  <dcterms:modified xsi:type="dcterms:W3CDTF">2008-03-27T10:33:38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